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8A3BB-20A1-44D4-BB07-CCFA65B68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5CBBC-A8E7-4D0D-9CCA-6585B74D1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A03EF-73D4-45E6-AEFB-738B98F11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36DC3-E3EE-43FB-9830-9793D8F09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7AF81-0E2F-42E6-B679-5B20D54C0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3B0C4-5FD3-4906-B994-C60F63FEB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44FC0-DD50-432F-BB48-BD16FDC0D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B6C06-5497-4658-8D4D-1933A97B8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5BA4F-1F61-4451-A7CE-4FA01CC9A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AE81D-32F7-452E-A3C2-CCACBD894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43873-1913-40F9-B210-641E8703F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536A8-8626-41C5-B9DA-A15EB64C5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68B90-6B21-4B03-A946-8434D25E2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DDFC1-B3BC-4470-9007-99F126D7B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E0E43-222F-42FC-9D11-CB05F8166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B0E11-F8A3-4584-9E97-248859B95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870B0-3CD5-4272-A8EF-A35D2EFD9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5B7B4-B23C-46DC-9C38-E09CEC4DC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3832F-0754-40FE-AC68-9D2D269CE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6A497-26C4-4A64-A82D-8F6497FAF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B335C-C5ED-46E8-A326-5EF2A6B46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0BA45-DBCA-41FB-B28D-73FAE5711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058D2-E11F-4C65-9887-5CBB82070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A6A56-E504-4199-9A80-283A6AE72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F2F4C-1266-4231-AED5-80EB31CD2A1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84EC6-2CF5-44E9-922F-D2DA19DF1E3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4114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ТУРГЕНЕВ 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Иван Сергеевич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(1818-1883)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28240" y="5638680"/>
            <a:ext cx="4267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Чурилова Олеся 10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4648320" y="228600"/>
            <a:ext cx="4267080" cy="6248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Тургенев и Полина ВИАРДО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44960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Познакомившись в 1843г с французской певицей Полиной Виардо, любовь к которой он пронес через всю свою жизнь, даже за 38 лет тесного общения чувствовал себя глубоко одиноким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5118120" y="1676520"/>
            <a:ext cx="379728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04T16:32:24Z</dcterms:created>
  <dc:creator>Олеся Чурилова</dc:creator>
  <dc:description/>
  <dc:language>en-US</dc:language>
  <cp:lastModifiedBy>o-churilova@outlook.com</cp:lastModifiedBy>
  <dcterms:modified xsi:type="dcterms:W3CDTF">2016-03-04T17:0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