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67A-B005-4932-BBDA-C5810C88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83F-18A4-477D-9EBC-2FC6D0DA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65D-0CE2-4858-9DAC-62DCD650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E011-3EDB-4673-A92B-BF92239E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18DD-EE11-4B6E-9DD9-C990F5A2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DF17-0C5A-40A5-BA3E-0F01F145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99BC-4F50-4FF5-9A6C-E407443F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790B-DFEC-4750-B01A-02BB0165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AA5B-02E3-4195-9839-2E88DF2F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4104-E44D-47EA-AC80-074CB4F2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31CA-5BC4-4583-BAA6-D030917D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0428-5C46-4BD3-B17A-9A02534E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8442-A90F-4556-84CD-0D35A777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623D-DEC2-4B8A-8762-FF87AFE3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F460-880A-4B38-9BD4-9B088E52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CE4E-83E6-452F-B780-E03F1C88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D43F-D1A8-432C-9EA6-E9E0E44D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9BD3-7362-41F9-B6E5-17DD2361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8051-8BE4-4571-80F6-93E123E6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9D9-00E7-4C1A-8A3B-6A9765C9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D31-381B-443C-94AA-9AE14454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A4B4-6A75-40C7-9270-E8C16D94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00C-A3B8-451F-9530-B28B8EC1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4E9-136F-4E44-A45C-7D437708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5014-BEB2-4E49-A800-930D44383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02B9-BD03-44DB-BF67-C462CC4AB2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ТУРГЕНЕВ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Иван Сергеевич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(1818-1883)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240" y="563868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урилова Олеся 10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8320" y="228600"/>
            <a:ext cx="4267080" cy="6248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ургенев и Полина ВИАРДО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496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знакомившись в 1843г с французской певицей Полиной Виардо, любовь к которой он пронес через всю свою жизнь, даже за 38 лет тесного общения чувствовал себя глубоко одиноки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118120" y="1676520"/>
            <a:ext cx="3797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4T16:32:24Z</dcterms:created>
  <dc:creator>Олеся Чурилова</dc:creator>
  <dc:description/>
  <dc:language>en-US</dc:language>
  <cp:lastModifiedBy>o-churilova@outlook.com</cp:lastModifiedBy>
  <dcterms:modified xsi:type="dcterms:W3CDTF">2016-03-04T17:0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