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A56D6-64A7-4DBD-B87C-1E05BF49C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B738C-625D-494D-B9A3-6577CA6FC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1F09A-A2C2-4B8A-B9DC-B6A803F9B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51D82-D544-45B1-8604-D7FA6678A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CB1D9-DE75-4E8F-BDD9-4ACC32539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A5F4F-C35B-4A39-B42C-B82B4A495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825DE-64D8-4177-8A9E-C84853F36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C7EFF-3D16-468F-8CD4-DB323D777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BBC21-C3B4-4DD9-BF35-653974F64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BDCFB-F459-40AA-B00C-FEE0E1264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86EED-14F9-43C0-81EF-8676F44D7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E043C-70E3-4FCD-85BC-E017271F6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0CE28-39BD-41D6-9390-EA2FD11BC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909E0-B4CA-441C-ADDC-C070C77D6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37E48-049C-4189-9CFF-2A12D2E8B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612EA-06CB-4CA5-BE52-9AC05E83C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BB584-4717-4B84-9CDE-F1E20A62F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9ECA69-A4E4-4D4D-940F-E9EE914EC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2F3CAC-5E40-47ED-BB94-B7E172FBF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73A5D6-1E6B-4240-9FE2-1DE19F5E0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39408A-0EFF-4D72-8B68-60948D70B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0381DB-D213-4CEF-8FD0-807DCC29A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A5547-549E-4B9E-A971-71C693B1A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2E32C5-3CCB-413C-9892-DD35C09B1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DEFC92-51F3-471C-8102-667281E6E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BFE2F2-B3C7-40BA-840E-F7A169C5D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548C13-3D4C-4F13-AE07-364113100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CD659E-F4DE-4AF6-A7A7-B914AA723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BCFBB4-ECCE-4249-98D7-5C154BC74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100598-66AB-424A-A9E6-0645221AF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44B84B-69F6-4E0A-B712-784124F88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E73645-5CA5-469D-8946-6E58DD991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2F3390-557F-491A-9444-7F79C1D10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98246-5F1D-4E1F-98A8-95345E87F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1ABEFB-FE4F-4F64-8092-D4410400E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F656D8-A05A-4FDB-B9AB-0E82F7312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E30423-EB18-447C-9BD7-49C1DA979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994AFA-322C-4DA8-B91A-A928C0B93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3C22B2-C621-4FF4-9637-67CC05EC5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92AF32-FEAB-4B41-9ECD-1ADF0005D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DC99BF-ADDF-4D1B-9342-81B5DC052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85E66A-37D0-4773-BE0F-12958353F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081D9A-B877-4DD7-843D-CE3163CE3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7C78CC-D0C1-424B-AF24-4083FBCB9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CDDBB-7EDD-4728-A12D-B1693B724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056857-3004-4BB4-9B29-E2598E7E2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668E3D-7B88-4173-AA52-E80F1FD2D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2DBC03-01CD-4F78-969E-7336DFC13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1EA37F-F094-40C7-8A49-10343AC76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617344-11AE-4110-B1DC-8BF6AFA05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A66C84-064F-4DD0-AE7A-205E64BD6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C8C5C4-10B1-4FEE-B53E-CC9F1E603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8F853A-1A7F-473F-9DE8-0B571AA99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62ABD3-9624-43AE-AE84-AD2DF9CAB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43A5FC-B4E1-4D6C-BB0C-2A925E189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10E11-CE49-4094-8567-69CAD0871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310DA3-FCA5-4C06-BF64-404D3E42F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2BC81F-B21E-4E2C-A2E5-C1F5BB828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8644D6-A40B-4BBE-80D1-03E22B329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37CABA-02E5-4E4E-BEA7-64E432E86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9F216A-1237-4D15-867F-10D510324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2F81BD-2D42-4B28-82E4-8309E87A4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9F14CB-1BE5-4A44-9733-47C4FC4C8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66D7D5-0FEF-4956-A151-EAB9C3386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EED5F3-E868-4758-93E8-0BE6295C3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1C4D65-FA08-454B-A838-BD4B6DAD0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3C105-4D11-48FC-A3A3-665F2EE60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A8EC2C-D38D-456D-861D-E98F11065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C37D2E-A4BE-4849-A0F1-C48D59881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4484BD-91A5-4AEB-8B68-0C616714C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6BF070-FCB7-4C7B-8978-E2FDFADB4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6ADF64-F2EA-407A-A30E-303BBD5A7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1A6A6C-F304-4DA3-A272-321AD41F0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AB8DFD-7575-4C7F-A387-BE448F81A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E76BFE-4B1F-4CBF-B0BB-7EA0F2AEF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E4D191-E823-44DC-97E7-23FA5E28C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A6F364-11C0-473B-B57C-2EB2D79AC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36341-A21D-4ABA-BF54-BCC6F978F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A2547D-D4D1-40A9-BFC0-22BEB43A3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416FFA-2A9D-4BAE-AF86-D3C8ABDBC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3135DF-CC44-4FC6-A5A0-7498AE535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4E2DCF-F8B2-46B1-9FA6-EF436A547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EFAD53-6542-4FD5-BA26-59393D49E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556B3-80B1-479A-A2D8-9717BAA2F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887" h="1638887">
                <a:moveTo>
                  <a:pt x="1638887" y="819444"/>
                </a:moveTo>
                <a:lnTo>
                  <a:pt x="1638887" y="819444"/>
                </a:lnTo>
                <a:arcTo wR="819444" hR="819444" stAng="0" swAng="5402123"/>
                <a:lnTo>
                  <a:pt x="819444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C6981-0A7E-4F0C-AD58-A9323CD226F2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887" h="1638887">
                <a:moveTo>
                  <a:pt x="1638887" y="819444"/>
                </a:moveTo>
                <a:lnTo>
                  <a:pt x="1638887" y="819444"/>
                </a:lnTo>
                <a:arcTo wR="819444" hR="819444" stAng="0" swAng="5402123"/>
                <a:lnTo>
                  <a:pt x="819444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2E6A6-4127-4422-81F2-CEA229C0AA85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0062D-2FE7-46E1-B5D4-C1C56A6659AF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0DF83-B575-4708-9D2D-45812E012155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C0621-5443-4AE8-AFEF-2278A6E15A70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8998C-5158-4615-9B4F-F3C4B9B27A29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DDB16-3AE0-47C7-B5CD-13A819EB2249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5940000" y="2133360"/>
            <a:ext cx="3203640" cy="14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А.С.Пушкин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431720" y="1848960"/>
            <a:ext cx="74070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320e04"/>
              </a:solidFill>
              <a:latin typeface="Corbel"/>
            </a:endParaRPr>
          </a:p>
        </p:txBody>
      </p:sp>
      <p:pic>
        <p:nvPicPr>
          <p:cNvPr id="320" name="Picture 2" descr="http://wallpapers1920.ru/img/picture/Dec/28/49298bcba6c9cbd7bb9999e661d8c772/3.jpg"/>
          <p:cNvPicPr/>
          <p:nvPr/>
        </p:nvPicPr>
        <p:blipFill>
          <a:blip r:embed="rId1"/>
          <a:stretch/>
        </p:blipFill>
        <p:spPr>
          <a:xfrm>
            <a:off x="0" y="0"/>
            <a:ext cx="5667480" cy="666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ctr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orbel"/>
              </a:rPr>
              <a:t>Глупый</a:t>
            </a:r>
            <a:endParaRPr b="0" lang="en-US" sz="5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orbel"/>
              </a:rPr>
              <a:t>Слабый</a:t>
            </a:r>
            <a:endParaRPr b="0" lang="en-US" sz="5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orbel"/>
              </a:rPr>
              <a:t>Бесполезный</a:t>
            </a:r>
            <a:endParaRPr b="0" lang="en-US" sz="5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orbel"/>
              </a:rPr>
              <a:t>Лживый</a:t>
            </a:r>
            <a:endParaRPr b="0" lang="en-US" sz="5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orbel"/>
              </a:rPr>
              <a:t>плохой</a:t>
            </a:r>
            <a:endParaRPr b="0" lang="en-US" sz="5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43" name="" descr=""/>
          <p:cNvPicPr/>
          <p:nvPr/>
        </p:nvPicPr>
        <p:blipFill>
          <a:blip r:embed="rId1"/>
          <a:stretch/>
        </p:blipFill>
        <p:spPr>
          <a:xfrm>
            <a:off x="1434960" y="1447560"/>
            <a:ext cx="7499520" cy="480060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2" descr="http://novosti-dny.ru/uploads/posts/2014-05/kak-nastupayut-na-grabli-raznye-znaki-zodiaka_1.jpeg"/>
          <p:cNvPicPr/>
          <p:nvPr/>
        </p:nvPicPr>
        <p:blipFill>
          <a:blip r:embed="rId2"/>
          <a:stretch/>
        </p:blipFill>
        <p:spPr>
          <a:xfrm>
            <a:off x="0" y="907920"/>
            <a:ext cx="909648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84360" y="259920"/>
            <a:ext cx="7858080" cy="552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99160" indent="-2314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реза 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99160" indent="-2314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лая береза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 моим окном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акрылась снегом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чно серебром.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пушистых ветках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ежною каймой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пустились кисти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лой бахромой.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стоит береза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онной тишине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горят снежинки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золотом огне.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заря, лениво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ходя кругом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сыпает ветки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вым серебром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99160" indent="-231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99160" indent="-2314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3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сенний вечер</a:t>
            </a:r>
            <a:endParaRPr b="0" lang="en-US" sz="39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3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хо струится река серебристая</a:t>
            </a:r>
            <a:br>
              <a:rPr sz="3900"/>
            </a:br>
            <a:r>
              <a:rPr b="0" lang="ru-RU" sz="3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царстве вечернем зеленой весны.</a:t>
            </a:r>
            <a:br>
              <a:rPr sz="3900"/>
            </a:br>
            <a:r>
              <a:rPr b="0" lang="ru-RU" sz="3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лнце садится за горы лесистые.</a:t>
            </a:r>
            <a:br>
              <a:rPr sz="3900"/>
            </a:br>
            <a:r>
              <a:rPr b="0" lang="ru-RU" sz="3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г золотой выплывает луны.</a:t>
            </a:r>
            <a:endParaRPr b="0" lang="en-US" sz="39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1434960" y="404280"/>
            <a:ext cx="7499520" cy="584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orbel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orbel"/>
              </a:rPr>
              <a:t>Осень</a:t>
            </a:r>
            <a:endParaRPr b="0" lang="en-US" sz="5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веты поблёкли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ревья голы: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ды заглохли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чальны долы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птиц не слышно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улетели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оследний раз весне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сню спели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ень! Небо тучно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ждик льет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чально, скучно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емя идет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1434960" y="1447560"/>
            <a:ext cx="7499520" cy="480060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2" descr="http://kirmayak.ru/wp-content/uploads/2014/05/fc5f7d15515f17e46372293df1ea8df9.jpg"/>
          <p:cNvPicPr/>
          <p:nvPr/>
        </p:nvPicPr>
        <p:blipFill>
          <a:blip r:embed="rId2"/>
          <a:stretch/>
        </p:blipFill>
        <p:spPr>
          <a:xfrm>
            <a:off x="0" y="-171360"/>
            <a:ext cx="9310680" cy="70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000000"/>
                </a:solidFill>
                <a:latin typeface="Corbel"/>
              </a:rPr>
              <a:t>Лев Николаевич Толстой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31" name="" descr=""/>
          <p:cNvPicPr/>
          <p:nvPr/>
        </p:nvPicPr>
        <p:blipFill>
          <a:blip r:embed="rId1"/>
          <a:stretch/>
        </p:blipFill>
        <p:spPr>
          <a:xfrm>
            <a:off x="1434960" y="1447560"/>
            <a:ext cx="7499520" cy="480060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2" descr="http://searchforvegan.ru/sites/default/files/articles/lev_tolstoy_vegetarianec.jpg"/>
          <p:cNvPicPr/>
          <p:nvPr/>
        </p:nvPicPr>
        <p:blipFill>
          <a:blip r:embed="rId2"/>
          <a:stretch/>
        </p:blipFill>
        <p:spPr>
          <a:xfrm>
            <a:off x="2340000" y="1241280"/>
            <a:ext cx="4883040" cy="545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1"/>
          <a:stretch/>
        </p:blipFill>
        <p:spPr>
          <a:xfrm>
            <a:off x="1434960" y="1447560"/>
            <a:ext cx="7499520" cy="480060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2" descr="https://www.newstalk.com/content/001/images/podcasts/000004/25167_player_podcast_series_25166_656x500.jpg"/>
          <p:cNvPicPr/>
          <p:nvPr/>
        </p:nvPicPr>
        <p:blipFill>
          <a:blip r:embed="rId2"/>
          <a:stretch/>
        </p:blipFill>
        <p:spPr>
          <a:xfrm>
            <a:off x="684360" y="333360"/>
            <a:ext cx="7632720" cy="581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611280" y="692280"/>
            <a:ext cx="8323200" cy="555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53880" indent="-27396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orbel"/>
              </a:rPr>
              <a:t>Осёл и лошадь. Прочитайте этот текст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У одного человека были осёл и лошадь. Шли они по дороге; осёл сказал лошади: «Мне тяжело, не дотащу я всего, возьми с меня хоть немного». Лошадь не послушалась. Осёл упал от натуги и умер. Хозяин как наложил всё с осла на лошадь, да ещё и шкуру ослиную, лошадь и взвыла: «Ох, горе мне бедной, горюшко мне несчастной! Не хотела я немножко ему подсобить, теперь вот всё тащу да ещё и шкуру»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-Почему лошади стало очень тяжело? (не захотела помочь ослу , так помимо всего она и его шкуру ей тащить пришлось)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1187280" y="620280"/>
            <a:ext cx="7747200" cy="562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57480" indent="-27684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Corbel"/>
              </a:rPr>
              <a:t>Лгун.</a:t>
            </a:r>
            <a:endParaRPr b="0" lang="en-US" sz="23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Мальчик стерёг овец и, будто увидав волка, стал звать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- Помогите, волк! Волк!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Мужики прибежали и видят: неправда. Как сделал он так и два и три раза, случилось - и вправду набежал волк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Мальчик стал кричать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- Сюда, сюда скорей, волк!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Мужики подумали, что опять по-всегдашнему обманывает, - не послушали его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Волк видит, бояться нечего: на просторе перерезал всё стадо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-Почему волку удалось загрызть все стадо? (понял, что ему бояться нечего)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-Как люди относятся к лгунам? (не верят, не уважают)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2-17T19:44:01Z</dcterms:created>
  <dc:creator>Валерия</dc:creator>
  <dc:description/>
  <dc:language>en-US</dc:language>
  <cp:lastModifiedBy>Валерия</cp:lastModifiedBy>
  <dcterms:modified xsi:type="dcterms:W3CDTF">2016-02-17T19:57:33Z</dcterms:modified>
  <cp:revision>2</cp:revision>
  <dc:subject/>
  <dc:title>А.С.Пушкин</dc:title>
</cp:coreProperties>
</file>