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642F-0CE9-4236-A4AA-1D763122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2CC-9AEC-4EA1-9CD7-1B3CCB65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7D94-7672-48D6-B919-BB9A8A8E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0768-FAFC-402B-8918-7C082ADF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32939-8E5B-4899-BE9E-DF19489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4739-F0B7-4CA8-8948-D095AA27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221A-E3C7-4ACC-92F7-7DE09ED9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D50A-454C-42F8-9EB9-5C3BD74C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A28A-8084-469D-900D-6FC7E83D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7CDE-C7D4-459C-81E6-1785CABA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E5A2-E9CD-4E2D-85C4-47E098BC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7D7-4A66-49D4-9EB0-BA92271E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8942-65ED-4815-9934-56AB6B81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FAE8-9E8C-409E-A1B8-67738E5C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CD45-20BC-46C8-90C5-A775E2BC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7C3E-1AF2-476A-A149-5E2A8FF4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8A61-DB80-4F46-B00F-61183BFA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79ACE-EAA6-442B-91EF-289D68E5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08B4F-5ABF-4185-A7B1-CFEC9536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A23C4-6C9A-41F4-9AE0-A8C2CD83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63021-810D-426F-892B-4F51D0FE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1F8CC-77D4-4445-9682-904C0F9D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773-C7D6-49B9-B7C6-41455A6C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922C-CC5C-441C-8E44-027F0089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ADEBD-56B4-46E5-892A-E5A4600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98D27-8E58-4CB1-8BE1-A219F137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A7CF-CFDC-4B46-8F5C-2D43911D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9225A-797F-4A69-9412-8AC98213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03E00-9F1C-4801-BE8A-034BABD49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D09DC-CEBB-4A73-BA0C-E5C531ED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E8F6-987E-46E2-AB85-91742C81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744E4-8975-472C-98E3-4C7E8445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E6E33-784A-4593-9553-9D4DD0C4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74E-8112-4904-AEE4-DA1FF77C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8833D-7FEB-4A21-8A01-9A11A347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93FF5-5119-4A19-B53A-337A7C9E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51AF-06F9-41BE-9587-171F77DE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481D-D73A-4039-9A75-4D93E02D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06428-FE79-431A-81E1-DBC60B4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B6E3B-4F6D-44EF-9FF8-E8286B6D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4A382-EA45-4C29-B708-1E1472EA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9150-B139-4E38-9E09-36978ED2E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77D0A-CC5D-43AC-A906-CD7A840C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3A0D9-2EB8-41AE-B165-A9D38E5E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C8F4-294A-4F14-A537-99A89EAC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7B6C0-F9F3-42B8-AF7A-41109666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87CB8-8C15-4FC2-AA52-3DE93BCB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24FD-5F29-4D03-A167-F5C7353E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27208-0758-455E-892D-A742C5BD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2F4E1-5FF2-4FBF-BB87-63075130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76896-CAA3-4B6F-B4F7-3DCBB0E0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63D7F-21A0-4CDA-BEB5-5B559E06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58C08-7CDC-48B1-8DEE-11C13A8E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60EC9-5194-45C8-8BFF-5B03CF3D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36DA0-3AC9-4E4F-BB00-E6601878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93E7-A847-4FEF-ABD4-69DB691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477F9-F3D0-4B78-8B47-BE8C7480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AEFED-5014-4467-B4D4-0806E1BF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92E90-28E9-4C04-AD3E-16395F84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07CD1-11FD-4726-A96E-03DDC48C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0A7E1-AE4F-4543-A25E-72E34629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9B924-48FD-4FCE-BF85-2F277FB0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DCEA4-1475-49A8-957A-285D9283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48F8A-F3D5-4812-A118-3915787A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A2586-2CE4-482A-BB25-8A3BD65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05A47-A8E5-4413-BC03-5ADF3857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F65-F00D-4C06-BF5A-1B787A47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7843B-736B-432E-A91A-2D6F316C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BE041-E317-4C8E-8F8D-5400278A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549FF-1E9B-4DE1-8EA5-C118539B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44F9D-810C-49BD-A1D4-C8ADBAAC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64C59-7709-488E-89CA-62FC6E93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4DB86-5BE0-498B-B3EF-3ED4D24B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4994-069B-4529-9C5A-6A1CE840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4702B-CC0E-453C-94E9-3D104163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8A44C-2C3D-4054-95EF-19552E24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F824-74C5-4A4C-85F6-D9E1770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252-EED3-4078-9E19-10797F56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516DE-D12E-423F-BA67-75A371FE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669D4-6E23-403B-A5BB-0F455B97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2F839-C2E8-48D6-849D-CFF096C1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8B23A-57AD-4259-A575-3C5F1CC3F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2A67-84BD-44AB-B056-D0D49DAAE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6CB8-EF8E-482C-B98B-80F1F64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2C79-7A3C-4165-A7F1-FE763F135F3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0AEC-2BC0-437F-9200-6D4924914E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A8BD-0516-4089-8FC6-9418D78724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D894-E209-4F01-A855-7F67623AB5F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5131-3FD4-4871-AB0D-6F71247680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583F-AD32-44B9-9CA6-64BB12A65BC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A263-CE21-4380-AAE8-621448476D1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940000" y="2133360"/>
            <a:ext cx="320364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С.Пушкин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http://wallpapers1920.ru/img/picture/Dec/28/49298bcba6c9cbd7bb9999e661d8c772/3.jpg"/>
          <p:cNvPicPr/>
          <p:nvPr/>
        </p:nvPicPr>
        <p:blipFill>
          <a:blip r:embed="rId1"/>
          <a:stretch/>
        </p:blipFill>
        <p:spPr>
          <a:xfrm>
            <a:off x="0" y="0"/>
            <a:ext cx="566748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Глуп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Слаб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Бесполезн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Лжив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orbel"/>
              </a:rPr>
              <a:t>плохо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http://novosti-dny.ru/uploads/posts/2014-05/kak-nastupayut-na-grabli-raznye-znaki-zodiaka_1.jpeg"/>
          <p:cNvPicPr/>
          <p:nvPr/>
        </p:nvPicPr>
        <p:blipFill>
          <a:blip r:embed="rId2"/>
          <a:stretch/>
        </p:blipFill>
        <p:spPr>
          <a:xfrm>
            <a:off x="0" y="907920"/>
            <a:ext cx="90964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4360" y="259920"/>
            <a:ext cx="7858080" cy="55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99160" indent="-231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еза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ая берез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моим окном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акрылась снег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но серебр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ушистых ветка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ою каймо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устились кист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й бахромой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тоит берез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нной тишине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горят снежин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олотом огн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заря, лениво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я круго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ыпает вет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м серебро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99160" indent="-231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нний вечер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 струится река серебристая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арстве вечернем зеленой весны.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садится за горы лесистые.</a:t>
            </a:r>
            <a:br>
              <a:rPr sz="3900"/>
            </a:br>
            <a:r>
              <a:rPr b="0" lang="ru-RU" sz="3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 золотой выплывает луны.</a:t>
            </a: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404280"/>
            <a:ext cx="7499520" cy="58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rbel"/>
              </a:rPr>
              <a:t>Осень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ы поблёкл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ья гол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ы заглохл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ы долы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тиц не слышно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летел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й раз весн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ню спел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! Небо тучно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ик ль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льно, скучн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идет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http://kirmayak.ru/wp-content/uploads/2014/05/fc5f7d15515f17e46372293df1ea8df9.jpg"/>
          <p:cNvPicPr/>
          <p:nvPr/>
        </p:nvPicPr>
        <p:blipFill>
          <a:blip r:embed="rId2"/>
          <a:stretch/>
        </p:blipFill>
        <p:spPr>
          <a:xfrm>
            <a:off x="0" y="-171360"/>
            <a:ext cx="931068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Лев Николаевич Толстой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http://searchforvegan.ru/sites/default/files/articles/lev_tolstoy_vegetarianec.jpg"/>
          <p:cNvPicPr/>
          <p:nvPr/>
        </p:nvPicPr>
        <p:blipFill>
          <a:blip r:embed="rId2"/>
          <a:stretch/>
        </p:blipFill>
        <p:spPr>
          <a:xfrm>
            <a:off x="2340000" y="1241280"/>
            <a:ext cx="4883040" cy="545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2" descr="https://www.newstalk.com/content/001/images/podcasts/000004/25167_player_podcast_series_25166_656x500.jpg"/>
          <p:cNvPicPr/>
          <p:nvPr/>
        </p:nvPicPr>
        <p:blipFill>
          <a:blip r:embed="rId2"/>
          <a:stretch/>
        </p:blipFill>
        <p:spPr>
          <a:xfrm>
            <a:off x="684360" y="333360"/>
            <a:ext cx="763272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1280" y="692280"/>
            <a:ext cx="832320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rbel"/>
              </a:rPr>
              <a:t>Осёл и лошадь. Прочитайте этот текст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У одного человека были осёл и лошадь. Шли они по дороге; осёл сказал лошади: «Мне тяжело, не дотащу я всего, возьми с меня хоть немного». Лошадь не послушалась. Осёл упал от натуги и умер. Хозяин как наложил всё с осла на лошадь, да ещё и шкуру ослиную, лошадь и взвыла: «Ох, горе мне бедной, горюшко мне несчастной! Не хотела я немножко ему подсобить, теперь вот всё тащу да ещё и шкуру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-Почему лошади стало очень тяжело? (не захотела помочь ослу , так помимо всего она и его шкуру ей тащить пришлось)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187280" y="620280"/>
            <a:ext cx="774720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orbel"/>
              </a:rPr>
              <a:t>Лгун.</a:t>
            </a:r>
            <a:endParaRPr b="0" lang="en-US" sz="23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льчик стерёг овец и, будто увидав волка, стал зват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Помогите, волк! Волк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ужики прибежали и видят: неправда. Как сделал он так и два и три раза, случилось - и вправду набежал волк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альчик стал кричать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 Сюда, сюда скорей, волк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Мужики подумали, что опять по-всегдашнему обманывает, - не послушали ег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олк видит, бояться нечего: на просторе перерезал всё стад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Почему волку удалось загрызть все стадо? (понял, что ему бояться нечего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Как люди относятся к лгунам? (не верят, не уважают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7T19:44:01Z</dcterms:created>
  <dc:creator>Валерия</dc:creator>
  <dc:description/>
  <dc:language>en-US</dc:language>
  <cp:lastModifiedBy>Валерия</cp:lastModifiedBy>
  <dcterms:modified xsi:type="dcterms:W3CDTF">2016-02-17T19:57:33Z</dcterms:modified>
  <cp:revision>2</cp:revision>
  <dc:subject/>
  <dc:title>А.С.Пушкин</dc:title>
</cp:coreProperties>
</file>