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3CB-66FB-4D25-B65E-C285397C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9F4-703B-4E2D-B861-92A7E2DF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5CD-CE90-4B0E-96D3-84D6BF13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C0F-964A-463B-BDF1-3E4C54FA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826-1911-4151-A3D4-5DF782F7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4C8-B7A6-4D8E-A740-4DD2FA4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520-8F14-4A95-BFA0-832790C3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91D-543B-41E7-BD77-B1E812E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C4C-F2F7-4A21-B25D-B4E44921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09E-EC08-480C-BF1E-98BE2250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079-FAA7-45FC-8085-084DE83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23E-BEC4-4D13-B003-74B18AE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80BD-21F5-4D7E-920E-D7BE2DBEF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i009.radikal.ru/1202/05/7118be8d2a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morozov.com.ua/images/t84-9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hotoshopchik.ucoz.ru/_ld/54/155340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14280" y="-142920"/>
            <a:ext cx="421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танкис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kursiv.kz/uploads/posts/2012-06/1339050613_gggranica.jpg"/>
          <p:cNvPicPr/>
          <p:nvPr/>
        </p:nvPicPr>
        <p:blipFill>
          <a:blip r:embed="rId2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786120" y="-142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ограничн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yahooeu.ru/uploads/posts/2012-02/1330246034_1290837469_refrns.ru_800px-mi-8_w-3_c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lh4.ggpht.com/_jqg4oOGPPLA/SUpH4rg_BhI/AAAAAAAABME/s9rWSi5fkAg/s800/_LIF007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214880" y="-285840"/>
            <a:ext cx="492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ертолет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militaryrussia.ru/i/284/191/KsOb2.jpg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785880" y="50004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ракет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files.rzn.info/data/image/gallery/base/2/2e/2ebd2e259a7f4/orig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500720" y="574992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арашютис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yahooeu.ru/yahooeu/uploads/posts/2013-06/1372274611_1280028155_0_5869_8656cf1a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500120" y="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оря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04:51Z</dcterms:created>
  <dc:creator>user</dc:creator>
  <dc:description/>
  <dc:language>en-US</dc:language>
  <cp:lastModifiedBy>user</cp:lastModifiedBy>
  <dcterms:modified xsi:type="dcterms:W3CDTF">2014-02-16T18:50:15Z</dcterms:modified>
  <cp:revision>18</cp:revision>
  <dc:subject/>
  <dc:title>Слайд 1</dc:title>
</cp:coreProperties>
</file>