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CB6-8AAA-4FD4-8B0A-D24480B5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876-DB33-446A-83AE-AA5062CC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23D-7AFC-4BD9-BBDC-4EA13AEE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228-1910-40AE-9845-C8808610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556-10CA-49A9-8FAB-79D628F8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790B-B5A4-4870-ADFF-D64D778C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2EDF-DBB5-46EE-9BD2-A6197993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80DB-F6A2-4368-80A7-9FC07B1C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1F2-3DDC-4C8D-98D7-64B88593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73EE-23CB-4A2C-B08F-A6725412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767D-E767-43FE-9B2D-AF8A7ACB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579F-07CB-4077-B204-5F3E89B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CED2-3DAE-40FB-A7E5-08CB3AAE6E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http://i009.radikal.ru/1202/05/7118be8d2a2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www.morozov.com.ua/images/t84-9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photoshopchik.ucoz.ru/_ld/54/1553408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214280" y="-142920"/>
            <a:ext cx="4214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танкис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kursiv.kz/uploads/posts/2012-06/1339050613_gggranica.jpg"/>
          <p:cNvPicPr/>
          <p:nvPr/>
        </p:nvPicPr>
        <p:blipFill>
          <a:blip r:embed="rId2"/>
          <a:stretch/>
        </p:blipFill>
        <p:spPr>
          <a:xfrm>
            <a:off x="0" y="0"/>
            <a:ext cx="920448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3786120" y="-1429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ограничн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yahooeu.ru/uploads/posts/2012-02/1330246034_1290837469_refrns.ru_800px-mi-8_w-3_cm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lh4.ggpht.com/_jqg4oOGPPLA/SUpH4rg_BhI/AAAAAAAABME/s9rWSi5fkAg/s800/_LIF007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214880" y="-285840"/>
            <a:ext cx="4929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вертолет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militaryrussia.ru/i/284/191/KsOb2.jpg"/>
          <p:cNvPicPr/>
          <p:nvPr/>
        </p:nvPicPr>
        <p:blipFill>
          <a:blip r:embed="rId2"/>
          <a:stretch/>
        </p:blipFill>
        <p:spPr>
          <a:xfrm>
            <a:off x="0" y="0"/>
            <a:ext cx="91821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/>
          <p:cNvSpPr/>
          <p:nvPr/>
        </p:nvSpPr>
        <p:spPr>
          <a:xfrm>
            <a:off x="785880" y="500040"/>
            <a:ext cx="507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ракетчи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files.rzn.info/data/image/gallery/base/2/2e/2ebd2e259a7f4/origina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500720" y="5749920"/>
            <a:ext cx="464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арашютист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yahooeu.ru/yahooeu/uploads/posts/2013-06/1372274611_1280028155_0_5869_8656cf1a_x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1500120" y="0"/>
            <a:ext cx="66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моряк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6:04:51Z</dcterms:created>
  <dc:creator>user</dc:creator>
  <dc:description/>
  <dc:language>en-US</dc:language>
  <cp:lastModifiedBy>user</cp:lastModifiedBy>
  <dcterms:modified xsi:type="dcterms:W3CDTF">2014-02-16T18:50:15Z</dcterms:modified>
  <cp:revision>18</cp:revision>
  <dc:subject/>
  <dc:title>Слайд 1</dc:title>
</cp:coreProperties>
</file>