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7EA-7BFE-4B79-99C9-D04E08E8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1A9-A582-4D0B-B3BF-7E988B5B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D41-1BB1-4E12-81F7-DA6BF08D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1DE-1F54-470E-990C-43765657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132D-ECEC-4D30-9A1D-F2A7E3C2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ADE-903C-4B8E-9310-3A0D1B29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1DBC-3695-468D-98C4-CB161336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AB7-16D4-4A15-AB26-61D617AC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87CE-61D6-4D1F-8DC4-C701E544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1423-6BEE-48D2-B719-E3875BA8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F5D-21E4-488B-BBA7-AD4292E6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6CD-23C8-4303-9937-A61BA54C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0435-0915-4900-850B-3785EE5E1E8C}" type="slidenum">
              <a:rPr b="0" lang="en-US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7127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3f7819"/>
                </a:solidFill>
                <a:latin typeface="Arial"/>
              </a:rPr>
              <a:t>Организация работы   </a:t>
            </a:r>
            <a:br>
              <a:rPr sz="3600"/>
            </a:br>
            <a:r>
              <a:rPr b="1" lang="en-US" sz="3600" spc="-1" strike="noStrike">
                <a:solidFill>
                  <a:srgbClr val="3f7819"/>
                </a:solidFill>
                <a:latin typeface="Arial"/>
              </a:rPr>
              <a:t>обучающихся с ограниченными возможностями здоровья по  АООП НОО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3" name="Заголовок 3"/>
          <p:cNvSpPr/>
          <p:nvPr/>
        </p:nvSpPr>
        <p:spPr>
          <a:xfrm>
            <a:off x="611280" y="1413000"/>
            <a:ext cx="83152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70c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Второй вариант образовательной программы (В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1196640"/>
            <a:ext cx="8534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 получает  образование, сопоставимое по итоговым достижениям к моменту завершения школьного обучения с образованием здоровых сверстников, но в более  пролонгированные календарные сроки, которые определяются Стандартом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, осваивающий 2 вариант , имеет право на прохождение текущей, промежуточной и   государственной итоговой аттестации в иных формах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13564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Третий вариант образовательной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программы (С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280" y="1197000"/>
            <a:ext cx="842508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ся  с  ограниченными  возможностями  здоровья  получает  образование,  не  сопоставимое  по  итоговым  достижениям  к  моменту завершения школьного обучения с образованием сверстников без ограничений здоровья,  в  более  пролонгированные  календарные  сроки,  которые  определяются Стандартом для каждой категории обучающихс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язательной  является  организация  специальных  условий  обучения  и  воспитания  для  реализации  как  общих,  так  и  особых  образовательных  потребност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основе  Стандарта  создается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адаптированная  образовательная  Программ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оторая  при  необходимости  индивидуализируется.  К  образовательной  Программе  создаются  несколько учебных планов, в том числе индивидуальные учебные планы.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36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Четвёртый вариант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образовательной программы (D)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9800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ающийся с ограниченными возможностями здоровья (со сложными и  множественными  нарушениями  развития)  получает  образование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  адаптированной  основной  образовательной  программе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,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ной  на  основе  индивидуального  учебного  план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 значительном содержании  «академического»  компонента  образования  требуется  максимальное  углубление  в  область  развития  жизненной  компетенции.  Обязательной  является  специальная  организация  среды  обучающегося  для  реализации  его  особых  образовательных  потребностей,  развитие  его  жизненной  компетенции  в  разных  социальных  средах  (образовательной, дома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57120" y="571680"/>
          <a:ext cx="7572600" cy="5925960"/>
        </p:xfrm>
        <a:graphic>
          <a:graphicData uri="http://schemas.openxmlformats.org/drawingml/2006/table">
            <a:tbl>
              <a:tblPr/>
              <a:tblGrid>
                <a:gridCol w="3786120"/>
                <a:gridCol w="3786480"/>
              </a:tblGrid>
              <a:tr h="97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Г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0c226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Глухи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    1.2      1.3   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лабослышащие и позднооглохши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    2.2      2.3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36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Слепые де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    3.2      3.3    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Слабовидящ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    4.2      4.3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Дети с тяжёлыми нарушениями речи (ТН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    5.2       -  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Дети с двигательными нарушениями (НОД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    6.2      6.3    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  <a:tr h="53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Дети с ЗП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    7.2        -     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be9cd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ети с расстройствами аутистического спектра (РАС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    8.2      8.3    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4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руктура АООП НО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484280"/>
            <a:ext cx="819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яют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обязательную часть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ООП НО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ируему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астниками образовательных отношений в зависимости от варианта АООП НОО и их соотношение составляет: 80% и 20%, 70% и 30%,  60% и 40% (в соответствии с Приложениями 1 – 8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9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ндарт предусматривает возможность: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58560" y="1773000"/>
            <a:ext cx="77007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бкой смены образовательного маршру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ены программ и условий получения образовани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af8c13"/>
                </a:solidFill>
                <a:latin typeface="Arial"/>
              </a:rPr>
              <a:t>на основ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комплексной оценки личностных, мето-предметных и предметных результатов освоения АОПП НО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заключения ТПМП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нения родителей (законных представителей)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189000"/>
            <a:ext cx="6348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тья 48. Обязанности и ответственность педагогических работников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6348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1. Педагогические работники обязаны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учитывать особенности психофизического развития обучающихся и состояние их здоровья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блюдать специальные условия, необходимые для получения образования лицами с ограниченными возможностями здоровь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заимодействовать при необходимости с медицинскими организациям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Дата применения стандарта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применяется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правоотношениям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никши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с 1 сентября 2016 год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ение лиц,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зачисленных до 1.09.16г.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бучения по адаптированным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граммам,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осуществляется по ним до завершения обучения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609480" y="6041880"/>
            <a:ext cx="4622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E394-8815-4D08-A816-F592BF7BFB12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79000" y="1146240"/>
            <a:ext cx="861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ся ценность общества зависит от т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возможности предоставля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о развитию индивидуальност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Энштей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250920" y="476280"/>
            <a:ext cx="785016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Актуальность пробл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ля здоровых новорожденных за последние годы снизилась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8%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д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4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оворожденных рождаются физиологически незрелыми, с проблемами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86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меют неврологическую патологию (перинатальное поражение ЦН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боле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тей дошкольного возраста и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%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ей  подросткового возраста абсолютно здор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2"/>
          <p:cNvSpPr/>
          <p:nvPr/>
        </p:nvSpPr>
        <p:spPr>
          <a:xfrm>
            <a:off x="6445080" y="6041880"/>
            <a:ext cx="51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DD8D-F55E-4BCF-85CA-133EA195F981}" type="slidenum">
              <a:rPr b="0" lang="ru-RU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634824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Право на образование</a:t>
            </a:r>
            <a:br>
              <a:rPr sz="2000"/>
            </a:b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 ФЗ «Об образовании в Российской Федерации»</a:t>
            </a:r>
            <a:br>
              <a:rPr sz="2000"/>
            </a:b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54a021"/>
                </a:solidFill>
                <a:latin typeface="Arial"/>
              </a:rPr>
              <a:t>от 29 декабря 2012 г. N 273</a:t>
            </a:r>
            <a:br>
              <a:rPr sz="2000"/>
            </a:b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912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учающийся 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ными возможностями здоров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физическое лицо, имеющее недостатки в физическом и (или) психологическом развитии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твержденные психолого-медико-педагогической комиссие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епятствующие получению образования без созда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ециальных услов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Закон РФ «О социальной защите инвалидов в РФ» </a:t>
            </a:r>
            <a:br>
              <a:rPr sz="2000"/>
            </a:br>
            <a:r>
              <a:rPr b="0" lang="ru-RU" sz="2000" spc="-1" strike="noStrike">
                <a:solidFill>
                  <a:srgbClr val="54a021"/>
                </a:solidFill>
                <a:latin typeface="Arial"/>
              </a:rPr>
              <a:t>№ 181-ФЗ от 24.11.1995 г. (в ред. от 27.05.2000 г. № 78-ДВ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вал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лицо, которое имеет нарушение здоровья со стойким   расстройством функций организма, обусловленное заболеваниями, последствиями травм или дефектами, приводящее к ограничению жизнедеятельности и вызывающее необходимость его социальной защит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99488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ФЗ «Об образовании в РФ», ст. 79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15920"/>
            <a:ext cx="777888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54a021"/>
                </a:solidFill>
                <a:latin typeface="Arial"/>
              </a:rPr>
              <a:t>Положение о психолого-медико-педагогической комиссии (Приказ Министерства образования и науки Российской Федерации от 20 сентября 2013 г. N 1082 г. )</a:t>
            </a:r>
            <a:endParaRPr b="0" lang="en-US" sz="2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55972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иссия создается в целях своевременного выявления детей с особенностями в физическом и (или) психическом развитии и (или) отклонениями в поведении, проведения их комплексного психолого-медико-педагогического обследования и подготовки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6348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54a021"/>
                </a:solidFill>
                <a:latin typeface="Arial"/>
              </a:rPr>
              <a:t>Статья 79. Организация получения образования обучающимися с ограниченными возможностями здоровья</a:t>
            </a:r>
            <a:endParaRPr b="0" lang="en-US" sz="2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667720" cy="4753080"/>
          </a:xfrm>
          <a:prstGeom prst="rect">
            <a:avLst/>
          </a:prstGeom>
          <a:noFill/>
          <a:ln w="0">
            <a:noFill/>
          </a:ln>
        </p:spPr>
        <p:txBody>
          <a:bodyPr lIns="72000" tIns="72000" bIns="720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spcAft>
                <a:spcPts val="601"/>
              </a:spcAft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3. Под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специальными условиями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для получения образования обучающимися с ограниченными возможностями здоровья в настоящем Федеральном законе понимаются условия обучения, воспитания и развития таких обучающихся, </a:t>
            </a:r>
            <a:r>
              <a:rPr b="1" lang="ru-RU" sz="2000" spc="-1" strike="noStrike">
                <a:solidFill>
                  <a:srgbClr val="404040"/>
                </a:solidFill>
                <a:latin typeface="Arial"/>
              </a:rPr>
              <a:t>включающие в себя использование специальных образовательных программ и методов обучения и воспитания, специальных учебников, учебных пособий и дидактических материалов, специальных технических средств обучения коллективного и индивидуального пользования, предоставление услуг ассистента (помощника), оказывающего обучающимся необходимую техническую помощь, проведение групповых и индивидуальных коррекционных занятий, обеспечение доступа в здания организаций, осуществляющих образовательную деятельность, и другие</a:t>
            </a:r>
            <a:r>
              <a:rPr b="0" lang="ru-RU" sz="2000" spc="-1" strike="noStrike">
                <a:solidFill>
                  <a:srgbClr val="404040"/>
                </a:solidFill>
                <a:latin typeface="Arial"/>
              </a:rPr>
              <a:t> условия, без которых невозможно или затруднено освоение образовательных программ обучающимися с ограниченными возможностями здоровь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620640"/>
            <a:ext cx="8115120" cy="7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ФГОС с ОВЗ основа АООП НОО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628640"/>
            <a:ext cx="850104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f7819"/>
                </a:solidFill>
                <a:latin typeface="Arial"/>
              </a:rPr>
              <a:t>Адаптированная основная  образовательная программа начального  общего образования обучающихс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это основная образовательная программа, которая учитывает особенности их психофизического развития,  индивидуальные возможности, особые образовательные  потребности,  обеспечивает комплексную коррекцию/компенсацию нарушений развития и  социальную адаптацию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476280"/>
            <a:ext cx="799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Стандарт является основой</a:t>
            </a: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54a021"/>
                </a:solidFill>
                <a:latin typeface="Arial"/>
              </a:rPr>
              <a:t>для разработки примерных АООП НОО обучающихся с ОВЗ: 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4360" y="1628640"/>
            <a:ext cx="7775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хих,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слышащих, позднооглохш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пых,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абовидящ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тяжелыми нарушениями ре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нарушениями опорно-двигательного аппар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расстройствами аутистического спектр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23284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4a021"/>
                </a:solidFill>
                <a:latin typeface="Arial"/>
              </a:rPr>
              <a:t>Варианты образовательных программ на основе ФГОС с ОВЗ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08000" y="1727280"/>
            <a:ext cx="871200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ервый вариант образовательной программы 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)  </a:t>
            </a: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предназначен для обучающихся с  ограниченными возможностями здоровья, достигшим к моменту поступления  в школу уровня развития, близкого возрастной нор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Обучающийся,  с  ограниченными  возможностями  здоровья по данному варианту осваивает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сновную  образовательную  Программу</a:t>
            </a: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,  имеет  право  на прохождение  текущей,  промежуточной  и  государственной  итоговой  аттестации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</a:rPr>
              <a:t>по итогам  освоения программы получает аттестат о среднем образовании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0T05:35:48Z</dcterms:created>
  <dc:creator>Центр профессионального образования</dc:creator>
  <dc:description/>
  <dc:language>en-US</dc:language>
  <cp:lastModifiedBy>Home</cp:lastModifiedBy>
  <dcterms:modified xsi:type="dcterms:W3CDTF">2016-04-08T15:54:09Z</dcterms:modified>
  <cp:revision>90</cp:revision>
  <dc:subject/>
  <dc:title>ФГОС для   обучающихся с ограниченными возможностями здоровья: подходы к разработке, структуре и содержанию</dc:title>
</cp:coreProperties>
</file>