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34C5-B3CF-4EA3-8A01-D9C9C755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0BD0-EF24-4C8E-9339-F6A544C7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DA84-C649-4013-BFBF-892B5553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DA1B-CB79-4FBE-B975-645AA477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DF5-D457-4319-86D1-721EBFAB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677-0D01-4DB4-A33B-4E020999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2A5-2EE4-40EC-921F-B3CB71A0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3BD-C910-4F1B-97A1-1CBF6F8C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A23-072A-42A2-8838-9767B6F1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A7E9-C4D8-40E3-9BD7-E67B0811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091-92BE-4F8C-9CB7-BF91E5DE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A1CC-1018-41A4-BA6C-9FC9267F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3923-B668-44A3-955C-BA6CEFA828E6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71276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f7819"/>
                </a:solidFill>
                <a:latin typeface="Arial"/>
              </a:rPr>
              <a:t>Организация работы   </a:t>
            </a:r>
            <a:br>
              <a:rPr sz="3600"/>
            </a:br>
            <a:r>
              <a:rPr b="1" lang="en-US" sz="3600" spc="-1" strike="noStrike">
                <a:solidFill>
                  <a:srgbClr val="3f7819"/>
                </a:solidFill>
                <a:latin typeface="Arial"/>
              </a:rPr>
              <a:t>обучающихся с ограниченными возможностями здоровья по  АООП НОО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" name="Заголовок 3"/>
          <p:cNvSpPr/>
          <p:nvPr/>
        </p:nvSpPr>
        <p:spPr>
          <a:xfrm>
            <a:off x="611280" y="1413000"/>
            <a:ext cx="83152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Второй вариант образовательной программы (В)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4000" y="1196640"/>
            <a:ext cx="8534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ающийся с ограниченными возможностями здоровья получает  образование, сопоставимое по итоговым достижениям к моменту завершения школьного обучения с образованием здоровых сверстников, но в более  пролонгированные календарные сроки, которые определяются Стандарто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ающийся с ограниченными возможностями здоровья, осваивающий 2 вариант , имеет право на прохождение текущей, промежуточной и   государственной итоговой аттестации в иных форма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Третий вариант образовательной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программы (С)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280" y="1197000"/>
            <a:ext cx="84250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ющийся  с  ограниченными  возможностями  здоровья  получает  образование,  не  сопоставимое  по  итоговым  достижениям  к  моменту завершения школьного обучения с образованием сверстников без ограничений здоровья,  в  более  пролонгированные  календарные  сроки,  которые  определяются Стандартом для каждой категории обучающихс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ой  является  организация  специальных  условий  обучения  и  воспитания  для  реализации  как  общих,  так  и  особых  образовательных  потребносте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 основе  Стандарта  создается 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адаптированная  образовательная  Программа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оторая  при  необходимости  индивидуализируется.  К  образовательной  Программе  создаются  несколько учебных планов, в том числе индивидуальные учебные планы.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Четвёртый вариант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образовательной программы (D)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98000" y="1341000"/>
            <a:ext cx="8675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ающийся с ограниченными возможностями здоровья (со сложными и  множественными  нарушениями  развития)  получает  образование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о  адаптированной  основной  образовательной  программе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,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ной  на  основе  индивидуального  учебного  план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 значительном содержании  «академического»  компонента  образования  требуется  максимальное  углубление  в  область  развития  жизненной  компетенции.  Обязательной  является  специальная  организация  среды  обучающегося  для  реализации  его  особых  образовательных  потребностей,  развитие  его  жизненной  компетенции  в  разных  социальных  средах  (образовательной, дома и др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57120" y="571680"/>
          <a:ext cx="7572600" cy="5925960"/>
        </p:xfrm>
        <a:graphic>
          <a:graphicData uri="http://schemas.openxmlformats.org/drawingml/2006/table">
            <a:tbl>
              <a:tblPr/>
              <a:tblGrid>
                <a:gridCol w="3786120"/>
                <a:gridCol w="3786480"/>
              </a:tblGrid>
              <a:tr h="97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 ОВ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Г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536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Глухие де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    1.2      1.3    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лабослышащие и позднооглохшие де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    2.2      2.3   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536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лепые де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    3.2      3.3    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535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Слабовидящ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    4.2      4.3    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Дети с тяжёлыми нарушениями речи (ТН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    5.2       -      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Дети с двигательными нарушениями (НОД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    6.2      6.3    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535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Дети с ЗП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    7.2        -     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Дети с расстройствами аутистического спектра (РАС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    8.2      8.3    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54a021"/>
                </a:solidFill>
                <a:latin typeface="Arial"/>
              </a:rPr>
              <a:t>Структура АООП НО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920" y="148428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ют</a:t>
            </a: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4a021"/>
                </a:solidFill>
                <a:latin typeface="Arial"/>
              </a:rPr>
              <a:t>обязательную часть</a:t>
            </a: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ООП НОО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уему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астниками образовательных отношений в зависимости от варианта АООП НОО и их соотношение составляет: 80% и 20%, 70% и 30%,  60% и 40% (в соответствии с Приложениями 1 – 8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54a021"/>
                </a:solidFill>
                <a:latin typeface="Arial"/>
              </a:rPr>
              <a:t>Стандарт предусматривает возможность: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58560" y="1773000"/>
            <a:ext cx="7700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бкой смены образовательного маршру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ны программ и условий получения образован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af8c13"/>
                </a:solidFill>
                <a:latin typeface="Arial"/>
              </a:rPr>
              <a:t>на основе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омплексной оценки личностных, мето-предметных и предметных результатов освоения АОПП НО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заключения ТПМП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мнения родителей (законных представителей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189000"/>
            <a:ext cx="6348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54a021"/>
                </a:solidFill>
                <a:latin typeface="Arial"/>
              </a:rPr>
              <a:t>Статья 48. Обязанности и ответственность педагогических работников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6348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1. Педагогические работники обязаны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учитывать особенности психофизического развития обучающихся и состояние их здоровья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блюдать специальные условия, необходимые для получения образования лицами с ограниченными возможностями здоровь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заимодействовать при необходимости с медицинскими организациям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4a021"/>
                </a:solidFill>
                <a:latin typeface="Arial"/>
              </a:rPr>
              <a:t>Дата применения стандарт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применяетс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правоотношениям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шим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 1 сентября 2016 года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лиц,</a:t>
            </a: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зачисленных до 1.09.16г.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бучения по адаптированным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м,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существляется по ним до завершения обуче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378D-5344-48CC-AB90-656E7C01BC9A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79000" y="1146240"/>
            <a:ext cx="8616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ся ценность общества зависит от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 возможности предоставля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о развитию индивидуальност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Энштей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50920" y="476280"/>
            <a:ext cx="785016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a021"/>
                </a:solidFill>
                <a:latin typeface="Arial"/>
              </a:rPr>
              <a:t>Актуальность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я здоровых новорожденных за последние годы снизилась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8%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д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74%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оворожденных рождаются физиологически незрелыми, с проблемами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86%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меют неврологическую патологию (перинатальное поражение ЦН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боле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0%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етей дошкольного возраста 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%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ей  подросткового возраста абсолютно здоро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B83D-0B98-48EA-8EF1-3D3A16E07C77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63482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54a021"/>
                </a:solidFill>
                <a:latin typeface="Arial"/>
              </a:rPr>
              <a:t>Право на образование</a:t>
            </a:r>
            <a:br>
              <a:rPr sz="2000"/>
            </a:br>
            <a:r>
              <a:rPr b="1" lang="ru-RU" sz="2000" spc="-1" strike="noStrike">
                <a:solidFill>
                  <a:srgbClr val="54a021"/>
                </a:solidFill>
                <a:latin typeface="Arial"/>
              </a:rPr>
              <a:t> ФЗ «Об образовании в Российской Федерации»</a:t>
            </a:r>
            <a:br>
              <a:rPr sz="2000"/>
            </a:br>
            <a:r>
              <a:rPr b="1" lang="ru-RU" sz="2000" spc="-1" strike="noStrike">
                <a:solidFill>
                  <a:srgbClr val="54a02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54a021"/>
                </a:solidFill>
                <a:latin typeface="Arial"/>
              </a:rPr>
              <a:t>от 29 декабря 2012 г. N 273</a:t>
            </a:r>
            <a:br>
              <a:rPr sz="20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6912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учающийся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ными возможностями здоровь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физическое лицо, имеющее недостатки в физическом и (или) психологическом развитии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твержденные психолого-медико-педагогической комиссие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епятствующие получению образования без созда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ециальных услов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54a021"/>
                </a:solidFill>
                <a:latin typeface="Arial"/>
              </a:rPr>
              <a:t>Закон РФ «О социальной защите инвалидов в РФ» </a:t>
            </a:r>
            <a:br>
              <a:rPr sz="2000"/>
            </a:br>
            <a:r>
              <a:rPr b="0" lang="ru-RU" sz="2000" spc="-1" strike="noStrike">
                <a:solidFill>
                  <a:srgbClr val="54a021"/>
                </a:solidFill>
                <a:latin typeface="Arial"/>
              </a:rPr>
              <a:t>№ 181-ФЗ от 24.11.1995 г. (в ред. от 27.05.2000 г. № 78-ДВ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ал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лицо, которое имеет нарушение здоровья со стойким   расстройством функций организма, обусловленное заболеваниями, последствиями травм или дефектами, приводящее к ограничению жизнедеятельности и вызывающее необходимость его социальной защит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99488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4a021"/>
                </a:solidFill>
                <a:latin typeface="Arial"/>
              </a:rPr>
              <a:t>ФЗ «Об образовании в РФ», ст. 79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915920"/>
            <a:ext cx="777888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обучающихся с ограниченными возможностями здоровья может быть организовано как совместно с другими обучающимися, так и в отдельных классах, группах или в отдельных организациях, осуществляющих образовательную деятельность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54a021"/>
                </a:solidFill>
                <a:latin typeface="Arial"/>
              </a:rPr>
              <a:t>Положение о психолого-медико-педагогической комиссии (Приказ Министерства образования и науки Российской Федерации от 20 сентября 2013 г. N 1082 г. )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8559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иссия создается в целях своевременного выявления детей с особенностями в физическом и (или) психическом развитии и (или) отклонениями в поведении, проведения их комплексного психолого-медико-педагогического обследования и подготовки по результатам обследования рекомендаций по оказанию им психолого-медико-педагогической помощи и организации их обучения и воспитания, а также подтверждения, уточнения или изменения ранее данных рекомендаций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6348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54a021"/>
                </a:solidFill>
                <a:latin typeface="Arial"/>
              </a:rPr>
              <a:t>Статья 79. Организация получения образования обучающимися с ограниченными возможностями здоровья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667720" cy="4753080"/>
          </a:xfrm>
          <a:prstGeom prst="rect">
            <a:avLst/>
          </a:prstGeom>
          <a:noFill/>
          <a:ln w="0">
            <a:noFill/>
          </a:ln>
        </p:spPr>
        <p:txBody>
          <a:bodyPr lIns="72000" tIns="72000" bIns="720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3. Под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пециальными условиями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 для получения образования обучающимися с ограниченными возможностями здоровья в настоящем Федеральном законе понимаются условия обучения, воспитания и развития таких обучающихся,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включающие в себя использование специальных образовательных программ и методов обучения и воспитания, специальных учебников, учебных пособий и дидактических материалов, специальных технических средств обучения коллективного и индивидуального пользования, предоставление услуг ассистента (помощника), оказывающего обучающимся необходимую техническую помощь, проведение групповых и индивидуальных коррекционных занятий, обеспечение доступа в здания организаций, осуществляющих образовательную деятельность, и другие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 условия, без которых невозможно или затруднено освоение образовательных программ обучающимися с ограниченными возможностями здоровь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620640"/>
            <a:ext cx="811512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54a021"/>
                </a:solidFill>
                <a:latin typeface="Arial"/>
              </a:rPr>
              <a:t>ФГОС с ОВЗ основа АООП НО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7120" y="1628640"/>
            <a:ext cx="850104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7819"/>
                </a:solidFill>
                <a:latin typeface="Arial"/>
              </a:rPr>
              <a:t>Адаптированная основная  образовательная программа начального  общего образования обучающихс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это основная образовательная программа, которая учитывает особенности их психофизического развития,  индивидуальные возможности, особые образовательные  потребности,  обеспечивает комплексную коррекцию/компенсацию нарушений развития и  социальную адаптацию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7993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54a021"/>
                </a:solidFill>
                <a:latin typeface="Arial"/>
              </a:rPr>
              <a:t>Стандарт является основой</a:t>
            </a:r>
            <a:r>
              <a:rPr b="1" lang="en-US" sz="2800" spc="-1" strike="noStrike">
                <a:solidFill>
                  <a:srgbClr val="54a02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4a021"/>
                </a:solidFill>
                <a:latin typeface="Arial"/>
              </a:rPr>
              <a:t>для разработки примерных АООП НОО обучающихся с ОВЗ: 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4360" y="1628640"/>
            <a:ext cx="7775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ухих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бослышащих, позднооглохш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пых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бовидящ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тяжелыми нарушениями реч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нарушениями опорно-двигательного аппар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задержкой психического развит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расстройствами аутистического спектр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2328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54a021"/>
                </a:solidFill>
                <a:latin typeface="Arial"/>
              </a:rPr>
              <a:t>Варианты образовательных программ на основе ФГОС с ОВЗ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8000" y="1727280"/>
            <a:ext cx="871200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вый вариант образовательной программы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)  </a:t>
            </a: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предназначен для обучающихся с  ограниченными возможностями здоровья, достигшим к моменту поступления  в школу уровня развития, близкого возрастной норм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Обучающийся,  с  ограниченными  возможностями  здоровья по данному варианту осваивает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сновную  образовательную  Программу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,  имеет  право  на прохождение  текущей,  промежуточной  и  государственной  итоговой  аттестаци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по итогам  освоения программы получает аттестат о среднем образовани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0T05:35:48Z</dcterms:created>
  <dc:creator>Центр профессионального образования</dc:creator>
  <dc:description/>
  <dc:language>en-US</dc:language>
  <cp:lastModifiedBy>Home</cp:lastModifiedBy>
  <dcterms:modified xsi:type="dcterms:W3CDTF">2016-04-08T15:54:09Z</dcterms:modified>
  <cp:revision>90</cp:revision>
  <dc:subject/>
  <dc:title>ФГОС для   обучающихся с ограниченными возможностями здоровья: подходы к разработке, структуре и содержанию</dc:title>
</cp:coreProperties>
</file>