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6.jpeg" ContentType="image/jpeg"/>
  <Override PartName="/ppt/media/image13.gif" ContentType="image/gif"/>
  <Override PartName="/ppt/media/image11.gif" ContentType="image/gif"/>
  <Override PartName="/ppt/media/image30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wmf" ContentType="image/x-wmf"/>
  <Override PartName="/ppt/media/image14.gif" ContentType="image/gi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09B-CA0A-45D6-8114-A6587C25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89B-D832-4F7C-8BBC-2E6E7D62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B1AF7-954A-4DE1-A2C2-5A838CA8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3C3B-979E-4BCC-87B6-856EB35B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D1C81-D390-400B-A43E-C9935A28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616E-B7CB-43EC-A3A4-6A17DE9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72EAD-7C9E-4D5C-A71D-0AEC22C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31523-6076-49D0-A3F2-207ECB0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AB68D-D602-4E38-AF31-5B23A32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2225F-66EC-42AF-930B-DB45240F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9C150-4473-41B1-A4F3-BBC8874F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5F465-C917-4D76-A112-A936F16F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C0E-EE3D-4D3E-9944-22D2D28F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B88B3-B94F-430C-A97A-5D2BDF6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6121B-8376-465F-918C-323A50E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6130-C759-4A71-A74C-5160C3AF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3E66A-90A2-4158-B86A-2987A45F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05D42-FF6F-4241-8FEE-B7028DE9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302B-8214-48BE-A12F-B561928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18EB1-F640-411D-87F3-3F8129B0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FFD65-79C4-42CE-A050-FB520EF0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B72E1-C8CB-4360-8DA2-3D1BEE8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E142E-ABDE-4489-9F23-CDEE14B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D15-E90A-447F-AE2A-467C78E3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6CCBA-B4AC-45AB-9CF3-31BB09E9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E5231-C755-4ED7-8735-11CD607D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3F659-E1E5-425E-922C-16D84237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BFF48-8D4E-44AA-AA29-68C0FB9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6A325-208A-4552-9296-EB98DF8A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B5F4-EAB6-48DC-A789-B42C679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74A4C-5BBA-490A-B385-F120FE03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022F4-9776-4476-B415-3EBC4286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B8875-C3BC-4A9F-8880-C8321C7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5617E-B9C1-41B5-879A-DF7B3FC4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14A-C5A7-4C35-8765-630E76E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FC40-A16B-4D4D-A3A7-27E29E8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C0EB-ECD3-4689-B1B5-D1069C3E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3952-8914-454C-9813-B1699A11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54E1A-E08B-4897-95A1-F713EB4E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2E6AD-31F0-41C5-9546-A552CE13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9D1D-9047-4276-964F-97806CF7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A82B4-07D5-417E-8A37-D6FD54CD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D78D9-8040-44DA-B5AE-FCC0108A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0DB65-6A99-4395-AAC4-D71D116D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095E1-D99D-467B-AA48-B38CFF28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B5F7-228D-4535-AD0E-00F7BA97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5F27E-72D6-438B-8E41-11EDA61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AF0B6-5428-444F-BDFD-B875132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8C2ED-05DF-42FA-A76D-C8570316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834CB-ADEA-4FC4-8C96-FD6A1277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DEE27-B63B-459B-B708-177CBD57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1C9CC-0217-4CBE-A93D-969C3AA0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3A017-3575-459C-A7F7-042D848C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B1704-1F11-473C-AF7C-FD4C8055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A8035-08AA-4F8E-A168-4C82A937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357BF-5407-47EF-ABA2-A535295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DB2-B51A-449B-A41E-78C4765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1AEFB-07E3-47EA-8A32-674347C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A8E48-36F2-448F-B6FD-DDD4303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1B469-B874-4536-A9F2-8B77958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7DE2E-96BA-4BC4-AD00-5BE5329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0B049-F0B1-41E6-A84B-3F48612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821D3-E286-413E-A3AD-8EB6D642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2CE94-1166-458A-973B-FEF9E588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E4F46-9DA2-4CEC-B28B-85175E65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56799-758C-4B1B-95F9-CA4D4BAE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5B2C6-B2A8-4EE3-9C22-BFD5A246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D48C-3B37-442D-8CC5-70D82CE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E0BD3-2D9C-4748-A13C-2720E8A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8E52F-831C-421F-884D-F5B260F5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36919-C33E-4D89-A39C-2F4DEAB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B0E4E-75DB-443E-8654-E40838F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07EB4-8914-4641-96F5-7C67BE0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8B05A-80E5-491B-8E44-56AC1A4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5628B-D01E-4B64-82B0-EAAADF6A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D2F98-74D4-4125-A519-9B74B308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FF0BE-F8D7-4093-B244-82530594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FC8FE-965D-41DC-B352-8019577B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AA62-BFA9-4302-93BC-8B5DCED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155BA-B81B-43C1-82A1-D4A95BE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E0FAB-2714-4738-8426-BF2B2FE3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06B31-DAB5-4F07-8978-967203EC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C5E68-1303-48BF-9B21-8071F947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4663A-4759-471D-9DAE-7034F00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62B7D-3D83-4A0C-B82A-115E594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55D9C-8218-4DAF-8775-DBA26B2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AE371-B00E-4E62-89C3-518C1BB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B6FBC-2246-4BCA-9406-A66840F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84646-9994-4A45-B48C-1D0DD8EA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A11D-CFA2-4D2C-BC67-66C80EAB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ADA69-DA4E-462F-84ED-A01565EC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DDD1C-850E-4B45-998F-660EC794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4FDF6-2C4A-4768-8A94-1B4B41E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B1CCE-F8CC-43F7-9DD3-B857747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BA729-2911-4DBF-9F84-57823CB9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AB048-D506-440A-A12D-6C557EC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2BEA7-604C-4608-B6C9-2ADD027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5594B-45BD-4C96-84AC-EA03F067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73B69-DB59-4834-BB1A-A648B6A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8B4EF-B8EE-4F31-A9D0-D3B5FD4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5D7-D66E-405F-965E-DA9A98B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FA021-8A27-4960-A08F-E0EF1BB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BCCA9-9ECA-4092-ABFC-A0689942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7CB2D-0E30-4047-92F9-3A625BE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6D0-7B1E-4F68-9683-8BD87E28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7590-B708-4138-BCB7-A11A4B3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67E-4342-42A3-B497-0740641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6A00-E367-487D-AA1C-0A3A64E8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3B11-641C-4CBE-9450-A5B86AD7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89A-A795-42D8-9AA3-8A440891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A7B6-4597-4B77-A864-BA8FBA83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E170-733A-4B51-BEA2-0755778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7ED6-5777-4B46-8126-E7C95002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C520-7622-4FF4-B0E4-4810E710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F429-889D-41F7-B87C-6FDA3304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FDD-478C-4830-A7F7-FBC283D9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24A6-D7AD-41CE-AD98-1F6BDDC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8EB7-1D33-4BFA-9E53-47BA65D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1A14-2F77-4D55-83B8-9DAC860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69651-79DB-44CC-AEA3-B939B01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FAFC-F1EE-4E86-AF8C-115767D2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1B67-A511-4432-AA02-A18A16E3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3365-73A7-4F8A-B4DF-2447CD8A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1423-69FF-449B-8CD5-6E97DBAB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8D5A0-FD58-47F2-9759-E97CE4E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830D-E722-40FC-A6A8-0C3FACE3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417-EC5F-400B-BBB0-4433499B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7032-0DBE-47BC-A651-5AEB7E6F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9FA4-C18C-4B5B-94E7-4D21A14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D222-C0AB-4B1F-98B6-9CD44B4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A21A-EE0E-47DA-A844-ED913166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A88A-56B8-4CA0-9E50-FF06790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0B22-C5BD-424D-B0E3-9BBC3F6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E28E-0BA3-4A1F-A6BE-8795C658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2007-F0AC-4BF3-BC6F-47C185E5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FE70-4F64-4C40-BFF3-AAC73D5C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38481-1BA3-4949-8C99-23972D21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630-02F4-4FFF-9B86-A68A714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98A0-C2C7-45F6-8B81-0BE55EDD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725C-53B7-40F9-802F-1970693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1F60-32E6-4B2E-B283-E099F29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D192B-29D9-4899-BD86-62888CCC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AF05-3274-494B-9741-8C869F64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54EB-4FD6-4873-8C12-85EB40E2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0F24-BA22-489F-B61C-0D25CAA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C7CF-3FB1-47F6-B085-E78B144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37D0-4A4E-46DF-A8F3-110A20F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4312-291A-4B18-B83C-54F0F11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E25-3D4D-49C4-B2BC-E73D145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D1BA-94E8-42BC-A96B-60BC1CF4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D4A8-60D0-4FB9-A6D6-233B2AFF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0747-CD2A-4F2A-86C3-9CDDE769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CA67-D23A-4F2A-96A5-ECC6568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155A-7BC9-4891-8F4B-0064C481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8B6B9-5327-4AD8-9380-A549B6E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E08A-A4CA-4BBA-AA84-4A5DBBA7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8A11-2267-4FB8-9377-2BDB57C3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5076-882B-46CB-819C-93D9B74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4021-D0A4-4EB8-9E55-13D3012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3B9-3B58-4B47-B5DF-2515E52E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D63E2-A1F3-40E3-B2C1-2E671E02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55F4-FBC5-41E2-984F-42C8277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27C7-C6B8-4E2F-A3A6-0D12CEC6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73A22-64B0-4763-917A-5806D8E1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8A3FC-082B-44AD-9035-E3431D91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AC35-AB69-4AC9-99E3-81F284E5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FD25-2797-4C26-864D-52A9E17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DA3F-5941-43F1-BCDC-0261DCC8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83C3-DE47-4D49-8A66-49C04BE2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C9BFB-7317-4D33-ABEC-C8D8353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9F1-6EDA-4B16-AB47-8CC6523F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3745D-9DCF-4A5C-A8EC-DD4405A3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6E0EC-3BA8-4C69-9315-61759F3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DFA8-4C29-48CC-B876-96C168C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AEF5-6054-45A0-9D58-5E9D1368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E742-912E-463B-8576-16ABAB1B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9E51DB-1642-46D8-846B-80C44A0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914967-0FA1-442C-B830-3392A8DD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1A03B-F0C1-44A7-9369-CC4F9FB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98AAE-DE51-4062-952C-19F36945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04FA09-7A59-4A9A-991D-4E1E209D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462-F0AB-4C50-A205-87F000D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E7529-1322-408A-AA4E-604CC213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19BC3-0D7A-4F9B-87DB-D2E8F3A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50AAC-F090-4BA8-9149-26847DB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B82F3-B404-48E9-8A6A-2FCF270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C1841-3FF2-46D0-9F4C-9DBDFFC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041A1-CBD3-4EC8-8207-8EA80606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B6453-314F-4E53-BEEB-8543CA68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41B63-DE4E-462C-B18C-B56C4E52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8838B-5D7E-487A-B2C3-0D13082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6AE6D-3913-44BD-AB19-B3711C91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750-191F-49B1-B226-0F2A72EEA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3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EA09-FA6C-45C0-9B86-1838275B5F2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1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A0E-3470-4F45-AACE-ABD7A4B505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6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51D2-78FD-4DCA-84C7-A1E09AB28D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01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921-CC6F-43BD-A589-A96ED48801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0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0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D1F-9C07-4455-A017-3DF5D328F3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6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7FC-1E77-4114-891B-23F986B07C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9A93-3035-4543-806A-4AE22585EE4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27CD-A8DA-4689-9DC9-1D6682BC95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8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E76-A49D-4735-B931-A7207DED432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E3D3-6DD1-492A-9D66-091CD4B518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60A-BEF3-4AE6-8C11-F6A303064C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43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44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9F96-E492-484B-98AF-E532239281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3FC7-0A0D-408C-BB45-84E43E436B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AEF-9527-46FC-B169-00C594667F4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7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357-D276-4B48-B9E2-8F23F5387E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ЦВЕТ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 ИЗОБРАЗИТЕЛЬНОМ ИСКУССТВ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380520" y="37339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Цвета есть раздражающие и успокаивающие, кричащие, спорящие друг с другом и живущие ласково один возле другого. В их борьбе или согласии и есть воздействие цвета на человека через чувство зрения.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. Петров-Водк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ител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арханова М.А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«Средняя школа №41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1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ука о цвете возникла очень давно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Ещё в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еке до н.э. в Древней Греции учёный Аристотель пытался объяснить происхождение цвета и разные цветовые явления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но предположить, что древние люди не видели всех цветов, которые видим мы. Сначала научились различать более яркие цвета – красный и жёлтый, а затем уже синий и зелёны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вестно, что палитра древнегреческих живописцев состояла только из 4 красо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расной, охры, чёрной и бел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риятие цвета во многом зависит о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ветового тона, степени его яркости и насыщ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цвет, какова его природа? Что представляет собой окраска предметов? Почему одни предметы синие, другие красные, а третьи зелё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всему причиной является солнце, вернее, его световые лучи, которые озаряют всё на своём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мноте мы не видим никаких цветов. Когда в глаз попадают лучи солнечного или электрического света – световые волны, у нас возникает ощущение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Picture 7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46748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d47d"/>
                </a:solidFill>
                <a:latin typeface="Arial"/>
              </a:rPr>
              <a:t>Обычно все зрительные ощущения цвета разделяют на две группы</a:t>
            </a: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079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Ахроматические цвет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ёрный, белый и все серые (от самого тёмного до самого светлого). Это так называемые нейтральные цве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Хроматические цвета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все цвета, кроме чёрного, белого и серы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ажно отметить, что белый, чёрный и серые цвета, имеющие хотя бы незначительный цветной оттенок (розоватый, желтоватый и т.п.), уже будут являться хроматическими цветами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2" name="Picture 8" descr=""/>
          <p:cNvPicPr/>
          <p:nvPr/>
        </p:nvPicPr>
        <p:blipFill>
          <a:blip r:embed="rId4"/>
          <a:stretch/>
        </p:blipFill>
        <p:spPr>
          <a:xfrm rot="20423400">
            <a:off x="4114800" y="1981080"/>
            <a:ext cx="3622680" cy="1055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9" descr=""/>
          <p:cNvPicPr/>
          <p:nvPr/>
        </p:nvPicPr>
        <p:blipFill>
          <a:blip r:embed="rId5"/>
          <a:stretch/>
        </p:blipFill>
        <p:spPr>
          <a:xfrm rot="20382600">
            <a:off x="4115880" y="3660480"/>
            <a:ext cx="362268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0605a"/>
                </a:solidFill>
                <a:uFillTx/>
                <a:latin typeface="Arial"/>
              </a:rPr>
              <a:t>Солнечные лучи обладают удивительными свойствам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63520" y="3505320"/>
            <a:ext cx="7386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нечные лучи преломляются в каплях дождя или косой грани стекла, например, трёхгранной стеклянной призме, и появляется радуга. Это явление открыл анг.физик И.Ньютон – ему удалось разложить белый свет на 7 цветов спектра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зма разделила составляющие луч волны на группы коротких, средних и длинных. Короткие волны дают ощущение красных и жёлтых цветов, а более длинные волны – синих и фиолетовых цвет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лнечном свете содержатся все цветовые волны. При смешении их получается впечатление белого цвета, а при разложении луча мы видим все цвета радуг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6" name="Picture 7" descr=""/>
          <p:cNvPicPr/>
          <p:nvPr/>
        </p:nvPicPr>
        <p:blipFill>
          <a:blip r:embed="rId4"/>
          <a:stretch/>
        </p:blipFill>
        <p:spPr>
          <a:xfrm>
            <a:off x="685800" y="1447920"/>
            <a:ext cx="64800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53f35"/>
                </a:solidFill>
                <a:uFillTx/>
                <a:latin typeface="Arial"/>
              </a:rPr>
              <a:t>Волновая природа света – это основа восприятия цвета через органы зрения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расный, оранжевый, жёлтый, зелёный, голубой, синий и фиолетовый цвета составляют </a:t>
            </a: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СПЕКТР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вета спектра всегда располагаются в такой последова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9" name="Picture 8" descr=""/>
          <p:cNvPicPr/>
          <p:nvPr/>
        </p:nvPicPr>
        <p:blipFill>
          <a:blip r:embed="rId3"/>
          <a:stretch/>
        </p:blipFill>
        <p:spPr>
          <a:xfrm rot="9701400">
            <a:off x="456480" y="1904760"/>
            <a:ext cx="3616200" cy="13698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9" descr=""/>
          <p:cNvPicPr/>
          <p:nvPr/>
        </p:nvPicPr>
        <p:blipFill>
          <a:blip r:embed="rId4"/>
          <a:stretch/>
        </p:blipFill>
        <p:spPr>
          <a:xfrm rot="9496800">
            <a:off x="413640" y="4338720"/>
            <a:ext cx="36162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Й КРУ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2" name="Picture 6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Цветовой круг обычно делят на две части – тёплую и холодную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ёплые цв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расные, желтые, оранжевые и все цвета, в которых имеется хотя бы частичка этих цветов. Теплые цвета напоминают цвет солнца, огня, того, что в природе действительно дает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Холодные цв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иние, голубые, зеленые, сине-фиолетовые, сине-зеленые и цвета, которые можно получить от смешения с этими цветами. Холодные цвета ассоциируются со льдом, снегом, водой, лунным светом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8" descr=""/>
          <p:cNvPicPr/>
          <p:nvPr/>
        </p:nvPicPr>
        <p:blipFill>
          <a:blip r:embed="rId1"/>
          <a:stretch/>
        </p:blipFill>
        <p:spPr>
          <a:xfrm rot="21200400">
            <a:off x="314280" y="129348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9" descr=""/>
          <p:cNvPicPr/>
          <p:nvPr/>
        </p:nvPicPr>
        <p:blipFill>
          <a:blip r:embed="rId2"/>
          <a:stretch/>
        </p:blipFill>
        <p:spPr>
          <a:xfrm rot="703800">
            <a:off x="4878360" y="1425600"/>
            <a:ext cx="395784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1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.Пикассо «Подсолнухи», И.Репин «Бурлаки на Волге», А.Гримшоу «Вечер над Темзой», И.Левитан «»После дождя.Плёс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8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0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1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3792240" cy="234144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3" descr="Левитан, Исаак Ильич. После дождя. Плёс"/>
          <p:cNvPicPr/>
          <p:nvPr/>
        </p:nvPicPr>
        <p:blipFill>
          <a:blip r:embed="rId4"/>
          <a:stretch/>
        </p:blipFill>
        <p:spPr>
          <a:xfrm>
            <a:off x="838080" y="3962520"/>
            <a:ext cx="335304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Вопросы на закрепление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цв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чего зависит восприятие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2 группы зрительного ощущения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пект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бывают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4" name="Picture 5" descr="MMAG00317_0000[1]"/>
          <p:cNvPicPr/>
          <p:nvPr/>
        </p:nvPicPr>
        <p:blipFill>
          <a:blip r:embed="rId1"/>
          <a:stretch/>
        </p:blipFill>
        <p:spPr>
          <a:xfrm>
            <a:off x="5257800" y="3276720"/>
            <a:ext cx="281952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88,6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88,6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Comic Sans MS"/>
              </a:rPr>
              <a:t>ЦВЕТ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ОДИН ИЗ ПРИЗНАКОВ ВИДИМЫХ НАМИ ПРЕДМЕТОВ, ОСОЗНАННОЕ ЗРИТЕЛЬНОЕ ОЩУЩ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ь мир во всей его красоте, форму и материал, пространство и освещение мы видим благодаря разнообразию цве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му времени года соответствует определенная палитра сочетающихся друг с другом красок. Вы можете остановить свой выбор на нежных весенних и сочных летних, ярких осенних и приглушенных зимних тона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2" name="Picture 7" descr="Изображение"/>
          <p:cNvPicPr/>
          <p:nvPr/>
        </p:nvPicPr>
        <p:blipFill>
          <a:blip r:embed="rId1"/>
          <a:stretch/>
        </p:blipFill>
        <p:spPr>
          <a:xfrm>
            <a:off x="2438280" y="2895480"/>
            <a:ext cx="365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66"/>
                </a:solidFill>
                <a:uFillTx/>
                <a:latin typeface="Comic Sans MS"/>
              </a:rPr>
              <a:t>В Е С Н 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сной природа одевается в нежные и не слишком яркие наряды. Поэтому и весенняя палитра состоит из мягких пастельных тоно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кремового, розового, абрикосового, голубого, светло-желтого и охристого. А для контраста – цвет молодой зелени, маково-красный и приглушенный коричнев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r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евитан «Март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5" name="Picture 8" descr="MMj02888510000[1]"/>
          <p:cNvPicPr/>
          <p:nvPr/>
        </p:nvPicPr>
        <p:blipFill>
          <a:blip r:embed="rId1"/>
          <a:stretch/>
        </p:blipFill>
        <p:spPr>
          <a:xfrm>
            <a:off x="5181480" y="914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0" descr="Левитан, Исаак Ильич. Март"/>
          <p:cNvPicPr/>
          <p:nvPr/>
        </p:nvPicPr>
        <p:blipFill>
          <a:blip r:embed="rId2"/>
          <a:stretch/>
        </p:blipFill>
        <p:spPr>
          <a:xfrm>
            <a:off x="5105520" y="38098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3300"/>
                </a:solidFill>
                <a:uFillTx/>
                <a:latin typeface="Comic Sans MS"/>
              </a:rPr>
              <a:t>Л Е Т 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раски лета сочные, яркие и радостные. Палитру составляют травянисто-зеленый, алый, малиновый, синий, темно-желтый и оранжевый цвета. К каждому локальному цвету подбирается гамма разнообразных сложных оттен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.Шишкин «В Крыму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9" name="Picture 8" descr="MMj02832170000[1]"/>
          <p:cNvPicPr/>
          <p:nvPr/>
        </p:nvPicPr>
        <p:blipFill>
          <a:blip r:embed="rId1"/>
          <a:stretch/>
        </p:blipFill>
        <p:spPr>
          <a:xfrm>
            <a:off x="609480" y="1066680"/>
            <a:ext cx="3733920" cy="233856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9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 С Е Н 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И.Левитан «Золотая осень. Слободка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еннюю палитру составляют краски с теплым основным тоном, словно излучающие свет. Очень эффектно выглядят композиции, построенные на контрастах синего и оранжевого, желтого и фиолетового, красного и желтого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темные красно-коричневый, бордовый и фиолетовый цвета ярче и заметнее в сочетании со светлыми охристыми тонами. Основную цветовую гамму может дополнить зеленый цвет хво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3" name="Picture 8" descr="MMj02832190000[1]"/>
          <p:cNvPicPr/>
          <p:nvPr/>
        </p:nvPicPr>
        <p:blipFill>
          <a:blip r:embed="rId1"/>
          <a:stretch/>
        </p:blipFill>
        <p:spPr>
          <a:xfrm>
            <a:off x="533520" y="114300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0" descr="Левитан, Исаак Ильич. Золотая осень. Слободка"/>
          <p:cNvPicPr/>
          <p:nvPr/>
        </p:nvPicPr>
        <p:blipFill>
          <a:blip r:embed="rId2"/>
          <a:stretch/>
        </p:blipFill>
        <p:spPr>
          <a:xfrm>
            <a:off x="4191120" y="990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20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76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77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З И М 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ля зимней палитры характерны светлые оттенки голубого, фиолетового, сияющие синеватые тона льда, контрасты белого и черного цве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мпозиции чаще всего ясные, четкие, лаконичны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мантический образ зимы помогут создать нежные тона, удачно сочетающиеся с нейтральными серыми оттен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7" name="Picture 8" descr="MMj03237440000[1]"/>
          <p:cNvPicPr/>
          <p:nvPr/>
        </p:nvPicPr>
        <p:blipFill>
          <a:blip r:embed="rId1"/>
          <a:stretch/>
        </p:blipFill>
        <p:spPr>
          <a:xfrm>
            <a:off x="533520" y="1143000"/>
            <a:ext cx="3657600" cy="207648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9" descr="MMj02889390000[1]"/>
          <p:cNvPicPr/>
          <p:nvPr/>
        </p:nvPicPr>
        <p:blipFill>
          <a:blip r:embed="rId2"/>
          <a:stretch/>
        </p:blipFill>
        <p:spPr>
          <a:xfrm rot="1199400">
            <a:off x="1142640" y="3962160"/>
            <a:ext cx="3505320" cy="21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вет может не только радовать, но и вызывать раздражение, тревогу, чувство тоски или груст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301680" y="4495680"/>
            <a:ext cx="8540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им из первых, кто начал исследовать воздействие цвета на человека, был И.Гёте. Он любил рассматривать один и тот же пейзаж через стёкла зелёного, жёлтого, красного и других цветов и наблюдать, как при этом изменяются восприятие и эмоциональное состояние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1" name="Picture 7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изобразительной деятельности принято счита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Красн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– возбуждающий, согревающий, оживляющий, активный, энергичный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Жёлт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– тёплый, бодрящий, весёлый, привлекательный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Оранжевый цвет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есёлый, радостный, пламенный, добры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Зелён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спокойный, создаёт приятное и мирное настроени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Синий цвет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ерьёзный, печальный, тоскливый, сентиментальный, спокойный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Фиолетовый цвет-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единяет эмоциональное воздействие красного и синего цветов – он и притягивает, и отталкивает, полон жизни и вместе с тем вызывает тоску и гру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4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09T06:3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