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6.jpeg" ContentType="image/jpeg"/>
  <Override PartName="/ppt/media/image27.jpeg" ContentType="image/jpeg"/>
  <Override PartName="/ppt/media/image7.gif" ContentType="image/gif"/>
  <Override PartName="/ppt/media/image29.jpeg" ContentType="image/jpeg"/>
  <Override PartName="/ppt/media/image8.jpeg" ContentType="image/jpeg"/>
  <Override PartName="/ppt/media/image10.jpeg" ContentType="image/jpeg"/>
  <Override PartName="/ppt/media/image5.png" ContentType="image/png"/>
  <Override PartName="/ppt/media/image9.gif" ContentType="image/gif"/>
  <Override PartName="/ppt/media/image16.jpeg" ContentType="image/jpeg"/>
  <Override PartName="/ppt/media/image13.gif" ContentType="image/gif"/>
  <Override PartName="/ppt/media/image11.gif" ContentType="image/gif"/>
  <Override PartName="/ppt/media/image30.gif" ContentType="image/gif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1.wmf" ContentType="image/x-wmf"/>
  <Override PartName="/ppt/media/image14.gif" ContentType="image/gif"/>
  <Override PartName="/ppt/media/image15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23.jpeg" ContentType="image/jpeg"/>
  <Override PartName="/ppt/media/image2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3841-C99A-4EA9-831F-50075E1C1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8360-AF49-4738-AFEA-AB15119B4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462EE8-9BD0-4A68-9E73-845BE7C7E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FCFD0C-AEDD-4601-8B0F-6C0AD0751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32B6E4-392E-4ACA-9CEA-BE3B5C33E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CDB079-E0B8-4F4C-871C-7DBB6C17A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6EB1AA-095A-4F66-838B-A5F75C9E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5B1A3F-96AE-4646-A381-D55CFED5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8E39AF-3E05-48D1-AB91-5CEDE1982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98094A-29ED-40D6-8D8C-886A16C9F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E95AF0-02F9-4EE8-9B7C-A930C277C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2E95AA-7DF6-42F6-B12C-2A9864837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7875-1DCA-4754-B5CC-ED991EB7A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638BE2-0A04-4493-9C67-E33F6706E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1EE5DB-C6D3-47BB-A786-C7632C8BD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A82713-BFC5-4ABF-825D-019B5057B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CC7846-E8EB-4627-9D86-1CEC61773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4EC0CD-8794-4D80-BD23-DEEA7C00D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20A1FE-7046-4E21-9A26-AA0BE287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493295-AD63-47FA-B08A-B95537A9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FEB9B6-E1E8-434C-8EBE-AE08836D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14B070-A1E6-4527-9524-98C96DA08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B34BCD-D35B-4EDB-8669-C29BA7851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C336-5F88-4620-A10B-321993FA4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01D764-B6A1-40DB-86BC-95A9F06B3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11BE76-7B06-43CF-84A7-28F0FEE89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EEF5EF-FF36-44FD-B3A3-E0E14F8AE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7F4B03-B936-4570-B782-128D341C7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BE3603-6E48-4847-BC83-F41B5E6D7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4905E7-4539-4DC3-8C0C-4149CDA22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5374FC-972F-4CB7-96C1-A61FC0B6A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E415B6-0642-4C30-B665-1AAFF93D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733A10-6B7D-4970-8D31-1B212916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339CF3-13EB-4219-BFEC-4285EF56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8FAA9-0D11-40E9-896C-D3548AE28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713D54-42B9-4BD8-8D25-57FFBC935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548561-22C4-4390-A015-49B061120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6C267E-9E41-4F37-A4E4-29D045CEB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325812-7CD1-4B83-A6A9-267B9831F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809B85-5DBA-4E99-B9FF-123908D06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136C79-DC03-464E-B61E-EF482CD4D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D794ED-41D5-41D1-8B4F-B8D087D77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91417C-D7A0-45C3-91A4-DB79AA465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153DB0-96C3-4DD3-A96F-DFCDA6E47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D05461-466E-49BC-97BF-B5C3D594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3103B-DFB2-482C-BE91-1EE9F321A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460CFF-6B2F-4527-A949-3E630678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EE4DF6-ED81-4B93-B1BE-8A06E567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9A9EA5-CF61-46CA-AB29-6846F40A9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393DBF-BF69-4E1A-8EF6-0EF1E269F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EFD608-87A3-4F9C-B3F4-4012CA6F5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2D3C8D-1FDB-4F27-B8B7-BC0E69714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EF9C36-A93D-4030-B006-9D7253CB9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B61A80-E195-4947-889C-A6621B37B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0EBF24-9766-4685-9DBA-EF3404419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58E681-C4B1-4B65-8D1A-730E677F2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E8688-876E-457D-ACB3-608084494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949A14-6FC0-4E4F-8410-1F2AB5DFD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29C4DA-FF2A-4C77-B034-30E215E3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339DEE-D35C-4716-A400-23F1D00D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0448D7-1CF3-4155-A2FF-2EFEE7B3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86C822-928C-478C-804F-B04D09772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B44936-64AB-4F89-BF2F-71F349E6C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2375A7-B290-4367-9214-67DA450D4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F12EC8-47C1-4F3F-92E3-FD915620A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4DA755-CBA6-4944-9933-DB1F7389B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048925-4E22-49C9-A813-E2CFDD3AC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7262C-E09D-4BE1-8B92-F36CA8736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B282EF-911C-4DE3-B392-3C133F7E6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CA875B-149F-4738-ADAE-AEC257AE0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DF8DFF-6279-4DBD-9C86-91BE54C74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9067CA-F77E-4252-B03F-A009A2283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163343-6BD4-4C46-8B00-F8228DA0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1D864A-98A6-4180-9D24-47BC279E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39A8E2-BA39-4F84-8109-EB8E95955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327B50-E535-4A8A-81AB-1DB7D20D4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540F55-10F4-4458-83AD-D9BA1BFE6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BFCA82-5522-4B79-AD5F-2008E1811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3B8D5-FCDB-41E5-AABC-F0E153131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823E2A-4DD0-401C-AB36-26DF8AE52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A18E11-82BA-4A83-92FD-91163357E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7CF08D-7369-4B59-A71F-8292F279A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A1C1EE-40DA-4157-B506-0892895A5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0B9C19-0160-48A8-9BBB-CC42CF6FF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B4498D-A981-4151-944C-24F6B65E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A6D592-4821-443C-B0A3-263799FA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9CB923-046A-416E-BF8A-9C80FAE7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3314E3-A5F5-476B-9F4D-E83990225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DC0561-0927-466F-9B4A-415935B7B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B9B1B-8B7E-4BDD-BE42-7CE61D441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5BA2DD-74C3-4E36-AEE1-E11904D41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5FDC3A-362C-441D-AA6E-6A9374891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29A65C-ABBA-4788-9E34-033A5D490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DC130B-8663-4498-8AD5-0AF49B609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CE787A-FFF1-485B-AD98-338DE5A7C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2C625E-61EB-45FF-B413-667DA20A2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597FE7-32C9-4E1B-9917-FDCB3964F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39501D-86BA-4B77-8C96-CF271937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C04917-218A-4841-A45E-047692D8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E6DCC9-1A27-4DD4-8BBB-FB501405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D98C4-A770-4A37-ADD4-144C6FF8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8C0DCE-4D51-4E5F-A1CA-24B49EF80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3D20DB-8462-43E2-AB5B-9C480E2DA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4C0A2A-A8F9-463B-9B2E-2D528A69B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8C78-E29E-4AFF-B070-DEDB82F3D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9595B-53CE-4362-A8BD-592FCA26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294D6-8494-4195-9B2D-9393FA3B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FCF4C-82D2-472D-93F1-06A265A63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DBFA4-0351-445D-AD03-6D56EC28E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7CB3B-46AD-4A62-85AC-B00AA21C5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EC301-134B-4B04-B3DB-14A4572FB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63CE0-901F-4298-BE9C-EF85E4F82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6C4E0-3F1A-4660-A600-BD63906E5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656BD-C668-4583-A515-A99B046B2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D4913-7E3C-4C2D-B556-0FB482ED5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00E8-C934-47CB-8F95-8EE385AD5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052C5-F72B-4137-8471-0B43FCA41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7F2A8-042D-4A44-A2BE-37591602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74578-1EF2-4915-863C-A054FBF5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BD3F3-CA56-4AB4-AE04-97BEA0DF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5151D-1174-4FD8-B55D-015383B5A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34CBF-D345-49E2-B703-C88251A2A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41B3B-1FE6-4CC8-9634-1054A4B73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8322A-790A-4ABA-81FD-96246DFA7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97FF9-98EB-4B72-A717-CCA36E1CB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E1E29-5F74-4180-BF95-16F0CCF2B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7431-9424-485E-9664-71D2E23A0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0A3A9-9BC3-48F9-8BF7-8F2F44E8B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98275-2A82-490A-9FF0-62D0AAD53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3AF5F-25C3-4F5B-9C24-8D1B2C494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56885-7854-4454-AF19-31D196B8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EA17A-55F6-4D53-BAAC-57E8A186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4A332-C22D-431B-9FCA-976D90F2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67D66-161C-4153-B7A1-62266C71E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7770D-D071-4734-9895-4189873D8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93246-A064-470A-9786-F601B7620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752EB-36A0-4086-9809-4BED21699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717B-4774-4E74-8C82-A9F21FD9B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208B4-CC0A-49E6-9F60-F49810A8E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A532F-5601-4625-B0E8-5FCB41773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10A30-4F80-4481-816F-52BE96112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B54B2-8ED5-4BFB-AF38-161166EC1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A65D7-7B3B-47A5-A158-4616D7508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4541D-C776-4D64-861D-DA8A3C9B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CE5A6-A4A7-45B9-B0F8-FD3FEEEC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6721A-1ED4-4768-A2FA-191E2876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7EBC4-C5E2-431A-8BA6-42FBE4301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A4E82-4071-4491-8319-86AD408EE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EC12-AE56-4ACE-B48F-C22BBC15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A8C9A-3451-42DD-BD36-A6E07007C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B9409-A2A2-4687-8590-A248320EA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76F624-288B-48A5-B29C-21A162895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32529-CD7B-4ADC-A53E-1AE9CEEF8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B9BB5E-E904-4D0D-88A8-78A991093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4A2E9-CDC3-44B4-8BF3-98E8A443E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E0E55E-3D50-4B30-9E74-E80A98294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DCD00-7B54-4AC1-A2FA-2EDBD23D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F72288-03DD-4986-886F-608E843D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F920F2-C5C8-4441-B4BA-16559073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12B0-A567-4919-A4B8-6E71FCF0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A7CAA-3ECB-4FA3-ACBA-4A6820F09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835504-0420-4560-8B93-6B757D87A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11988-307C-40D3-BDD6-DE9619BE7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D8A1E-866E-4C66-A63D-621E7F120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1A6341-D6EF-4532-A888-C27D4536A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C11584-9ACE-4FF0-A334-98E7EA9C6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6061F2-5F29-4EAB-BA5F-30E2E15C3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474F7-BEFA-462B-8092-558B1E7D1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7B52FB-D46A-421F-AD02-74F054A24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79C227-7181-49BC-8414-62A323FB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AC6A-1DBE-49EF-8E65-788D19C8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CD2ED5-4428-4DCB-A719-917CA61A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826E3-F422-453E-9F5E-71C6D224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D484F6-55A8-44AD-A976-D35B5D4FB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DC5A0-57D2-421C-B3D6-58E7841B3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098C39-84A7-4594-8B3E-0CE159A70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399475-A80B-4EE0-ACC2-5072660BF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E3A71E6-83E7-44CC-AB14-14DE3C928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7CA50A5-09C3-41EF-A9FA-2C5ACD8DD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03B6CD-C259-442B-A115-4CE4D12B3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D47BAC-AC0E-4C31-8724-50266F32C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94F2-15FC-4535-8988-D256DCA0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C6226F-4997-4F63-B5B2-B16342520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0A3A31-2E2F-42F6-8C8F-C334209E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D0CE55-E71A-4E48-830D-7F02357DA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470AF2-18A7-4D62-9BB7-AAB87771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4462E0-9752-4B98-AC45-ACCEE98C4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EFBBED-FDC3-4D08-9E4B-B543D5DB7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B00295-9CB3-45FD-9B44-28C22D94C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C8CF44-8C04-43D9-B494-00E1B987B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32D353-1F85-4E05-9D96-AB5ACEA35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3CE984-094D-4438-99C9-D40933886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57.xml"/><Relationship Id="rId35" Type="http://schemas.openxmlformats.org/officeDocument/2006/relationships/slideLayout" Target="../slideLayouts/slideLayout158.xml"/><Relationship Id="rId36" Type="http://schemas.openxmlformats.org/officeDocument/2006/relationships/slideLayout" Target="../slideLayouts/slideLayout159.xml"/><Relationship Id="rId37" Type="http://schemas.openxmlformats.org/officeDocument/2006/relationships/slideLayout" Target="../slideLayouts/slideLayout160.xml"/><Relationship Id="rId38" Type="http://schemas.openxmlformats.org/officeDocument/2006/relationships/slideLayout" Target="../slideLayouts/slideLayout161.xml"/><Relationship Id="rId39" Type="http://schemas.openxmlformats.org/officeDocument/2006/relationships/slideLayout" Target="../slideLayouts/slideLayout162.xml"/><Relationship Id="rId40" Type="http://schemas.openxmlformats.org/officeDocument/2006/relationships/slideLayout" Target="../slideLayouts/slideLayout163.xml"/><Relationship Id="rId41" Type="http://schemas.openxmlformats.org/officeDocument/2006/relationships/slideLayout" Target="../slideLayouts/slideLayout164.xml"/><Relationship Id="rId42" Type="http://schemas.openxmlformats.org/officeDocument/2006/relationships/slideLayout" Target="../slideLayouts/slideLayout165.xml"/><Relationship Id="rId43" Type="http://schemas.openxmlformats.org/officeDocument/2006/relationships/slideLayout" Target="../slideLayouts/slideLayout166.xml"/><Relationship Id="rId44" Type="http://schemas.openxmlformats.org/officeDocument/2006/relationships/slideLayout" Target="../slideLayouts/slideLayout167.xml"/><Relationship Id="rId4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61.xml"/><Relationship Id="rId35" Type="http://schemas.openxmlformats.org/officeDocument/2006/relationships/slideLayout" Target="../slideLayouts/slideLayout62.xml"/><Relationship Id="rId36" Type="http://schemas.openxmlformats.org/officeDocument/2006/relationships/slideLayout" Target="../slideLayouts/slideLayout63.xml"/><Relationship Id="rId37" Type="http://schemas.openxmlformats.org/officeDocument/2006/relationships/slideLayout" Target="../slideLayouts/slideLayout64.xml"/><Relationship Id="rId38" Type="http://schemas.openxmlformats.org/officeDocument/2006/relationships/slideLayout" Target="../slideLayouts/slideLayout65.xml"/><Relationship Id="rId39" Type="http://schemas.openxmlformats.org/officeDocument/2006/relationships/slideLayout" Target="../slideLayouts/slideLayout66.xml"/><Relationship Id="rId40" Type="http://schemas.openxmlformats.org/officeDocument/2006/relationships/slideLayout" Target="../slideLayouts/slideLayout67.xml"/><Relationship Id="rId41" Type="http://schemas.openxmlformats.org/officeDocument/2006/relationships/slideLayout" Target="../slideLayouts/slideLayout68.xml"/><Relationship Id="rId42" Type="http://schemas.openxmlformats.org/officeDocument/2006/relationships/slideLayout" Target="../slideLayouts/slideLayout69.xml"/><Relationship Id="rId43" Type="http://schemas.openxmlformats.org/officeDocument/2006/relationships/slideLayout" Target="../slideLayouts/slideLayout70.xml"/><Relationship Id="rId44" Type="http://schemas.openxmlformats.org/officeDocument/2006/relationships/slideLayout" Target="../slideLayouts/slideLayout71.xml"/><Relationship Id="rId4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48070-1C6F-4446-AE9B-C6D8638AAD0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3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24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25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26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27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28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29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30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31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32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33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34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35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36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37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38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39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0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1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2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3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4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5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6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7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8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9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50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51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52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53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54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55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56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57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58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59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0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1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2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3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4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5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6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7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8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9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0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1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2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3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4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5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6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7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8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9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80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81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82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83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84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85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86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87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88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89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90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91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92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93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94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95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96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97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98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99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0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1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2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3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4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5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6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7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8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9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10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11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12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13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14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15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16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17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18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19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0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1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2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3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4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5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6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7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8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9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30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31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32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33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34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35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36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37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38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39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40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41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42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43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44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45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46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47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48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49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50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51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52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53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54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55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56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57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58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59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60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61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62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63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64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65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66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67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68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69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70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71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72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73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28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5D335-9311-43EB-8CD6-33E9DBB7FC89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91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31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32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33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51CCE-A579-48F9-84A8-1CB32C1B154A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96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5BCFA-388F-4F38-A23C-E52F7ABA733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1018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9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0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1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 type="dt" idx="37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 type="ftr" idx="38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C4F14-A95B-4760-8FF5-CA3445028B8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3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064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5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6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67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68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69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70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71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1072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sp>
                <p:nvSpPr>
                  <p:cNvPr id="1073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074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075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076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077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078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pic>
              <p:nvPicPr>
                <p:cNvPr id="1079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0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1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2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3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4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5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6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087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088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9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0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1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2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3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4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5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6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7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8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9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00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01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02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03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04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05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06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107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8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9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0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1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2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3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4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5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6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7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 type="dt" idx="4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 type="ftr" idx="4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 type="sldNum" idx="4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FBFE3-9EDF-417D-854A-F71BB6C2FE1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4"/>
    <p:sldLayoutId id="2147483819" r:id="rId35"/>
    <p:sldLayoutId id="2147483820" r:id="rId36"/>
    <p:sldLayoutId id="2147483821" r:id="rId37"/>
    <p:sldLayoutId id="2147483822" r:id="rId38"/>
    <p:sldLayoutId id="2147483823" r:id="rId39"/>
    <p:sldLayoutId id="2147483824" r:id="rId40"/>
    <p:sldLayoutId id="2147483825" r:id="rId41"/>
    <p:sldLayoutId id="2147483826" r:id="rId42"/>
    <p:sldLayoutId id="2147483827" r:id="rId43"/>
    <p:sldLayoutId id="2147483828" r:id="rId44"/>
    <p:sldLayoutId id="2147483829" r:id="rId4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60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161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2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3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4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5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6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7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8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9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0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1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2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3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4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5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6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7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8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9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0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1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2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3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4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5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6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7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8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9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0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1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92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7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82E43-5B58-4E42-9CAE-6EC08D72044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4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235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6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7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8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9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0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1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2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3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4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5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6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7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8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9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0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1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2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3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4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5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0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260EC-3BFA-4CC1-AA4D-ACE62BAA9809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88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89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0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1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2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3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02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03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9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0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2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3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4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5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6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7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8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9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0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1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2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3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4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5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6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7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8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9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0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1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2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3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4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6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7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9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0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1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2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3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4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6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9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0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1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2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3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4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5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6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7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8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9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0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1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2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3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4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5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6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7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8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9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2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3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4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5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6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7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8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9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0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1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2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3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4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5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6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7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8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9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0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1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2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3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4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5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6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7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8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9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0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2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3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4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5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6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7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8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9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0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1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4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5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6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7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8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9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0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1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2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3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4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5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6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7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8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9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0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1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2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3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4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5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6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7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ECC19-859D-4993-B8EB-C7290F20E4F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280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1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2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7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8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57E67-1494-4643-8E48-DBFCCC80DF25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325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6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7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8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9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0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1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2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3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4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5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6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7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8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9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F4FF1-84DF-420C-B1D5-2553332ACF7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38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58287-5C36-4164-B6F2-6EACF0A7982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42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3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43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43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43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43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3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sp>
                <p:nvSpPr>
                  <p:cNvPr id="43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3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3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3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4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4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pic>
              <p:nvPicPr>
                <p:cNvPr id="44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5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45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7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16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17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18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CDAB2-7FFB-4AE4-91B1-ABDA5B7B3BF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4"/>
    <p:sldLayoutId id="2147483715" r:id="rId35"/>
    <p:sldLayoutId id="2147483716" r:id="rId36"/>
    <p:sldLayoutId id="2147483717" r:id="rId37"/>
    <p:sldLayoutId id="2147483718" r:id="rId38"/>
    <p:sldLayoutId id="2147483719" r:id="rId39"/>
    <p:sldLayoutId id="2147483720" r:id="rId40"/>
    <p:sldLayoutId id="2147483721" r:id="rId41"/>
    <p:sldLayoutId id="2147483722" r:id="rId42"/>
    <p:sldLayoutId id="2147483723" r:id="rId43"/>
    <p:sldLayoutId id="2147483724" r:id="rId44"/>
    <p:sldLayoutId id="2147483725" r:id="rId4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58BDE-07DE-45B4-B6BE-DC6716402AB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8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29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0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1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2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3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4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5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6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7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8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9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0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1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2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3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4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5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6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7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8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9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0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1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2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3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4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5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6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7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8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9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6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97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8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9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0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1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2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3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4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5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6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7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8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9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0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1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2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3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4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5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6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7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ftr" idx="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C2EC8-07F8-4AD3-AAD2-CC5514EB1CC7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60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661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2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3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64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665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66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67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68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69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670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671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2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3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74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675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76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77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78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79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680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1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38338-B79F-4267-B872-B585DF35BE3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1371600" y="1752120"/>
            <a:ext cx="6400800" cy="20322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ЦВЕТ 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В ИЗОБРАЗИТЕЛЬНОМ ИСКУССТВЕ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 type="subTitle"/>
          </p:nvPr>
        </p:nvSpPr>
        <p:spPr>
          <a:xfrm>
            <a:off x="380520" y="3733920"/>
            <a:ext cx="75438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Цвета есть раздражающие и успокаивающие, кричащие, спорящие друг с другом и живущие ласково один возле другого. В их борьбе или согласии и есть воздействие цвета на человека через чувство зрения.»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. Петров-Водкин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оставитель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Тарханова М.А.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читель начальных классов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МБОУ «Средняя школа №41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617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Наука о цвете возникла очень давно. 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Ещё в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V 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веке до н.э. в Древней Греции учёный Аристотель пытался объяснить происхождение цвета и разные цветовые явления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2895120"/>
            <a:ext cx="8229600" cy="32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ожно предположить, что древние люди не видели всех цветов, которые видим мы. Сначала научились различать более яркие цвета – красный и жёлтый, а затем уже синий и зелёный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звестно, что палитра древнегреческих живописцев состояла только из 4 красок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красной, охры, чёрной и белой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сприятие цвета во многом зависит от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цветового тона, степени его яркости и насыщен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такое цвет, какова его природа? Что представляет собой окраска предметов? Почему одни предметы синие, другие красные, а третьи зелёны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азывается, всему причиной является солнце, вернее, его световые лучи, которые озаряют всё на своём пу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емноте мы не видим никаких цветов. Когда в глаз попадают лучи солнечного или электрического света – световые волны, у нас возникает ощущение цв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9" name="Picture 7" descr=""/>
          <p:cNvPicPr/>
          <p:nvPr/>
        </p:nvPicPr>
        <p:blipFill>
          <a:blip r:embed="rId1"/>
          <a:stretch/>
        </p:blipFill>
        <p:spPr>
          <a:xfrm>
            <a:off x="762120" y="3657600"/>
            <a:ext cx="7467480" cy="2247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9" dur="1000"/>
                                        <p:tgtEl>
                                          <p:spTgt spid="1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1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1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80"/>
                                        <p:tgtEl>
                                          <p:spTgt spid="1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10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7d47d"/>
                </a:solidFill>
                <a:latin typeface="Arial"/>
              </a:rPr>
              <a:t>Обычно все зрительные ощущения цвета разделяют на две группы</a:t>
            </a:r>
            <a:r>
              <a:rPr b="1" i="1" lang="en-US" sz="3200" spc="-1" strike="noStrike">
                <a:solidFill>
                  <a:srgbClr val="f7d47d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407988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2f1311"/>
                </a:solidFill>
                <a:uFillTx/>
                <a:latin typeface="Arial"/>
              </a:rPr>
              <a:t>Ахроматические цвета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чёрный, белый и все серые (от самого тёмного до самого светлого). Это так называемые нейтральные цвета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2f1311"/>
                </a:solidFill>
                <a:uFillTx/>
                <a:latin typeface="Arial"/>
              </a:rPr>
              <a:t>Хроматические цвета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– все цвета, кроме чёрного, белого и серых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Важно отметить, что белый, чёрный и серые цвета, имеющие хотя бы незначительный цветной оттенок (розоватый, желтоватый и т.п.), уже будут являться хроматическими цветами. 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332" name="Picture 8" descr=""/>
          <p:cNvPicPr/>
          <p:nvPr/>
        </p:nvPicPr>
        <p:blipFill>
          <a:blip r:embed="rId4"/>
          <a:stretch/>
        </p:blipFill>
        <p:spPr>
          <a:xfrm rot="20423400">
            <a:off x="4114800" y="1981080"/>
            <a:ext cx="3622680" cy="1055880"/>
          </a:xfrm>
          <a:prstGeom prst="rect">
            <a:avLst/>
          </a:prstGeom>
          <a:ln w="0">
            <a:noFill/>
          </a:ln>
        </p:spPr>
      </p:pic>
      <p:pic>
        <p:nvPicPr>
          <p:cNvPr id="1333" name="Picture 9" descr=""/>
          <p:cNvPicPr/>
          <p:nvPr/>
        </p:nvPicPr>
        <p:blipFill>
          <a:blip r:embed="rId5"/>
          <a:stretch/>
        </p:blipFill>
        <p:spPr>
          <a:xfrm rot="20382600">
            <a:off x="4115880" y="3660480"/>
            <a:ext cx="3622680" cy="106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1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1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80"/>
                                        <p:tgtEl>
                                          <p:spTgt spid="1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1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1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80"/>
                                        <p:tgtEl>
                                          <p:spTgt spid="1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1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1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1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0605a"/>
                </a:solidFill>
                <a:uFillTx/>
                <a:latin typeface="Arial"/>
              </a:rPr>
              <a:t>Солнечные лучи обладают удивительными свойствами.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263520" y="3505320"/>
            <a:ext cx="738648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лнечные лучи преломляются в каплях дождя или косой грани стекла, например, трёхгранной стеклянной призме, и появляется радуга. Это явление открыл анг.физик И.Ньютон – ему удалось разложить белый свет на 7 цветов спектра.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зма разделила составляющие луч волны на группы коротких, средних и длинных. Короткие волны дают ощущение красных и жёлтых цветов, а более длинные волны – синих и фиолетовых цветов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солнечном свете содержатся все цветовые волны. При смешении их получается впечатление белого цвета, а при разложении луча мы видим все цвета радуги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336" name="Picture 7" descr=""/>
          <p:cNvPicPr/>
          <p:nvPr/>
        </p:nvPicPr>
        <p:blipFill>
          <a:blip r:embed="rId4"/>
          <a:stretch/>
        </p:blipFill>
        <p:spPr>
          <a:xfrm>
            <a:off x="685800" y="1447920"/>
            <a:ext cx="6480000" cy="1828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1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1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1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1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1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1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1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1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1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853f35"/>
                </a:solidFill>
                <a:uFillTx/>
                <a:latin typeface="Arial"/>
              </a:rPr>
              <a:t>Волновая природа света – это основа восприятия цвета через органы зрения.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Красный, оранжевый, жёлтый, зелёный, голубой, синий и фиолетовый цвета составляют </a:t>
            </a:r>
            <a:r>
              <a:rPr b="1" i="1" lang="ru-RU" sz="2400" spc="-1" strike="noStrike" u="sng">
                <a:solidFill>
                  <a:srgbClr val="2f1311"/>
                </a:solidFill>
                <a:uFillTx/>
                <a:latin typeface="Arial"/>
              </a:rPr>
              <a:t>СПЕКТР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Цвета спектра всегда располагаются в такой последовательност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339" name="Picture 8" descr=""/>
          <p:cNvPicPr/>
          <p:nvPr/>
        </p:nvPicPr>
        <p:blipFill>
          <a:blip r:embed="rId3"/>
          <a:stretch/>
        </p:blipFill>
        <p:spPr>
          <a:xfrm rot="9701400">
            <a:off x="456480" y="1904760"/>
            <a:ext cx="3616200" cy="1369800"/>
          </a:xfrm>
          <a:prstGeom prst="rect">
            <a:avLst/>
          </a:prstGeom>
          <a:ln w="0">
            <a:noFill/>
          </a:ln>
        </p:spPr>
      </p:pic>
      <p:pic>
        <p:nvPicPr>
          <p:cNvPr id="1340" name="Picture 9" descr=""/>
          <p:cNvPicPr/>
          <p:nvPr/>
        </p:nvPicPr>
        <p:blipFill>
          <a:blip r:embed="rId4"/>
          <a:stretch/>
        </p:blipFill>
        <p:spPr>
          <a:xfrm rot="9496800">
            <a:off x="413640" y="4338720"/>
            <a:ext cx="3616200" cy="1752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1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55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16,-123,-5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0" dur="80"/>
                                        <p:tgtEl>
                                          <p:spTgt spid="1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55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16,-123,-5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80"/>
                                        <p:tgtEl>
                                          <p:spTgt spid="1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6" dur="80"/>
                                        <p:tgtEl>
                                          <p:spTgt spid="1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55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16,-123,-5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7" dur="80"/>
                                        <p:tgtEl>
                                          <p:spTgt spid="1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55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16,-123,-5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80"/>
                                        <p:tgtEl>
                                          <p:spTgt spid="1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ЦВЕТОВОЙ КРУГ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342" name="Picture 6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7315200" cy="5257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94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ccff"/>
                </a:solidFill>
                <a:latin typeface="Arial"/>
              </a:rPr>
              <a:t>Цветовой круг обычно делят на две части – тёплую и холодную.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Тёплые цвет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красные, желтые, оранжевые и все цвета, в которых имеется хотя бы частичка этих цветов. Теплые цвета напоминают цвет солнца, огня, того, что в природе действительно дает теп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Холодные цвет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синие, голубые, зеленые, сине-фиолетовые, сине-зеленые и цвета, которые можно получить от смешения с этими цветами. Холодные цвета ассоциируются со льдом, снегом, водой, лунным светом и т.п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5" name="Picture 8" descr=""/>
          <p:cNvPicPr/>
          <p:nvPr/>
        </p:nvPicPr>
        <p:blipFill>
          <a:blip r:embed="rId1"/>
          <a:stretch/>
        </p:blipFill>
        <p:spPr>
          <a:xfrm rot="21200400">
            <a:off x="314280" y="1293480"/>
            <a:ext cx="3809880" cy="2514600"/>
          </a:xfrm>
          <a:prstGeom prst="rect">
            <a:avLst/>
          </a:prstGeom>
          <a:ln w="0">
            <a:noFill/>
          </a:ln>
        </p:spPr>
      </p:pic>
      <p:pic>
        <p:nvPicPr>
          <p:cNvPr id="1346" name="Picture 9" descr=""/>
          <p:cNvPicPr/>
          <p:nvPr/>
        </p:nvPicPr>
        <p:blipFill>
          <a:blip r:embed="rId2"/>
          <a:stretch/>
        </p:blipFill>
        <p:spPr>
          <a:xfrm rot="703800">
            <a:off x="4878360" y="1425600"/>
            <a:ext cx="3957840" cy="2362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4" dur="1000"/>
                                        <p:tgtEl>
                                          <p:spTgt spid="1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9" dur="1000"/>
                                        <p:tgtEl>
                                          <p:spTgt spid="1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П.Пикассо «Подсолнухи», И.Репин «Бурлаки на Волге», А.Гримшоу «Вечер над Темзой», И.Левитан «»После дождя.Плёс»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48" name="Picture 9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2743200" cy="2361960"/>
          </a:xfrm>
          <a:prstGeom prst="rect">
            <a:avLst/>
          </a:prstGeom>
          <a:ln w="0">
            <a:noFill/>
          </a:ln>
        </p:spPr>
      </p:pic>
      <p:pic>
        <p:nvPicPr>
          <p:cNvPr id="1349" name="Picture 10" descr=""/>
          <p:cNvPicPr/>
          <p:nvPr/>
        </p:nvPicPr>
        <p:blipFill>
          <a:blip r:embed="rId2"/>
          <a:stretch/>
        </p:blipFill>
        <p:spPr>
          <a:xfrm>
            <a:off x="4648320" y="3962520"/>
            <a:ext cx="4038480" cy="2361960"/>
          </a:xfrm>
          <a:prstGeom prst="rect">
            <a:avLst/>
          </a:prstGeom>
          <a:ln w="0">
            <a:noFill/>
          </a:ln>
        </p:spPr>
      </p:pic>
      <p:pic>
        <p:nvPicPr>
          <p:cNvPr id="1350" name="Picture 11" descr=""/>
          <p:cNvPicPr/>
          <p:nvPr/>
        </p:nvPicPr>
        <p:blipFill>
          <a:blip r:embed="rId3"/>
          <a:stretch/>
        </p:blipFill>
        <p:spPr>
          <a:xfrm>
            <a:off x="4191120" y="1447920"/>
            <a:ext cx="3792240" cy="2341440"/>
          </a:xfrm>
          <a:prstGeom prst="rect">
            <a:avLst/>
          </a:prstGeom>
          <a:ln w="0">
            <a:noFill/>
          </a:ln>
        </p:spPr>
      </p:pic>
      <p:pic>
        <p:nvPicPr>
          <p:cNvPr id="1351" name="Picture 13" descr="Левитан, Исаак Ильич. После дождя. Плёс"/>
          <p:cNvPicPr/>
          <p:nvPr/>
        </p:nvPicPr>
        <p:blipFill>
          <a:blip r:embed="rId4"/>
          <a:stretch/>
        </p:blipFill>
        <p:spPr>
          <a:xfrm>
            <a:off x="838080" y="3962520"/>
            <a:ext cx="3353040" cy="2361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0" dur="5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7" dur="5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Tahoma"/>
              </a:rPr>
              <a:t>Вопросы на закрепление</a:t>
            </a: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то такое цвет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 чего зависит восприятие цвет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зовите 2 группы зрительного ощущения цвет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то такое спектр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кие бывают цвет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4" name="Picture 5" descr="MMAG00317_0000[1]"/>
          <p:cNvPicPr/>
          <p:nvPr/>
        </p:nvPicPr>
        <p:blipFill>
          <a:blip r:embed="rId1"/>
          <a:stretch/>
        </p:blipFill>
        <p:spPr>
          <a:xfrm>
            <a:off x="5257800" y="3276720"/>
            <a:ext cx="2819520" cy="3047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1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3" dur="500"/>
                                        <p:tgtEl>
                                          <p:spTgt spid="1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8" dur="80"/>
                                        <p:tgtEl>
                                          <p:spTgt spid="1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8,88,6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9" dur="80"/>
                                        <p:tgtEl>
                                          <p:spTgt spid="1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8,88,68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0" dur="80"/>
                                        <p:tgtEl>
                                          <p:spTgt spid="1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1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1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1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1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3" dur="500"/>
                                        <p:tgtEl>
                                          <p:spTgt spid="1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48720" cy="25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 u="sng">
                <a:solidFill>
                  <a:srgbClr val="ff0000"/>
                </a:solidFill>
                <a:uFillTx/>
                <a:latin typeface="Comic Sans MS"/>
              </a:rPr>
              <a:t>ЦВЕТ</a:t>
            </a:r>
            <a:r>
              <a:rPr b="0" lang="ru-RU" sz="6600" spc="-1" strike="noStrike">
                <a:solidFill>
                  <a:srgbClr val="000000"/>
                </a:solidFill>
                <a:latin typeface="Comic Sans MS"/>
              </a:rPr>
              <a:t> –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ЭТО ОДИН ИЗ ПРИЗНАКОВ ВИДИМЫХ НАМИ ПРЕДМЕТОВ, ОСОЗНАННОЕ ЗРИТЕЛЬНОЕ ОЩУЩЕНИ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6960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есь мир во всей его красоте, форму и материал, пространство и освещение мы видим благодаря разнообразию цвет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20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6870600" cy="22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аждому времени года соответствует определенная палитра сочетающихся друг с другом красок. Вы можете остановить свой выбор на нежных весенних и сочных летних, ярких осенних и приглушенных зимних тонах.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02" name="Picture 7" descr="Изображение"/>
          <p:cNvPicPr/>
          <p:nvPr/>
        </p:nvPicPr>
        <p:blipFill>
          <a:blip r:embed="rId1"/>
          <a:stretch/>
        </p:blipFill>
        <p:spPr>
          <a:xfrm>
            <a:off x="2438280" y="2895480"/>
            <a:ext cx="3652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3366"/>
                </a:solidFill>
                <a:uFillTx/>
                <a:latin typeface="Comic Sans MS"/>
              </a:rPr>
              <a:t>В Е С Н 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4191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Весной природа одевается в нежные и не слишком яркие наряды. Поэтому и весенняя палитра состоит из мягких пастельных тонов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кремового, розового, абрикосового, голубого, светло-желтого и охристого. А для контраста – цвет молодой зелени, маково-красный и приглушенный коричневы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 algn="r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Левитан «Март»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05" name="Picture 8" descr="MMj02888510000[1]"/>
          <p:cNvPicPr/>
          <p:nvPr/>
        </p:nvPicPr>
        <p:blipFill>
          <a:blip r:embed="rId1"/>
          <a:stretch/>
        </p:blipFill>
        <p:spPr>
          <a:xfrm>
            <a:off x="5181480" y="914400"/>
            <a:ext cx="2743200" cy="2514600"/>
          </a:xfrm>
          <a:prstGeom prst="rect">
            <a:avLst/>
          </a:prstGeom>
          <a:ln w="0">
            <a:noFill/>
          </a:ln>
        </p:spPr>
      </p:pic>
      <p:pic>
        <p:nvPicPr>
          <p:cNvPr id="1306" name="Picture 10" descr="Левитан, Исаак Ильич. Март"/>
          <p:cNvPicPr/>
          <p:nvPr/>
        </p:nvPicPr>
        <p:blipFill>
          <a:blip r:embed="rId2"/>
          <a:stretch/>
        </p:blipFill>
        <p:spPr>
          <a:xfrm>
            <a:off x="5105520" y="3809880"/>
            <a:ext cx="29718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20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" dur="2000"/>
                                        <p:tgtEl>
                                          <p:spTgt spid="1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" dur="2000"/>
                                        <p:tgtEl>
                                          <p:spTgt spid="1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3300"/>
                </a:solidFill>
                <a:uFillTx/>
                <a:latin typeface="Comic Sans MS"/>
              </a:rPr>
              <a:t>Л Е Т О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609800" y="1295280"/>
            <a:ext cx="377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Краски лета сочные, яркие и радостные. Палитру составляют травянисто-зеленый, алый, малиновый, синий, темно-желтый и оранжевый цвета. К каждому локальному цвету подбирается гамма разнообразных сложных оттенков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И.Шишкин «В Крыму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09" name="Picture 8" descr="MMj02832170000[1]"/>
          <p:cNvPicPr/>
          <p:nvPr/>
        </p:nvPicPr>
        <p:blipFill>
          <a:blip r:embed="rId1"/>
          <a:stretch/>
        </p:blipFill>
        <p:spPr>
          <a:xfrm>
            <a:off x="609480" y="1066680"/>
            <a:ext cx="3733920" cy="2338560"/>
          </a:xfrm>
          <a:prstGeom prst="rect">
            <a:avLst/>
          </a:prstGeom>
          <a:ln w="0">
            <a:noFill/>
          </a:ln>
        </p:spPr>
      </p:pic>
      <p:pic>
        <p:nvPicPr>
          <p:cNvPr id="1310" name="Picture 9" descr=""/>
          <p:cNvPicPr/>
          <p:nvPr/>
        </p:nvPicPr>
        <p:blipFill>
          <a:blip r:embed="rId2"/>
          <a:stretch/>
        </p:blipFill>
        <p:spPr>
          <a:xfrm>
            <a:off x="2057400" y="4114800"/>
            <a:ext cx="25146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7" dur="20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" dur="2000"/>
                                        <p:tgtEl>
                                          <p:spTgt spid="1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ffff"/>
                </a:solidFill>
                <a:uFillTx/>
                <a:latin typeface="Comic Sans MS"/>
              </a:rPr>
              <a:t>О С Е Н Ь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85800" y="3733920"/>
            <a:ext cx="76960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mic Sans MS"/>
              </a:rPr>
              <a:t>И.Левитан «Золотая осень. Слободка»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Осеннюю палитру составляют краски с теплым основным тоном, словно излучающие свет. Очень эффектно выглядят композиции, построенные на контрастах синего и оранжевого, желтого и фиолетового, красного и желтого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;</a:t>
            </a: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 темные красно-коричневый, бордовый и фиолетовый цвета ярче и заметнее в сочетании со светлыми охристыми тонами. Основную цветовую гамму может дополнить зеленый цвет хвои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13" name="Picture 8" descr="MMj02832190000[1]"/>
          <p:cNvPicPr/>
          <p:nvPr/>
        </p:nvPicPr>
        <p:blipFill>
          <a:blip r:embed="rId1"/>
          <a:stretch/>
        </p:blipFill>
        <p:spPr>
          <a:xfrm>
            <a:off x="533520" y="1143000"/>
            <a:ext cx="3124080" cy="2209680"/>
          </a:xfrm>
          <a:prstGeom prst="rect">
            <a:avLst/>
          </a:prstGeom>
          <a:ln w="0">
            <a:noFill/>
          </a:ln>
        </p:spPr>
      </p:pic>
      <p:pic>
        <p:nvPicPr>
          <p:cNvPr id="1314" name="Picture 10" descr="Левитан, Исаак Ильич. Золотая осень. Слободка"/>
          <p:cNvPicPr/>
          <p:nvPr/>
        </p:nvPicPr>
        <p:blipFill>
          <a:blip r:embed="rId2"/>
          <a:stretch/>
        </p:blipFill>
        <p:spPr>
          <a:xfrm>
            <a:off x="4191120" y="990720"/>
            <a:ext cx="36576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2000"/>
                                        <p:tgtEl>
                                          <p:spTgt spid="1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9" dur="20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2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  <p:animClr clrSpc="rgb">
                                      <p:cBhvr>
                                        <p:cTn id="174" dur="2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0000"/>
                                      </p:to>
                                    </p:animClr>
                                    <p:set>
                                      <p:cBhvr>
                                        <p:cTn id="175" dur="2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7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8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9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omic Sans MS"/>
              </a:rPr>
              <a:t>З И М 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609800" y="1447560"/>
            <a:ext cx="3771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Для зимней палитры характерны светлые оттенки голубого, фиолетового, сияющие синеватые тона льда, контрасты белого и черного цветов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Композиции чаще всего ясные, четкие, лаконичные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Романтический образ зимы помогут создать нежные тона, удачно сочетающиеся с нейтральными серыми оттенкам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17" name="Picture 8" descr="MMj03237440000[1]"/>
          <p:cNvPicPr/>
          <p:nvPr/>
        </p:nvPicPr>
        <p:blipFill>
          <a:blip r:embed="rId1"/>
          <a:stretch/>
        </p:blipFill>
        <p:spPr>
          <a:xfrm>
            <a:off x="533520" y="1143000"/>
            <a:ext cx="3657600" cy="2076480"/>
          </a:xfrm>
          <a:prstGeom prst="rect">
            <a:avLst/>
          </a:prstGeom>
          <a:ln w="0">
            <a:noFill/>
          </a:ln>
        </p:spPr>
      </p:pic>
      <p:pic>
        <p:nvPicPr>
          <p:cNvPr id="1318" name="Picture 9" descr="MMj02889390000[1]"/>
          <p:cNvPicPr/>
          <p:nvPr/>
        </p:nvPicPr>
        <p:blipFill>
          <a:blip r:embed="rId2"/>
          <a:stretch/>
        </p:blipFill>
        <p:spPr>
          <a:xfrm rot="1199400">
            <a:off x="1142640" y="3962160"/>
            <a:ext cx="3505320" cy="2133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Цвет может не только радовать, но и вызывать раздражение, тревогу, чувство тоски или грусти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301680" y="4495680"/>
            <a:ext cx="854064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дним из первых, кто начал исследовать воздействие цвета на человека, был И.Гёте. Он любил рассматривать один и тот же пейзаж через стёкла зелёного, жёлтого, красного и других цветов и наблюдать, как при этом изменяются восприятие и эмоциональное состояние челове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1" name="Picture 7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822960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6" dur="20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153280" cy="38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изобразительной деятельности принято считать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533520" y="2666880"/>
            <a:ext cx="81532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5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ffffff"/>
                </a:solidFill>
                <a:uFillTx/>
                <a:latin typeface="Arial"/>
              </a:rPr>
              <a:t>Красный цвет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– возбуждающий, согревающий, оживляющий, активный, энергичный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100" spc="-1" strike="noStrike" u="sng">
                <a:solidFill>
                  <a:srgbClr val="ffffff"/>
                </a:solidFill>
                <a:uFillTx/>
                <a:latin typeface="Arial"/>
              </a:rPr>
              <a:t>Жёлтый цвет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– тёплый, бодрящий, весёлый, привлекательный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ffffff"/>
                </a:solidFill>
                <a:uFillTx/>
                <a:latin typeface="Arial"/>
              </a:rPr>
              <a:t>Оранжевый цвет-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весёлый, радостный, пламенный, добрый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ffffff"/>
                </a:solidFill>
                <a:uFillTx/>
                <a:latin typeface="Arial"/>
              </a:rPr>
              <a:t>Зелёный цвет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–спокойный, создаёт приятное и мирное настроение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ffffff"/>
                </a:solidFill>
                <a:uFillTx/>
                <a:latin typeface="Arial"/>
              </a:rPr>
              <a:t>Синий цвет-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 серьёзный, печальный, тоскливый, сентиментальный, спокойный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2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ffffff"/>
                </a:solidFill>
                <a:uFillTx/>
                <a:latin typeface="Arial"/>
              </a:rPr>
              <a:t>Фиолетовый цвет-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соединяет эмоциональное воздействие красного и синего цветов – он и притягивает, и отталкивает, полон жизни и вместе с тем вызывает тоску и грусть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4" name="Picture 7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84872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" dur="1000"/>
                                        <p:tgtEl>
                                          <p:spTgt spid="1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7" dur="2000"/>
                                        <p:tgtEl>
                                          <p:spTgt spid="1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"/>
                                        <p:tgtEl>
                                          <p:spTgt spid="1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400" fill="hold"/>
                                        <p:tgtEl>
                                          <p:spTgt spid="1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400" fill="hold"/>
                                        <p:tgtEl>
                                          <p:spTgt spid="1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6-04-09T06:34:26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