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3E92-81EA-4D98-B971-D4E86F8C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FFED-7EEE-4798-9B40-2A7A4C58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A99-BFF2-4287-91D6-D57E926C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A4F-0D69-4B25-B805-E44C77F34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583-154E-4B23-BE4D-10860169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3A8D-EAD3-42F1-B5B8-50A06BD9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2BA8-507B-4B0F-AC46-CC352C6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AEB-D561-464B-B5BF-1911A79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CCE-4F7F-4786-8325-F7422702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587-8124-42F7-A99C-7FB539F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E3C-DF60-4761-9643-3F8C789B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47B3-49B7-40F1-BFA4-37DC1FF6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423C-0E9A-4149-B232-4A05E6C81A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521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· 9                     90 : 1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· 5                         4 ·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· 3                       20 - 4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· 4                       90 - 9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· 6                     15 + 10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4"/>
          <p:cNvSpPr/>
          <p:nvPr/>
        </p:nvSpPr>
        <p:spPr>
          <a:xfrm>
            <a:off x="2928960" y="1571760"/>
            <a:ext cx="3071880" cy="207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5"/>
          <p:cNvSpPr/>
          <p:nvPr/>
        </p:nvSpPr>
        <p:spPr>
          <a:xfrm>
            <a:off x="2857680" y="2286000"/>
            <a:ext cx="2786040" cy="192888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ая соединительная линия 7"/>
          <p:cNvSpPr/>
          <p:nvPr/>
        </p:nvSpPr>
        <p:spPr>
          <a:xfrm flipV="1">
            <a:off x="2857680" y="1643040"/>
            <a:ext cx="2857320" cy="128592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 flipV="1">
            <a:off x="2857680" y="2928960"/>
            <a:ext cx="3143160" cy="64296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ая соединительная линия 14"/>
          <p:cNvSpPr/>
          <p:nvPr/>
        </p:nvSpPr>
        <p:spPr>
          <a:xfrm flipV="1">
            <a:off x="2786040" y="2357280"/>
            <a:ext cx="3429000" cy="18576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57120" y="241200"/>
            <a:ext cx="8643960" cy="60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-132, Е-40, Л-250, И-30, М-50, С-72, У-8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+3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: 4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 + 40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: 3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· 2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+ 48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 + 41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: 5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0 : 7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0 - 190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2346840" y="2857680"/>
            <a:ext cx="610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Делим сумм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00:14:36Z</dcterms:created>
  <dc:creator>User</dc:creator>
  <dc:description/>
  <dc:language>en-US</dc:language>
  <cp:lastModifiedBy>User</cp:lastModifiedBy>
  <dcterms:modified xsi:type="dcterms:W3CDTF">2016-02-18T01:02:51Z</dcterms:modified>
  <cp:revision>5</cp:revision>
  <dc:subject/>
  <dc:title>9 · 9                     90 : 10 5 · 5                         4 · 9 3 · 3                       20 - 4 4 · 4                       90 - 9 6 · 6                     15 + 10</dc:title>
</cp:coreProperties>
</file>