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C04-CABC-4EF7-AE7D-F1C4FFF8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C89-019E-42AF-A835-47EB4FEF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083-F83E-4342-9653-FC108B06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9D1-7AA9-4DD8-8B0D-9596B707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D72-88F0-41A3-90F5-E07115CD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C08-DEA9-4827-9777-4B05A69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B06-4217-4362-8F33-59D398BB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FA7-DA1C-4BB6-8C3C-497E3BBA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60D-6624-4B07-97A5-A37B88B5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C45-88BC-4CC6-A0C2-6CF93321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627-1E2B-4627-A7CE-215310B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C48-09C0-4B34-AF51-D8E8A41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AA72-7904-4587-9B76-7E5CA1013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· 9                     90 :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· 5                         4 · 9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· 3                       20 - 4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· 4                       90 - 9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· 6                     15 + 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4"/>
          <p:cNvSpPr/>
          <p:nvPr/>
        </p:nvSpPr>
        <p:spPr>
          <a:xfrm>
            <a:off x="2928960" y="1571760"/>
            <a:ext cx="3071880" cy="207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2857680" y="2286000"/>
            <a:ext cx="2786040" cy="19288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 flipV="1">
            <a:off x="2857680" y="1643040"/>
            <a:ext cx="2857320" cy="12859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 flipV="1">
            <a:off x="2857680" y="2928960"/>
            <a:ext cx="3143160" cy="6429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14"/>
          <p:cNvSpPr/>
          <p:nvPr/>
        </p:nvSpPr>
        <p:spPr>
          <a:xfrm flipV="1">
            <a:off x="2786040" y="2357280"/>
            <a:ext cx="3429000" cy="18576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57120" y="241200"/>
            <a:ext cx="86439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-132, Е-40, Л-250, И-30, М-50, С-72, У-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+3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: 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 + 40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: 3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· 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+ 48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+ 41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: 5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 : 7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0 - 190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346840" y="2857680"/>
            <a:ext cx="610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елим сумм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00:14:36Z</dcterms:created>
  <dc:creator>User</dc:creator>
  <dc:description/>
  <dc:language>en-US</dc:language>
  <cp:lastModifiedBy>User</cp:lastModifiedBy>
  <dcterms:modified xsi:type="dcterms:W3CDTF">2016-02-18T01:02:51Z</dcterms:modified>
  <cp:revision>5</cp:revision>
  <dc:subject/>
  <dc:title>9 · 9                     90 : 10 5 · 5                         4 · 9 3 · 3                       20 - 4 4 · 4                       90 - 9 6 · 6                     15 + 10</dc:title>
</cp:coreProperties>
</file>