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52D-7466-4602-A3F2-18418E83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5ED-6BA2-4851-BF98-F6A24A2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14E-56D9-4205-85C4-FE9F36DE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942-FD48-491E-8B5A-A137107C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2D0-0580-4A22-80F6-F7737031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21F-07D3-4CF7-8E2A-7D41BF48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948-9653-4485-B3B8-992578E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E9B-77FC-4C0C-9342-36CC72AB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840-A208-4159-B501-5D40092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B27-987B-4B45-8677-5E2FD8BD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15D-4370-4F9F-9304-A9CA001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1C3-6C92-4F22-B8D6-73D5303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E8FB-4A3E-4590-8BEE-B586A445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ть должны всегда в порядке:                                                                           Ручки, книжки и тетрадки.                                                                                                                А девиз у нас такой:                                                                                                             «Все, что надо, - под рукой!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паша\Desktop\Рисунок2.png"/>
          <p:cNvPicPr/>
          <p:nvPr/>
        </p:nvPicPr>
        <p:blipFill>
          <a:blip r:embed="rId1"/>
          <a:stretch/>
        </p:blipFill>
        <p:spPr>
          <a:xfrm>
            <a:off x="5867280" y="4191120"/>
            <a:ext cx="30481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154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17:06:16Z</dcterms:created>
  <dc:creator>Наталья Байгузина</dc:creator>
  <dc:description/>
  <dc:language>en-US</dc:language>
  <cp:lastModifiedBy>user</cp:lastModifiedBy>
  <dcterms:modified xsi:type="dcterms:W3CDTF">2016-02-17T20:55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