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FB9-9E2D-4A85-BCFA-66D87EA3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93B2-FFAC-4B76-A13F-D46F169A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582-4876-467C-B762-F92627D0E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9A2-102D-4F74-AEB0-E0AF9B83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1EE-1828-4E05-AC04-78F5C221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043-DD80-435D-A7E4-8BF854BE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ADB-5219-4AC7-BDD7-B3E0C767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1C79-307B-4D53-97ED-AC533C9A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D382-B357-4697-99C0-7DB0A1AD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A4B0-2774-40AB-9B6E-024183C7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507F-85EB-4BAE-9654-A40A9729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F7DF-13A0-4E69-9B04-A316E4D1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0F97-A7B7-4494-8DDE-F8D73EF27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ыть должны всегда в порядке:                                                                           Ручки, книжки и тетрадки.                                                                                                                А девиз у нас такой:                                                                                                             «Все, что надо, - под рукой!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C:\Users\паша\Desktop\Рисунок2.png"/>
          <p:cNvPicPr/>
          <p:nvPr/>
        </p:nvPicPr>
        <p:blipFill>
          <a:blip r:embed="rId1"/>
          <a:stretch/>
        </p:blipFill>
        <p:spPr>
          <a:xfrm>
            <a:off x="5867280" y="4191120"/>
            <a:ext cx="304812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0154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7T17:06:16Z</dcterms:created>
  <dc:creator>Наталья Байгузина</dc:creator>
  <dc:description/>
  <dc:language>en-US</dc:language>
  <cp:lastModifiedBy>user</cp:lastModifiedBy>
  <dcterms:modified xsi:type="dcterms:W3CDTF">2016-02-17T20:55:4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