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3AC-9513-4C76-8A31-1628A473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801-5925-4259-87D1-2A704DB2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F79-72F2-43B0-BAAA-601601A7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35E-FBBB-4DC4-A504-3F94800B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B05-1F8E-4E36-9511-6AB5E803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068-9A6E-481A-BF89-30ED6FDE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750-2004-4D4C-B779-4A9C7257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FC6-29FA-4753-9DFD-E29A44E4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4B9-6B5F-4504-87E0-88A07465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CC3-DB22-4269-84F7-59AED51E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9C7-45A6-42C1-8E8F-D8E18298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24D-097C-44F8-BDFD-F1B0FC7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E8D3-9494-40E2-A30B-4B77E72E3A2F}" type="datetime">
              <a:rPr b="0" lang="ru-RU" sz="1200" spc="-1" strike="noStrike">
                <a:solidFill>
                  <a:srgbClr val="898989"/>
                </a:solidFill>
                <a:latin typeface="Candar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D881-D295-405B-A02E-E0D00CD94C78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9682-4D7F-412F-9E46-32302501950D}" type="slidenum">
              <a:rPr b="1" lang="ru-RU" sz="4000" spc="-1" strike="noStrike">
                <a:solidFill>
                  <a:srgbClr val="ffc000"/>
                </a:solidFill>
                <a:latin typeface="Candara"/>
              </a:rPr>
              <a:t>1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1835280" y="907920"/>
            <a:ext cx="502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Русский яз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Рисунок3"/>
          <p:cNvPicPr/>
          <p:nvPr/>
        </p:nvPicPr>
        <p:blipFill>
          <a:blip r:embed="rId2"/>
          <a:stretch/>
        </p:blipFill>
        <p:spPr>
          <a:xfrm>
            <a:off x="539640" y="2637000"/>
            <a:ext cx="3667320" cy="373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Рисунок11"/>
          <p:cNvPicPr/>
          <p:nvPr/>
        </p:nvPicPr>
        <p:blipFill>
          <a:blip r:embed="rId3"/>
          <a:stretch/>
        </p:blipFill>
        <p:spPr>
          <a:xfrm>
            <a:off x="6300720" y="1052640"/>
            <a:ext cx="2178000" cy="2361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4500720" y="4365720"/>
            <a:ext cx="3887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ndar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1187280" y="40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71680" y="2349360"/>
            <a:ext cx="788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писать синквейн со словами:  «капель» - девочк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«ручей» - мальч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book17"/>
          <p:cNvPicPr/>
          <p:nvPr/>
        </p:nvPicPr>
        <p:blipFill>
          <a:blip r:embed="rId2"/>
          <a:stretch/>
        </p:blipFill>
        <p:spPr>
          <a:xfrm>
            <a:off x="6300720" y="4797360"/>
            <a:ext cx="23767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ndar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187280" y="1268280"/>
            <a:ext cx="727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187280" y="3284640"/>
            <a:ext cx="69138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gallery_1_29_20415.gif"/>
          <p:cNvPicPr/>
          <p:nvPr/>
        </p:nvPicPr>
        <p:blipFill>
          <a:blip r:embed="rId2"/>
          <a:stretch/>
        </p:blipFill>
        <p:spPr>
          <a:xfrm>
            <a:off x="5286240" y="3786120"/>
            <a:ext cx="2924280" cy="261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book17"/>
          <p:cNvPicPr/>
          <p:nvPr/>
        </p:nvPicPr>
        <p:blipFill>
          <a:blip r:embed="rId3"/>
          <a:stretch/>
        </p:blipFill>
        <p:spPr>
          <a:xfrm>
            <a:off x="928800" y="571680"/>
            <a:ext cx="2376360" cy="1433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3"/>
          <p:cNvSpPr/>
          <p:nvPr/>
        </p:nvSpPr>
        <p:spPr>
          <a:xfrm>
            <a:off x="1230480" y="2384280"/>
            <a:ext cx="72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Comic Sans MS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032F-1DED-4B39-BD3D-4F7E1B0964C3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-176040" y="6984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827720" y="1071720"/>
            <a:ext cx="519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Чистопис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1547640" y="220500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о ы в е и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3456000" y="4005360"/>
            <a:ext cx="230508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omic Sans MS"/>
              </a:rPr>
              <a:t>Объясните  значение выражения</a:t>
            </a:r>
            <a:r>
              <a:rPr b="1" lang="ru-RU" sz="3600" spc="-1" strike="noStrike">
                <a:solidFill>
                  <a:srgbClr val="f2f2f2"/>
                </a:solidFill>
                <a:latin typeface="Comic Sans MS"/>
              </a:rPr>
              <a:t> :  </a:t>
            </a: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«</a:t>
            </a:r>
            <a:r>
              <a:rPr b="1" lang="ru-RU" sz="4800" spc="-1" strike="noStrike">
                <a:solidFill>
                  <a:srgbClr val="ffc000"/>
                </a:solidFill>
                <a:latin typeface="Comic Sans MS"/>
              </a:rPr>
              <a:t>Медведь на ухо наступил»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640" y="270828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omic Sans MS"/>
              </a:rPr>
              <a:t>Нет музыкального слух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A44A-CFA4-46C4-BEA2-A2B9BBB558B7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724360" y="3500280"/>
            <a:ext cx="270684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НЕУМЕЛАЯ ПОМОЩЬ, ПРИНОСЯЩАЯ ВРЕД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«Медвежья услуга»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C6A1-D924-4488-8801-1881FF021071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E:\14.03\predlozhenie1.jpg"/>
          <p:cNvPicPr/>
          <p:nvPr/>
        </p:nvPicPr>
        <p:blipFill>
          <a:blip r:embed="rId2"/>
          <a:stretch/>
        </p:blipFill>
        <p:spPr>
          <a:xfrm>
            <a:off x="6084720" y="3068640"/>
            <a:ext cx="2448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CF4D-1E62-445E-A78F-27A49DF9370E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E:\14.03\img17.jpg"/>
          <p:cNvPicPr/>
          <p:nvPr/>
        </p:nvPicPr>
        <p:blipFill>
          <a:blip r:embed="rId2"/>
          <a:stretch/>
        </p:blipFill>
        <p:spPr>
          <a:xfrm>
            <a:off x="539640" y="476280"/>
            <a:ext cx="8064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477A-8702-4C9F-ADE4-DA647CED671D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258920" y="853920"/>
            <a:ext cx="68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Наступила вес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5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356868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39600" y="-10008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879B-09BC-4F44-96A3-6C87C6004544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555480" y="1459080"/>
            <a:ext cx="810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omic Sans MS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«Главные члены предложения. Части речи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817560" y="4292640"/>
            <a:ext cx="80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19E9-F328-4F87-8BB5-BD80A9BE29E6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258920" y="98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555480" y="1450800"/>
            <a:ext cx="80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omic Sans MS"/>
              </a:rPr>
              <a:t>Творче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omic Sans MS"/>
              </a:rPr>
              <a:t>Синквей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7"/>
          <p:cNvSpPr/>
          <p:nvPr/>
        </p:nvSpPr>
        <p:spPr>
          <a:xfrm>
            <a:off x="6553080" y="6356520"/>
            <a:ext cx="19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7"/>
          <p:cNvSpPr/>
          <p:nvPr/>
        </p:nvSpPr>
        <p:spPr>
          <a:xfrm>
            <a:off x="6732720" y="6165720"/>
            <a:ext cx="19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5D7D-85D9-4BF4-A8C0-B8E6243F9566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555480" y="1093680"/>
            <a:ext cx="80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2"/>
          <a:srcRect l="0" t="16730" r="0" b="0"/>
          <a:stretch/>
        </p:blipFill>
        <p:spPr>
          <a:xfrm>
            <a:off x="468360" y="2104920"/>
            <a:ext cx="6840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7:50:56Z</dcterms:created>
  <dc:creator>homepc</dc:creator>
  <dc:description/>
  <dc:language>en-US</dc:language>
  <cp:lastModifiedBy>Admin</cp:lastModifiedBy>
  <dcterms:modified xsi:type="dcterms:W3CDTF">2016-03-14T17:15:45Z</dcterms:modified>
  <cp:revision>46</cp:revision>
  <dc:subject/>
  <dc:title>Слайд 1</dc:title>
</cp:coreProperties>
</file>