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D7EA-D18C-494B-A0C5-D93661D979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4C53-B064-44DF-9459-28DD2BEB3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58FA-979A-4124-BB93-4DDD29665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1EB6-D478-4F17-B1C6-42DC71DF3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27327-4B24-4BB3-B288-3EF9141605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9F4D-08A5-4455-9812-864A945E79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FD6AA-D5A1-4009-A866-D3A218920A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5449-A309-4397-997C-C76001FBB2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F6D0-862D-49FC-B115-17A871DF91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310AD-BB81-4F8E-AA3D-BEB6D3E92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243D-FDC0-49AE-917F-49FF8BF5D7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CDAE-0D69-4184-A04F-582D95A35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83BED-97CC-4E77-B26C-F3D723BA6A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4A65C-9C17-45EC-B0F9-BD435BAF0BD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C1DBE-D45B-42A9-9B31-1AFE6FCF67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3322-3158-43F1-A490-E8E3C63C56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5657D-E2D8-4F15-AE4E-A98AE947BE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86A2-509A-448B-A260-1EB0195E3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B08A-E102-49D5-812A-E161A53DD0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3558E-DF8D-4C02-8B9A-F204FF58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E6D2A-E219-49C2-A317-D258012954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B4E3-8FF9-476E-AD07-91B364AED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67D5-7558-4939-95E8-00E40FB4F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5AE1D-2463-4378-857F-A1EC37EBF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1B412-182E-4499-8E59-32168C2DB0E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E8B1B8-42B6-4D1E-98A6-7C28BF0A85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7280" y="3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то землю лелеет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з хозяина земля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ать кормит дете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3280" y="3024360"/>
            <a:ext cx="4895640" cy="863280"/>
          </a:xfrm>
          <a:prstGeom prst="roundRect">
            <a:avLst>
              <a:gd name="adj" fmla="val 18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углая сир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8720" y="4392720"/>
            <a:ext cx="4680000" cy="936360"/>
          </a:xfrm>
          <a:prstGeom prst="roundRect">
            <a:avLst>
              <a:gd name="adj" fmla="val 167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земля лю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51280" y="5688000"/>
            <a:ext cx="4032360" cy="863640"/>
          </a:xfrm>
          <a:prstGeom prst="roundRect">
            <a:avLst>
              <a:gd name="adj" fmla="val 181"/>
            </a:avLst>
          </a:prstGeom>
          <a:solidFill>
            <a:srgbClr val="cfe7f5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го земля жале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79280" y="409680"/>
            <a:ext cx="8713800" cy="608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6299" r="0" b="9449"/>
          <a:stretch/>
        </p:blipFill>
        <p:spPr>
          <a:xfrm>
            <a:off x="179280" y="754200"/>
            <a:ext cx="8785440" cy="5549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382680"/>
            <a:ext cx="8642160" cy="6092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95120"/>
            <a:ext cx="8713800" cy="6521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42160" cy="575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319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0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763640" y="836640"/>
            <a:ext cx="6048360" cy="1728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Берегите почву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528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6920" y="123336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землю лелеет, того земля жале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з хозяина земля-круглая сир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ать кормит детей, как земля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68360" y="404640"/>
            <a:ext cx="8137440" cy="24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Monotype Corsiva"/>
              </a:rPr>
              <a:t> </a:t>
            </a: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onotype Corsiva"/>
              </a:rPr>
              <a:t>Кто землю лелеет,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Monotype Corsiva"/>
              </a:rPr>
              <a:t>того и земля жалеет.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Monotype Corsiva"/>
              <a:ea typeface="Monotype Corsiva"/>
            </a:endParaRPr>
          </a:p>
        </p:txBody>
      </p:sp>
      <p:sp>
        <p:nvSpPr>
          <p:cNvPr id="92" name=""/>
          <p:cNvSpPr/>
          <p:nvPr/>
        </p:nvSpPr>
        <p:spPr>
          <a:xfrm>
            <a:off x="690480" y="4292640"/>
            <a:ext cx="786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Чёрная, сыпучая, в поле насыпана кучами.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Если хочешь, можешь брать и сажат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58920" y="1197000"/>
            <a:ext cx="7489800" cy="36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Monotype Corsiva"/>
              </a:rPr>
              <a:t>Зачем и как люди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5261c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Monotype Corsiva"/>
              </a:rPr>
              <a:t>заботятся о почве 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5261c"/>
                  </a:gs>
                  <a:gs pos="100000">
                    <a:srgbClr val="dcebf5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187200"/>
            <a:ext cx="8642160" cy="6483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58920" y="128520"/>
            <a:ext cx="6697800" cy="6531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684360"/>
            <a:ext cx="8785440" cy="5489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950160" cy="356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4276800" cy="28292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257040"/>
            <a:ext cx="7920000" cy="646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4:47:07Z</dcterms:created>
  <dc:creator>техносила</dc:creator>
  <dc:description/>
  <dc:language>en-US</dc:language>
  <cp:lastModifiedBy>Пользователь</cp:lastModifiedBy>
  <dcterms:modified xsi:type="dcterms:W3CDTF">2014-02-10T05:49:11Z</dcterms:modified>
  <cp:revision>9</cp:revision>
  <dc:subject/>
  <dc:title>Слайд 1</dc:title>
</cp:coreProperties>
</file>