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830A-4B21-433C-A8C1-06396EABD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8D9D-D800-455E-BC47-5A85D0600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F0F4-BBF0-466F-9A56-7C00D50E1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8B64-558B-4A1C-B6CE-D30C8687E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DC862-C9E5-4BD3-A7D3-D89E815B13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1715-3870-4739-A8AB-ACFA825A77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9DC1-6007-4032-9563-C610DBE1DF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FC0B-6519-4166-9B17-9EAC11CCA1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864B-91EF-4625-8AE7-180549B0B5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0C6C-6EC0-4A34-A31B-8C64330D13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E1D23-4659-4BC3-AAE9-E46F9284B4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4DE1-1D8D-4C43-93B9-50035AF07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69CB-CC0A-4DD3-B499-24100D0180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AEBE-D7BB-4B3A-851C-753AD68D02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7841-824C-40B2-B98C-C84F6582EE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681E-0C76-4159-8D3E-959F7B4615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2AEE-9E95-4F3E-B555-21B8751653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F492-922E-4AB0-A987-30448B797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0684-F5AE-4123-A5E5-CC9240F1E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621C-91FE-4B97-8754-86783E7DA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DEED-EF4F-4B48-9F11-05A066A5D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D170-87B2-46FB-8325-CBCA20051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FC4D-DE85-4910-85E4-700F158F0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FFCF-1D73-4198-9995-AD63BDBF6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A6B46-5BEB-4159-9AEB-D54CEEEB62D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4450CF-B235-4F3B-850B-A3E68E02EC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7280" y="3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землю леле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з хозяина земля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ть кормит дете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280" y="3024360"/>
            <a:ext cx="4895640" cy="863280"/>
          </a:xfrm>
          <a:prstGeom prst="roundRect">
            <a:avLst>
              <a:gd name="adj" fmla="val 181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углая сир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8720" y="4392720"/>
            <a:ext cx="4680000" cy="936360"/>
          </a:xfrm>
          <a:prstGeom prst="roundRect">
            <a:avLst>
              <a:gd name="adj" fmla="val 167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емля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51280" y="5688000"/>
            <a:ext cx="4032360" cy="863640"/>
          </a:xfrm>
          <a:prstGeom prst="roundRect">
            <a:avLst>
              <a:gd name="adj" fmla="val 181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го земля жал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409680"/>
            <a:ext cx="8713800" cy="6087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6299" r="0" b="9449"/>
          <a:stretch/>
        </p:blipFill>
        <p:spPr>
          <a:xfrm>
            <a:off x="179280" y="754200"/>
            <a:ext cx="8785440" cy="554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382680"/>
            <a:ext cx="8642160" cy="6092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95120"/>
            <a:ext cx="8713800" cy="6521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763640" y="836640"/>
            <a:ext cx="604836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ерегите почву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123336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землю лелеет, того земля жале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з хозяина земля-круглая сир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ь кормит детей, как земля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13744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onotype Corsiva"/>
              </a:rPr>
              <a:t> </a:t>
            </a: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Кто землю лелеет,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Corsiva"/>
              </a:rPr>
              <a:t>того и земля жалеет.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2" name=""/>
          <p:cNvSpPr/>
          <p:nvPr/>
        </p:nvSpPr>
        <p:spPr>
          <a:xfrm>
            <a:off x="690480" y="4292640"/>
            <a:ext cx="786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ёрная, сыпучая, в поле насыпана кучами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хочешь, можешь брать и сажа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58920" y="1197000"/>
            <a:ext cx="748980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Monotype Corsiva"/>
              </a:rPr>
              <a:t>Зачем и как люди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Monotype Corsiva"/>
              </a:rPr>
              <a:t>заботятся о почве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58920" y="128520"/>
            <a:ext cx="6697800" cy="653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684360"/>
            <a:ext cx="8785440" cy="548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950160" cy="356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4276800" cy="2829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257040"/>
            <a:ext cx="7920000" cy="646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4:47:07Z</dcterms:created>
  <dc:creator>техносила</dc:creator>
  <dc:description/>
  <dc:language>en-US</dc:language>
  <cp:lastModifiedBy>Пользователь</cp:lastModifiedBy>
  <dcterms:modified xsi:type="dcterms:W3CDTF">2014-02-10T05:49:11Z</dcterms:modified>
  <cp:revision>9</cp:revision>
  <dc:subject/>
  <dc:title>Слайд 1</dc:title>
</cp:coreProperties>
</file>