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B341-58EA-4922-BA6D-4DC009B7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C382-20EF-4378-AC7F-29000E22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7CE-38AD-4B42-867A-1162CDA4E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16F-BB17-4CCC-8430-9D81752D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46A-FE62-4FF6-9017-63BB6BFD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DE9-DBA4-47FA-9946-0BCF4F02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D8E2-8E95-42B0-8D27-15EBFA02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6EB2-78FC-405A-BB83-56EAF31A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F9F4-D743-4335-AB8F-4304307B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A6C-A1E0-43C6-8E72-821D649D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ABFA-F3D2-4B28-8168-8A19D6B2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CDB5-2F47-433E-BAF9-F9F472FE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8D8E-6D3D-4BA8-9865-6C66950B31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428760" y="119016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 – 90 =                   380 + 130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0 – 70 =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820 – 740 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 + 570 =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90 +360 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2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+100 =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510 – 260 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" name="Прямая со стрелкой 3"/>
          <p:cNvCxnSpPr/>
          <p:nvPr/>
        </p:nvCxnSpPr>
        <p:spPr>
          <a:xfrm>
            <a:off x="2571840" y="1499760"/>
            <a:ext cx="2071800" cy="1143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" name="Прямая со стрелкой 4"/>
          <p:cNvCxnSpPr/>
          <p:nvPr/>
        </p:nvCxnSpPr>
        <p:spPr>
          <a:xfrm flipH="1" flipV="1">
            <a:off x="2642760" y="2071080"/>
            <a:ext cx="1991520" cy="562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" name="Прямая со стрелкой 7"/>
          <p:cNvCxnSpPr/>
          <p:nvPr/>
        </p:nvCxnSpPr>
        <p:spPr>
          <a:xfrm flipV="1">
            <a:off x="2643120" y="1571040"/>
            <a:ext cx="2000880" cy="500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" name="Прямая со стрелкой 9"/>
          <p:cNvCxnSpPr/>
          <p:nvPr/>
        </p:nvCxnSpPr>
        <p:spPr>
          <a:xfrm flipH="1" rot="16200000">
            <a:off x="3857400" y="2428560"/>
            <a:ext cx="1500840" cy="72000"/>
          </a:xfrm>
          <a:prstGeom prst="curvedConnector5">
            <a:avLst>
              <a:gd name="adj1" fmla="val 50000"/>
              <a:gd name="adj2" fmla="val 49748"/>
              <a:gd name="adj3" fmla="val 50000"/>
            </a:avLst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" name="Прямая со стрелкой 14"/>
          <p:cNvCxnSpPr/>
          <p:nvPr/>
        </p:nvCxnSpPr>
        <p:spPr>
          <a:xfrm flipH="1" flipV="1">
            <a:off x="2857320" y="2642400"/>
            <a:ext cx="1776960" cy="562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" name="Прямая со стрелкой 16"/>
          <p:cNvCxnSpPr/>
          <p:nvPr/>
        </p:nvCxnSpPr>
        <p:spPr>
          <a:xfrm flipV="1">
            <a:off x="2714760" y="2071080"/>
            <a:ext cx="2071800" cy="57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Прямая со стрелкой 18"/>
          <p:cNvCxnSpPr/>
          <p:nvPr/>
        </p:nvCxnSpPr>
        <p:spPr>
          <a:xfrm flipH="1">
            <a:off x="2428560" y="2071800"/>
            <a:ext cx="2286720" cy="1072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84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3, 123, 423, 623, 223, 72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"/>
          <p:cNvSpPr/>
          <p:nvPr/>
        </p:nvSpPr>
        <p:spPr>
          <a:xfrm>
            <a:off x="679680" y="565560"/>
            <a:ext cx="7960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положите числовую последователь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порядке убыва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2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величьте каждое из однозначных натуральных чисел  в 100 раз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  •  100 = 100  •  3 = 30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8  •  100 = 100  •  8 = 80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  •  100 = 100  •  5 = 500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9  •  100 = 100  •  9 = 900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  •  100 = 100  •  4 = 40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7  •  100 = 100  •  7 = 700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3  •  100 = 100  •  23 = 230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282888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Заголовок 3"/>
          <p:cNvSpPr/>
          <p:nvPr/>
        </p:nvSpPr>
        <p:spPr>
          <a:xfrm>
            <a:off x="2928960" y="428760"/>
            <a:ext cx="282888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Заголовок 3"/>
          <p:cNvSpPr/>
          <p:nvPr/>
        </p:nvSpPr>
        <p:spPr>
          <a:xfrm>
            <a:off x="5929200" y="357120"/>
            <a:ext cx="2828880" cy="25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Заголовок 3"/>
          <p:cNvSpPr/>
          <p:nvPr/>
        </p:nvSpPr>
        <p:spPr>
          <a:xfrm>
            <a:off x="142920" y="3571920"/>
            <a:ext cx="282888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Заголовок 3"/>
          <p:cNvSpPr/>
          <p:nvPr/>
        </p:nvSpPr>
        <p:spPr>
          <a:xfrm>
            <a:off x="3000240" y="3571920"/>
            <a:ext cx="282924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Заголовок 3"/>
          <p:cNvSpPr/>
          <p:nvPr/>
        </p:nvSpPr>
        <p:spPr>
          <a:xfrm>
            <a:off x="5929200" y="3571920"/>
            <a:ext cx="282888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•  100=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 •  100 =______________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•  100 =______________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 •  100 = ______________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 •  100 = ______________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0T00:11:51Z</dcterms:created>
  <dc:creator>User</dc:creator>
  <dc:description/>
  <dc:language>en-US</dc:language>
  <cp:lastModifiedBy>User</cp:lastModifiedBy>
  <dcterms:modified xsi:type="dcterms:W3CDTF">2016-03-10T01:09:14Z</dcterms:modified>
  <cp:revision>6</cp:revision>
  <dc:subject/>
  <dc:title>Слайд 1</dc:title>
</cp:coreProperties>
</file>