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1E2-BE6B-40E3-B1DD-87E443E7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CEB-4673-4B76-8114-9D6E1FE2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74D-2DF5-4DD5-99BE-0491B3FB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4AC-C7C2-437F-9470-081F7277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828-A1A6-466D-A1A9-CCDEDB70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E5E-6A6D-4E8B-945E-994643A6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500-DFE2-44F9-9289-83E85B4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389-E45A-4BFC-8CC1-380DCE3F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A2B-7739-40BF-B9C9-5F79B6D4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FF9-7CE2-4AE5-A37F-14DABEA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4E9-CBF9-4C49-A4F0-FE4095F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94A-733B-4148-9A4A-EAC0D98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D5E-5585-48AA-B232-F3DB97EEA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28760" y="119016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– 90 =                   380 + 130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– 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820 – 740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+ 5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90 +3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+100 =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510 – 2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Прямая со стрелкой 3"/>
          <p:cNvCxnSpPr/>
          <p:nvPr/>
        </p:nvCxnSpPr>
        <p:spPr>
          <a:xfrm>
            <a:off x="2571840" y="1499760"/>
            <a:ext cx="20718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4"/>
          <p:cNvCxnSpPr/>
          <p:nvPr/>
        </p:nvCxnSpPr>
        <p:spPr>
          <a:xfrm flipH="1" flipV="1">
            <a:off x="2642760" y="2071080"/>
            <a:ext cx="199152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7"/>
          <p:cNvCxnSpPr/>
          <p:nvPr/>
        </p:nvCxnSpPr>
        <p:spPr>
          <a:xfrm flipV="1">
            <a:off x="2643120" y="1571040"/>
            <a:ext cx="20008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9"/>
          <p:cNvCxnSpPr/>
          <p:nvPr/>
        </p:nvCxnSpPr>
        <p:spPr>
          <a:xfrm flipH="1" rot="16200000">
            <a:off x="3857400" y="2428560"/>
            <a:ext cx="150084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14"/>
          <p:cNvCxnSpPr/>
          <p:nvPr/>
        </p:nvCxnSpPr>
        <p:spPr>
          <a:xfrm flipH="1" flipV="1">
            <a:off x="2857320" y="2642400"/>
            <a:ext cx="177696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16"/>
          <p:cNvCxnSpPr/>
          <p:nvPr/>
        </p:nvCxnSpPr>
        <p:spPr>
          <a:xfrm flipV="1">
            <a:off x="2714760" y="2071080"/>
            <a:ext cx="20718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18"/>
          <p:cNvCxnSpPr/>
          <p:nvPr/>
        </p:nvCxnSpPr>
        <p:spPr>
          <a:xfrm flipH="1">
            <a:off x="2428560" y="2071800"/>
            <a:ext cx="228672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3, 123, 423, 623, 223, 72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679680" y="565560"/>
            <a:ext cx="796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ложите числовую последова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орядке убы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личьте каждое из однозначных натуральных чисел  в 100 раз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 •  100 = 100  •  3 = 3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 •  100 = 100  •  8 = 8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 •  100 = 100  •  5 = 5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 •  100 = 100  •  9 = 9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 •  100 = 100  •  4 = 4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 •  100 = 100  •  7 = 7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 •  100 = 100  •  23 = 23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2828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3"/>
          <p:cNvSpPr/>
          <p:nvPr/>
        </p:nvSpPr>
        <p:spPr>
          <a:xfrm>
            <a:off x="2928960" y="42876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3"/>
          <p:cNvSpPr/>
          <p:nvPr/>
        </p:nvSpPr>
        <p:spPr>
          <a:xfrm>
            <a:off x="5929200" y="357120"/>
            <a:ext cx="28288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3"/>
          <p:cNvSpPr/>
          <p:nvPr/>
        </p:nvSpPr>
        <p:spPr>
          <a:xfrm>
            <a:off x="14292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3"/>
          <p:cNvSpPr/>
          <p:nvPr/>
        </p:nvSpPr>
        <p:spPr>
          <a:xfrm>
            <a:off x="3000240" y="3571920"/>
            <a:ext cx="28292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3"/>
          <p:cNvSpPr/>
          <p:nvPr/>
        </p:nvSpPr>
        <p:spPr>
          <a:xfrm>
            <a:off x="592920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00:11:51Z</dcterms:created>
  <dc:creator>User</dc:creator>
  <dc:description/>
  <dc:language>en-US</dc:language>
  <cp:lastModifiedBy>User</cp:lastModifiedBy>
  <dcterms:modified xsi:type="dcterms:W3CDTF">2016-03-10T01:09:14Z</dcterms:modified>
  <cp:revision>6</cp:revision>
  <dc:subject/>
  <dc:title>Слайд 1</dc:title>
</cp:coreProperties>
</file>