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D6284-0B1A-4D6F-A527-B1DC571EA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-189000"/>
            <a:ext cx="74757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757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521160"/>
            <a:ext cx="74757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9D90-D71B-4CE2-9009-7A778B1A5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-189000"/>
            <a:ext cx="74757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478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65720" y="1447920"/>
            <a:ext cx="36478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521160"/>
            <a:ext cx="36478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65720" y="3521160"/>
            <a:ext cx="36478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D4AA6-0D36-4744-98C9-47020522E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-189000"/>
            <a:ext cx="74757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069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2520" y="1447920"/>
            <a:ext cx="24069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90440" y="1447920"/>
            <a:ext cx="24069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521160"/>
            <a:ext cx="24069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2520" y="3521160"/>
            <a:ext cx="24069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90440" y="3521160"/>
            <a:ext cx="24069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8CEA9-C3BC-413E-BF80-35DA20404A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-189000"/>
            <a:ext cx="74757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7576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4EF2-0192-4392-8B5B-12F51D0324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-189000"/>
            <a:ext cx="74757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7576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8923-347A-4DA6-8CCF-9FF0A31D5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-189000"/>
            <a:ext cx="74757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4788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5720" y="1447920"/>
            <a:ext cx="364788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0031-88F8-4561-8E41-FC4B4F5F6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-189000"/>
            <a:ext cx="74757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EED10-2CC7-47A2-98A1-0A4D817DD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-189000"/>
            <a:ext cx="7475760" cy="9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F277C-8C4A-40EE-B1C6-82492B6B7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-189000"/>
            <a:ext cx="74757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478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5720" y="1447920"/>
            <a:ext cx="364788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521160"/>
            <a:ext cx="36478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40A3-6B44-4D0A-AEBE-48595789F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-189000"/>
            <a:ext cx="74757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4788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5720" y="1447920"/>
            <a:ext cx="36478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65720" y="3521160"/>
            <a:ext cx="36478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7AD35-3387-4F9A-AE22-7FA814912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-189000"/>
            <a:ext cx="74757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478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5720" y="1447920"/>
            <a:ext cx="36478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521160"/>
            <a:ext cx="74757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B4464-8AB0-4043-BCCF-A32A19DE1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sq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sq" w="27360">
            <a:solidFill>
              <a:srgbClr val="fff6db"/>
            </a:solidFill>
            <a:miter/>
          </a:ln>
          <a:effectLst>
            <a:outerShdw dist="108732" dir="399265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71360" y="1042920"/>
            <a:ext cx="1135080" cy="1128960"/>
            <a:chOff x="171360" y="1042920"/>
            <a:chExt cx="1135080" cy="112896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35080" cy="11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64680" y="1201680"/>
              <a:ext cx="77328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-189000"/>
            <a:ext cx="74757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7576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"/>
          <p:cNvSpPr/>
          <p:nvPr/>
        </p:nvSpPr>
        <p:spPr>
          <a:xfrm>
            <a:off x="3581280" y="6303960"/>
            <a:ext cx="21243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613720" y="6303600"/>
            <a:ext cx="433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EEEB5-BF2B-43F4-AAA2-89B309DCD56A}" type="slidenum">
              <a:rPr b="0" lang="ru-RU" sz="18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14543" dir="65676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42920" y="360360"/>
            <a:ext cx="779616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"/>
          <p:cNvSpPr/>
          <p:nvPr/>
        </p:nvSpPr>
        <p:spPr>
          <a:xfrm>
            <a:off x="1432080" y="1849320"/>
            <a:ext cx="7407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4960" y="-195120"/>
            <a:ext cx="7485120" cy="25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8512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32080" y="360360"/>
            <a:ext cx="740556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"/>
          <p:cNvSpPr/>
          <p:nvPr/>
        </p:nvSpPr>
        <p:spPr>
          <a:xfrm>
            <a:off x="1432080" y="1849320"/>
            <a:ext cx="7405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-622440"/>
            <a:ext cx="749628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"/>
          <p:cNvSpPr/>
          <p:nvPr/>
        </p:nvSpPr>
        <p:spPr>
          <a:xfrm>
            <a:off x="1434960" y="-185760"/>
            <a:ext cx="748836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44600" y="498600"/>
            <a:ext cx="4883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"/>
          <p:cNvSpPr/>
          <p:nvPr/>
        </p:nvSpPr>
        <p:spPr>
          <a:xfrm>
            <a:off x="1008000" y="-324000"/>
            <a:ext cx="749628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"/>
          <p:cNvSpPr/>
          <p:nvPr/>
        </p:nvSpPr>
        <p:spPr>
          <a:xfrm>
            <a:off x="647640" y="792000"/>
            <a:ext cx="8496360" cy="65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-195120"/>
            <a:ext cx="7485120" cy="25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24000" y="1800000"/>
            <a:ext cx="748512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Цели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"/>
          <p:cNvSpPr/>
          <p:nvPr/>
        </p:nvSpPr>
        <p:spPr>
          <a:xfrm>
            <a:off x="1079640" y="2201760"/>
            <a:ext cx="7912080" cy="42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рмировать у современной молодежи и детей любовь к своей Родине, гордость за ее героев, воспитывать чувство патриотизма; формировать представление о Великой Отечественной войне на основе уже имеющихся представлений о войне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"/>
          <p:cNvSpPr/>
          <p:nvPr/>
        </p:nvSpPr>
        <p:spPr>
          <a:xfrm>
            <a:off x="1004760" y="3168720"/>
            <a:ext cx="713124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040360" y="287280"/>
            <a:ext cx="259704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434960" y="-184320"/>
            <a:ext cx="748980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"/>
          <p:cNvSpPr/>
          <p:nvPr/>
        </p:nvSpPr>
        <p:spPr>
          <a:xfrm>
            <a:off x="1434960" y="1447920"/>
            <a:ext cx="748980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-195480"/>
            <a:ext cx="74836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836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адачи 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* обобщить и систематизировать знания современной молодежи и детей по теме « Советский Союз во второй мировой войне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* расширить знания о событиях Великой Отечественной войн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* развивать умения выделять основные события и устанавливать между ними логические связ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* формировать навыки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984920" y="71280"/>
            <a:ext cx="19270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-195480"/>
            <a:ext cx="74836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83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600" y="-193680"/>
            <a:ext cx="748188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640" y="2231640"/>
            <a:ext cx="7835760" cy="40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8-25 лет — 72 человек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5-17 лет — 30 человек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0-14 лет — 11 человек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7-9 лет — 55 человек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сего тестирование прошло 168 человек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475320" y="142920"/>
            <a:ext cx="2597400" cy="201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</dc:creator>
  <dc:description/>
  <dc:language>en-US</dc:language>
  <cp:lastModifiedBy/>
  <dcterms:modified xsi:type="dcterms:W3CDTF">2015-05-14T08:08:12Z</dcterms:modified>
  <cp:revision>12</cp:revision>
  <dc:subject/>
  <dc:title>Слайд 1</dc:title>
</cp:coreProperties>
</file>