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6379-32D4-42FC-8973-70D9C160E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757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521160"/>
            <a:ext cx="74757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6A3E8-57D4-4269-9F72-097A78068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6572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B1F1-08A1-4B22-BDF7-AE6EDCC92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2520" y="144792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90440" y="144792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52116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2520" y="352116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90440" y="3521160"/>
            <a:ext cx="24069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0FA16-2816-4BF2-9930-5839A7E5D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75760" cy="39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683C-B259-41C1-829D-AFCCF71A3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757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2722E-4637-422B-AFF7-6D5850479D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F2E4-25BD-494B-8D70-C86892DA08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A790-105E-4C7A-94F7-8FDF2E9B8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-189000"/>
            <a:ext cx="7475760" cy="95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B1C0-A06D-43BE-8998-156CE91028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5148-C7F2-4288-B99E-534BAE7FB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65720" y="352116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D2D8D-2B83-4252-9AD1-5662B5909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5720" y="1447920"/>
            <a:ext cx="364788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521160"/>
            <a:ext cx="7475760" cy="18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03F4A-91B9-42D1-BDC4-F13B52EF37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sq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sq" w="27360">
            <a:solidFill>
              <a:srgbClr val="fff6db"/>
            </a:solidFill>
            <a:miter/>
          </a:ln>
          <a:effectLst>
            <a:outerShdw dist="108732" dir="399265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71360" y="1042920"/>
            <a:ext cx="1135080" cy="1128960"/>
            <a:chOff x="171360" y="1042920"/>
            <a:chExt cx="1135080" cy="112896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35080" cy="112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64680" y="1201680"/>
              <a:ext cx="773280" cy="75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-189000"/>
            <a:ext cx="747576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7576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3960"/>
            <a:ext cx="21243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3600"/>
            <a:ext cx="4334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2F4CF-F256-4BA2-B81C-A67DAF6ED852}" type="slidenum">
              <a:rPr b="0" lang="ru-RU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14543" dir="65676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360360"/>
            <a:ext cx="77961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4960" y="-195120"/>
            <a:ext cx="748512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8512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32080" y="360360"/>
            <a:ext cx="74055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"/>
          <p:cNvSpPr/>
          <p:nvPr/>
        </p:nvSpPr>
        <p:spPr>
          <a:xfrm>
            <a:off x="1432080" y="1849320"/>
            <a:ext cx="7405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-622440"/>
            <a:ext cx="749628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"/>
          <p:cNvSpPr/>
          <p:nvPr/>
        </p:nvSpPr>
        <p:spPr>
          <a:xfrm>
            <a:off x="1434960" y="-185760"/>
            <a:ext cx="748836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8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44600" y="498600"/>
            <a:ext cx="48834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"/>
          <p:cNvSpPr/>
          <p:nvPr/>
        </p:nvSpPr>
        <p:spPr>
          <a:xfrm>
            <a:off x="1008000" y="-324000"/>
            <a:ext cx="749628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"/>
          <p:cNvSpPr/>
          <p:nvPr/>
        </p:nvSpPr>
        <p:spPr>
          <a:xfrm>
            <a:off x="647640" y="792000"/>
            <a:ext cx="849636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34960" y="-195120"/>
            <a:ext cx="7485120" cy="25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24000" y="1800000"/>
            <a:ext cx="748512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"/>
          <p:cNvSpPr/>
          <p:nvPr/>
        </p:nvSpPr>
        <p:spPr>
          <a:xfrm>
            <a:off x="1079640" y="2201760"/>
            <a:ext cx="791208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ть у современной молодежи и детей любовь к своей Родине, гордость за ее героев, воспитывать чувство патриотизма; формировать представление о Великой Отечественной войне на основе уже имеющихся представлений о войне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"/>
          <p:cNvSpPr/>
          <p:nvPr/>
        </p:nvSpPr>
        <p:spPr>
          <a:xfrm>
            <a:off x="1004760" y="3168720"/>
            <a:ext cx="713124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40360" y="287280"/>
            <a:ext cx="259704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34960" y="-184320"/>
            <a:ext cx="7489800" cy="20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"/>
          <p:cNvSpPr/>
          <p:nvPr/>
        </p:nvSpPr>
        <p:spPr>
          <a:xfrm>
            <a:off x="1434960" y="1447920"/>
            <a:ext cx="7489800" cy="47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-195480"/>
            <a:ext cx="74836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836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дачи 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обобщить и систематизировать знания современной молодежи и детей по теме « Советский Союз во второй мировой войне»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расширить знания о событиях Великой Отечественной войн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развивать умения выделять основные события и устанавливать между ними логические связ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* формировать навыки самостоятельной работ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984920" y="71280"/>
            <a:ext cx="19270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-195480"/>
            <a:ext cx="7483680" cy="24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83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4600" y="-193680"/>
            <a:ext cx="748188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79640" y="2231640"/>
            <a:ext cx="7835760" cy="40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8-25 лет — 72 человека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5-17 лет — 30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10-14 лет — 11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-9 лет — 55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сего тестирование прошло 168 человек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475320" y="142920"/>
            <a:ext cx="2597400" cy="201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/>
  <dcterms:modified xsi:type="dcterms:W3CDTF">2015-05-14T08:08:12Z</dcterms:modified>
  <cp:revision>12</cp:revision>
  <dc:subject/>
  <dc:title>Слайд 1</dc:title>
</cp:coreProperties>
</file>