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D6C-66FE-48CB-8356-24BDEB36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80A-25CA-4D0F-809D-8791377C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03C-A43A-4FC7-A4D2-1765CA7A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082-5CEB-46E9-8F65-C7A18D95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D1A-1769-4CA2-AE0A-80FAEDB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9ED-65EF-471E-9D80-8C4F68C3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D63-8973-453C-979B-3FE37738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5F9-D932-484A-9B9D-03DF413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E7F-F6F1-481E-BCA8-2793B6F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438-3F11-40A7-9D1D-EEC00CF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99F-A1F5-4FE0-BA25-414070E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0B3-021C-412A-9CDF-F58F9BE6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59C-91D1-4EB0-B637-7F984BB4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30_474_565"/>
          <p:cNvPicPr/>
          <p:nvPr/>
        </p:nvPicPr>
        <p:blipFill>
          <a:blip r:embed="rId1"/>
          <a:stretch/>
        </p:blipFill>
        <p:spPr>
          <a:xfrm>
            <a:off x="457200" y="260280"/>
            <a:ext cx="8077320" cy="6369120"/>
          </a:xfrm>
          <a:prstGeom prst="rect">
            <a:avLst/>
          </a:prstGeom>
          <a:ln w="38160">
            <a:solidFill>
              <a:srgbClr val="58002c"/>
            </a:solidFill>
            <a:miter/>
          </a:ln>
          <a:effectLst>
            <a:outerShdw dist="107932" dir="2700000" blurRad="0" rotWithShape="0">
              <a:srgbClr val="58002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410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86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960" y="387360"/>
            <a:ext cx="81280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57680" cy="403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52280"/>
            <a:ext cx="2825640" cy="403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314316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4120" y="44197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324480" y="68580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vnin</cp:lastModifiedBy>
  <dcterms:modified xsi:type="dcterms:W3CDTF">2011-01-20T09:15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