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EE6-E527-4BDA-879D-966880DB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2A91-9334-48D6-8DB8-BD373C7F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6A80-BC62-4E52-875F-5432601B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358-2BFD-4F61-8728-5B3F5EE3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B30-2E98-42A7-A80B-33DAB182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2E5-4A97-4C2A-BD0C-695AE1AE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890E-45E5-4910-8D24-53117BA4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B21E-1A57-4900-ACE2-6D794CE8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CEB-909D-464B-AE2E-4557CEF3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3F8-B73B-4AE5-AFA2-CA3E4EB0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D78E-61AD-41B9-A9B1-9A494498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5E04-6F76-4C5B-8C66-1D7072B8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1797-E3EB-48B1-9719-75DB40EBA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430_474_565"/>
          <p:cNvPicPr/>
          <p:nvPr/>
        </p:nvPicPr>
        <p:blipFill>
          <a:blip r:embed="rId1"/>
          <a:stretch/>
        </p:blipFill>
        <p:spPr>
          <a:xfrm>
            <a:off x="457200" y="260280"/>
            <a:ext cx="8077320" cy="6369120"/>
          </a:xfrm>
          <a:prstGeom prst="rect">
            <a:avLst/>
          </a:prstGeom>
          <a:ln w="38160">
            <a:solidFill>
              <a:srgbClr val="58002c"/>
            </a:solidFill>
            <a:miter/>
          </a:ln>
          <a:effectLst>
            <a:outerShdw dist="107932" dir="2700000" blurRad="0" rotWithShape="0">
              <a:srgbClr val="58002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5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5120" y="152280"/>
            <a:ext cx="54100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934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152280"/>
            <a:ext cx="61866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543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7960" y="387360"/>
            <a:ext cx="81280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2857680" cy="403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152280"/>
            <a:ext cx="2825640" cy="4038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447920" y="4343400"/>
            <a:ext cx="314316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334120" y="4419720"/>
            <a:ext cx="274320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324480" y="685800"/>
            <a:ext cx="259092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hevnin</cp:lastModifiedBy>
  <dcterms:modified xsi:type="dcterms:W3CDTF">2011-01-20T09:15:2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