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977D-0C3D-4C31-A6B7-31E54DBD38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0510-0CCC-4269-86AB-5AAC810CBA6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jiu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9A01-AA46-4897-A71F-0CA97700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FC20-B1FF-4C81-A416-F6C7D4B7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BDEC-B402-4074-BCA2-789DBBDC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499-5DF5-4977-AA10-9EEBB384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5740-44C5-4A69-9FD3-865FD95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40AE-0DFE-45E4-A0BE-B1A3D361B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A9BF-2457-4452-8DE6-0CDE632C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CA33-6537-4FF3-A0F1-849EEB1C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C95D-35CB-420F-A308-319C16B2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D607-1846-46F9-B2FC-B6EA30B2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DDDD-7EBE-4336-A5DC-5D262100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661-FC56-454C-981D-9E226E27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5FD0-7157-4156-BFA7-D865E532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9DF4-32DE-446D-89B5-9EC8958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8466-0F94-41BB-8537-5787D468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15F-C844-4B26-9088-89BE5489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B43C-1345-4466-A075-11D07C60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040-2D4F-400F-BE97-AD146870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34C-3BA2-44EF-A3EF-58FB12F9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A16-46A8-4F78-97E6-E6F556D4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CBF4-B15D-4FB4-AC57-D4106391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2FD-B620-4DAC-BC2A-88AE8D59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484-DE49-437D-8C98-981CAD31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5CF-CC0F-4A05-9FB3-AC902504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70CD-6036-40B1-9E8B-3FF3C8CBE5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716-58AA-4E23-8ED6-2D31259FE1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Урок по теме «Письмо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ителя русского языка и        литературы МБОУ «СОШ №1» Наниз З.З.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Структура письма и речевые штампы, используемые в письмах родным и близким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400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24000" y="1341360"/>
          <a:ext cx="8229600" cy="5400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ые части письм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ечевые клиш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i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ачи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Место и дата написа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Приветств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Обращ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дравствуйте!Добрый день! Шлю тебе (Вам) привет! Приветствую тебя (Вас)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рогой (милый, родной, любимый мой)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и все его формы (Аня, Людочка…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руг, мамочка, коллега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52280" y="604800"/>
          <a:ext cx="8785440" cy="6235560"/>
        </p:xfrm>
        <a:graphic>
          <a:graphicData uri="http://schemas.openxmlformats.org/drawingml/2006/table">
            <a:tbl>
              <a:tblPr/>
              <a:tblGrid>
                <a:gridCol w="2183040"/>
                <a:gridCol w="3124080"/>
                <a:gridCol w="3478320"/>
              </a:tblGrid>
              <a:tr h="68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сновная ч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онцов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Сообщение о новостя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Вопросы к адресат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Благодар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Просьба писать пись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Приветствие. Проща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Дата и место написания, если их нет в начал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.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хотел бы рассказать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очется сообщить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от некоторые новости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ет ничего нового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вы живет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 ваше здоровь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акие у вас новости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асибо за внимание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асибо за то, что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 прошу тебя (Вас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писать мне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ответить мне на письм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едайте большой привет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скорого свидания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сего хорошего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 скорой встреч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Line 38"/>
          <p:cNvSpPr/>
          <p:nvPr/>
        </p:nvSpPr>
        <p:spPr>
          <a:xfrm>
            <a:off x="152280" y="358128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дресат и адресант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500364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рес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олучатель, тот, кому адресовано со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Адресан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тот, кто отправил нам почтовое сообщ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1" descr="vnutr"/>
          <p:cNvPicPr/>
          <p:nvPr/>
        </p:nvPicPr>
        <p:blipFill>
          <a:blip r:embed="rId1"/>
          <a:stretch/>
        </p:blipFill>
        <p:spPr>
          <a:xfrm>
            <a:off x="971640" y="4508640"/>
            <a:ext cx="2879640" cy="20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2" descr="vozvrati"/>
          <p:cNvPicPr/>
          <p:nvPr/>
        </p:nvPicPr>
        <p:blipFill>
          <a:blip r:embed="rId2"/>
          <a:stretch/>
        </p:blipFill>
        <p:spPr>
          <a:xfrm>
            <a:off x="971640" y="2060640"/>
            <a:ext cx="2952720" cy="2160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Правила написания письм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на хорошей бумаг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ачинай со слов приветствия и обращ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ясно, просто, сжа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Умей учитывать, кому именно пишеш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 начинай с изложения собственных новос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ши разборчиво; если почерк не совсем разборчив – извинись за плохой почер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Не задерживай отве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сьмо перед отправлением перечита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Ставь число и подпи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о №2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95280" y="2666880"/>
            <a:ext cx="723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2280" y="1676520"/>
            <a:ext cx="868680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рогая мамочка, здравству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й отдых в лагере в самом разгаре. У нас здесь очень весело и интересно. Я подружилась с ребятами из Москвы, Волгограда, Майкопа, Черкесска. Часто участвую в конкурсах, соревнованиях и представь, даже завоевываю призовые места. Наш отряд занял первое место по волейболу. Мы побывали на водопадах, посетили Азишскую пещер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бо всем расскажу, когда приеду. Как здоровье дедушки? Как идут дела у Бислана? Жду ответа. Передай всем приве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о свидания, мамоч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Целую. Али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06.07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амятка по правильному оформлению конверт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05520" y="1599840"/>
            <a:ext cx="4038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у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трову С.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.Победы, д.2, кв.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Краснодар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ек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45732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124000" y="29973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1557000"/>
            <a:ext cx="40384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кого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еуджен А.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куд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л.1Мая,3,кв.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.Майко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спублика Адыге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ндекс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23540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2" descr="99999"/>
          <p:cNvPicPr/>
          <p:nvPr/>
        </p:nvPicPr>
        <p:blipFill>
          <a:blip r:embed="rId1"/>
          <a:stretch/>
        </p:blipFill>
        <p:spPr>
          <a:xfrm>
            <a:off x="228600" y="4191120"/>
            <a:ext cx="4572000" cy="2206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42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читать рассказ А.П.Чехова «Ванька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ить вид письма Ваньки Жук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исать Ване письмо-рассказ о нашем уро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рыть значение письма как средства общения людей на расстоя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знакомить с разными видами письма по цели общ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комить со смысловыми частями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учить составлению личного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крепить навыки употребления прописной буквы, постановки знаков препинания при обращени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вить образное и логическое мышление путем составления письм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формировать этическое отношение к слову, чувство ответственности по отношению к слов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4" descr="rozovyi"/>
          <p:cNvPicPr/>
          <p:nvPr/>
        </p:nvPicPr>
        <p:blipFill>
          <a:blip r:embed="rId1"/>
          <a:stretch/>
        </p:blipFill>
        <p:spPr>
          <a:xfrm>
            <a:off x="7315200" y="5715000"/>
            <a:ext cx="1333440" cy="92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Работа со словарё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ловарь В.И.Даля.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Письм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ё, что написано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черк руки, писань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рамотка, сообщение на бумаге,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есе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посылаемая от одного лица к другому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исанье, грамо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3280" y="1052640"/>
            <a:ext cx="4500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pd_002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57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46432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Вампумы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индейск.) – нити с нанизанными на них раковинами, средство запоминания и передачи сообщения у индейских племён Северной Америки. Содержание сообщения выражалось цветом, количеством и расположением раков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biol313i"/>
          <p:cNvPicPr/>
          <p:nvPr/>
        </p:nvPicPr>
        <p:blipFill>
          <a:blip r:embed="rId1"/>
          <a:stretch/>
        </p:blipFill>
        <p:spPr>
          <a:xfrm>
            <a:off x="4716360" y="2276640"/>
            <a:ext cx="4032360" cy="345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196640"/>
            <a:ext cx="44956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Кипу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«узелковое письмо», употребляемое в государстве древних инков (Южная Америка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m49510i"/>
          <p:cNvPicPr/>
          <p:nvPr/>
        </p:nvPicPr>
        <p:blipFill>
          <a:blip r:embed="rId1"/>
          <a:stretch/>
        </p:blipFill>
        <p:spPr>
          <a:xfrm>
            <a:off x="755640" y="1413000"/>
            <a:ext cx="3457440" cy="21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isi52ai"/>
          <p:cNvPicPr/>
          <p:nvPr/>
        </p:nvPicPr>
        <p:blipFill>
          <a:blip r:embed="rId2"/>
          <a:stretch/>
        </p:blipFill>
        <p:spPr>
          <a:xfrm>
            <a:off x="5219640" y="4581360"/>
            <a:ext cx="324000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2286000" y="1560600"/>
            <a:ext cx="45720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7" descr="am49512i"/>
          <p:cNvPicPr/>
          <p:nvPr/>
        </p:nvPicPr>
        <p:blipFill>
          <a:blip r:embed="rId3"/>
          <a:stretch/>
        </p:blipFill>
        <p:spPr>
          <a:xfrm>
            <a:off x="684360" y="4005360"/>
            <a:ext cx="338436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стория возникновения письмен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Пиктограф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«рисуночное письмо», отображение общего содержания сообщения в виде рисунка или последовательности рисунков, обычно в целях запомин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01p0055i"/>
          <p:cNvPicPr/>
          <p:nvPr/>
        </p:nvPicPr>
        <p:blipFill>
          <a:blip r:embed="rId1"/>
          <a:stretch/>
        </p:blipFill>
        <p:spPr>
          <a:xfrm>
            <a:off x="1332000" y="4149720"/>
            <a:ext cx="2952720" cy="244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p_254i"/>
          <p:cNvPicPr/>
          <p:nvPr/>
        </p:nvPicPr>
        <p:blipFill>
          <a:blip r:embed="rId2"/>
          <a:stretch/>
        </p:blipFill>
        <p:spPr>
          <a:xfrm>
            <a:off x="5219640" y="3933720"/>
            <a:ext cx="2592360" cy="27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Line 4"/>
          <p:cNvSpPr/>
          <p:nvPr/>
        </p:nvSpPr>
        <p:spPr>
          <a:xfrm flipH="1">
            <a:off x="2987640" y="1484280"/>
            <a:ext cx="93672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788000" y="1413000"/>
            <a:ext cx="863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6"/>
          <p:cNvSpPr/>
          <p:nvPr/>
        </p:nvSpPr>
        <p:spPr>
          <a:xfrm>
            <a:off x="9360" y="2625840"/>
            <a:ext cx="4427640" cy="2447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ов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официально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7"/>
          <p:cNvSpPr/>
          <p:nvPr/>
        </p:nvSpPr>
        <p:spPr>
          <a:xfrm>
            <a:off x="4998960" y="2676600"/>
            <a:ext cx="4140360" cy="2233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стн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личное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5ffff"/>
                </a:solidFill>
                <a:uFillTx/>
                <a:latin typeface="Tahoma"/>
              </a:rPr>
              <a:t>Письмо № 1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ажаемый Радам Владимирович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нспорт прибыл 21.01.96. Просим подтвердить дату отправки и наличие сопроводительных доку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 уважением Тугуз А.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труктура письм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ч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ая ча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нцов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4" descr="texti"/>
          <p:cNvPicPr/>
          <p:nvPr/>
        </p:nvPicPr>
        <p:blipFill>
          <a:blip r:embed="rId1"/>
          <a:stretch/>
        </p:blipFill>
        <p:spPr>
          <a:xfrm>
            <a:off x="5796000" y="1916280"/>
            <a:ext cx="308448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8T17:19:46Z</dcterms:created>
  <dc:creator>БАБУШКА</dc:creator>
  <dc:description/>
  <dc:language>en-US</dc:language>
  <cp:lastModifiedBy>Zara</cp:lastModifiedBy>
  <dcterms:modified xsi:type="dcterms:W3CDTF">2016-04-12T07:50:22Z</dcterms:modified>
  <cp:revision>106</cp:revision>
  <dc:subject/>
  <dc:title>Особенности письма как эпистолярного жанра</dc:title>
</cp:coreProperties>
</file>