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42CD-AC33-45F7-9A6C-A793512A08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3578-9CEF-4F79-AF8D-C3CC027C20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jiu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E23-9C57-4B7C-A403-13829F7A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B00F-DA4D-4340-AF58-4A16BCBE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3C0-CA05-4E8D-809F-380B9648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E00-31A3-4C59-A199-A2A46D6B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DF04-28FB-407C-9B65-BA9FFD0E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33A9-B3E0-4D40-9D35-9F4DE89F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D928-8D6A-405A-A79A-325357FD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638C-B564-4968-874E-31848F67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1907-C252-4135-9115-C1D4E81C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4F16-F882-43FA-B85F-8104B880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1019-8AFA-41EE-8992-B1538CAE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A1A-4438-441B-8993-2C16647B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EC84-529D-45B6-98F6-A0E55F8F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3C76-0649-4AB9-B91F-D9B588FF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06DC-6F40-4FEF-B52A-82134752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FB29-61F0-4738-874A-B721D823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4C04-5481-4153-B3BF-7D0970ED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3E2-F85F-474F-8234-BAB92513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A33-1A79-4E6D-9F6D-3182576A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68E-A0D2-440F-818F-8C2168EE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E06-2F9A-4B31-977A-42DBA656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A11-99EB-439A-BE8B-A0BDE5AC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B22-516E-45BA-9908-7990B14C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0B1-95F8-43E9-85C5-80B8FBE2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EE78-EDB3-4938-A821-84B263429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202E-8F1F-4D74-A03F-F648B84040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Урок по теме «Письмо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я русского языка и        литературы МБОУ «СОШ №1» Наниз З.З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труктура письма и речевые штампы, используемые в письмах родным и близким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400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4000" y="1341360"/>
          <a:ext cx="8229600" cy="5400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части пись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чевые клиш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ч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Место и дата напис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Приветств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Обра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дравствуйте!Добрый день! Шлю тебе (Вам) привет! Приветствую тебя (Вас)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рогой (милый, родной, любимый мой)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мя и все его формы (Аня, Людочка…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уг, мамочка, коллега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52280" y="604800"/>
          <a:ext cx="8785440" cy="6235560"/>
        </p:xfrm>
        <a:graphic>
          <a:graphicData uri="http://schemas.openxmlformats.org/drawingml/2006/table">
            <a:tbl>
              <a:tblPr/>
              <a:tblGrid>
                <a:gridCol w="2183040"/>
                <a:gridCol w="3124080"/>
                <a:gridCol w="3478320"/>
              </a:tblGrid>
              <a:tr h="68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ая ча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цов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Сообщение о новост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Вопросы к адреса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Благодар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Просьба писать пись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Приветствие. Прощ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Дата и место написания, если их нет в нача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.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 хотел бы рассказать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чется сообщить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т некоторые новости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т ничего нового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 вы живете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 ваше здоровье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ие у вас новости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асибо за внимание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асибо за то, что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 прошу тебя (Вас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писать мне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ответить мне на письм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едайте большой привет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 скорого свид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го хорошег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 скорой встреч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Line 38"/>
          <p:cNvSpPr/>
          <p:nvPr/>
        </p:nvSpPr>
        <p:spPr>
          <a:xfrm>
            <a:off x="152280" y="358128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дресат и адресант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40000" y="1773000"/>
            <a:ext cx="50036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Адреса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олучатель, тот, кому адресовано сообщ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Адресан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тот, кто отправил нам почтовое сообщ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1" descr="vnutr"/>
          <p:cNvPicPr/>
          <p:nvPr/>
        </p:nvPicPr>
        <p:blipFill>
          <a:blip r:embed="rId1"/>
          <a:stretch/>
        </p:blipFill>
        <p:spPr>
          <a:xfrm>
            <a:off x="971640" y="4508640"/>
            <a:ext cx="2879640" cy="20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vozvrati"/>
          <p:cNvPicPr/>
          <p:nvPr/>
        </p:nvPicPr>
        <p:blipFill>
          <a:blip r:embed="rId2"/>
          <a:stretch/>
        </p:blipFill>
        <p:spPr>
          <a:xfrm>
            <a:off x="971640" y="2060640"/>
            <a:ext cx="2952720" cy="216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равила написания пись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иши на хорошей бумаг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Начинай со слов приветствия и обращ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иши ясно, просто, сжат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Умей учитывать, кому именно пишеш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Не начинай с изложения собственных новос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иши разборчиво; если почерк не совсем разборчив – извинись за плохой почер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Не задерживай отв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исьмо перед отправлением перечита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тавь число и подпи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исьмо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295280" y="266688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52280" y="1676520"/>
            <a:ext cx="86868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рогая мамочка, здравствуй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й отдых в лагере в самом разгаре. У нас здесь очень весело и интересно. Я подружилась с ребятами из Москвы, Волгограда, Майкопа, Черкесска. Часто участвую в конкурсах, соревнованиях и представь, даже завоевываю призовые места. Наш отряд занял первое место по волейболу. Мы побывали на водопадах, посетили Азишскую пещер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обо всем расскажу, когда приеду. Как здоровье дедушки? Как идут дела у Бислана? Жду ответа. Передай всем прив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свидания, мамоч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ую. Али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.06.07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амятка по правильному оформлению конверта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у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трову С.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д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л.Победы, д.2, кв.8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Краснодар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декс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45732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124000" y="2997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1557000"/>
            <a:ext cx="4038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 кого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еуджен А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куд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л.1Мая,3,кв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Майк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спублика Адыге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декс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2354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2" descr="99999"/>
          <p:cNvPicPr/>
          <p:nvPr/>
        </p:nvPicPr>
        <p:blipFill>
          <a:blip r:embed="rId1"/>
          <a:stretch/>
        </p:blipFill>
        <p:spPr>
          <a:xfrm>
            <a:off x="228600" y="4191120"/>
            <a:ext cx="4572000" cy="2206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омашнее зад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читать рассказ А.П.Чехова «Ваньк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ить вид письма Ваньки Жук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исать Ване письмо-рассказ о нашем уро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358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ть значение письма как средства общения людей на расстоян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знакомить с разными видами письма по цели общ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накомить со смысловыми частями пись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учить составлению личного пись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репить навыки употребления прописной буквы, постановки знаков препинания при обращен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ь образное и логическое мышление путем составления пись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овать этическое отношение к слову, чувство ответственности по отношению к сло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rozovyi"/>
          <p:cNvPicPr/>
          <p:nvPr/>
        </p:nvPicPr>
        <p:blipFill>
          <a:blip r:embed="rId1"/>
          <a:stretch/>
        </p:blipFill>
        <p:spPr>
          <a:xfrm>
            <a:off x="7315200" y="5715000"/>
            <a:ext cx="1333440" cy="923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бота со словарё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643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арь В.И.Даля.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исьм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ё, что написа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рк руки, писань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мотка, сообщение на бумаге,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бесед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сылаемая от одного лица к другом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нье, грамо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3280" y="1052640"/>
            <a:ext cx="4500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6" descr="pd_002"/>
          <p:cNvPicPr/>
          <p:nvPr/>
        </p:nvPicPr>
        <p:blipFill>
          <a:blip r:embed="rId1"/>
          <a:stretch/>
        </p:blipFill>
        <p:spPr>
          <a:xfrm>
            <a:off x="4648320" y="1371600"/>
            <a:ext cx="3962160" cy="45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тория возникновения письмен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6432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Вампумы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индейск.) – нити с нанизанными на них раковинами, средство запоминания и передачи сообщения у индейских племён Северной Америки. Содержание сообщения выражалось цветом, количеством и расположением раков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biol313i"/>
          <p:cNvPicPr/>
          <p:nvPr/>
        </p:nvPicPr>
        <p:blipFill>
          <a:blip r:embed="rId1"/>
          <a:stretch/>
        </p:blipFill>
        <p:spPr>
          <a:xfrm>
            <a:off x="4716360" y="2276640"/>
            <a:ext cx="4032360" cy="345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тория возникновения письмен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196640"/>
            <a:ext cx="4495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Кипу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«узелковое письмо», употребляемое в государстве древних инков (Южная Америка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am49510i"/>
          <p:cNvPicPr/>
          <p:nvPr/>
        </p:nvPicPr>
        <p:blipFill>
          <a:blip r:embed="rId1"/>
          <a:stretch/>
        </p:blipFill>
        <p:spPr>
          <a:xfrm>
            <a:off x="755640" y="1413000"/>
            <a:ext cx="3457440" cy="21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isi52ai"/>
          <p:cNvPicPr/>
          <p:nvPr/>
        </p:nvPicPr>
        <p:blipFill>
          <a:blip r:embed="rId2"/>
          <a:stretch/>
        </p:blipFill>
        <p:spPr>
          <a:xfrm>
            <a:off x="5219640" y="4581360"/>
            <a:ext cx="3240000" cy="2016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2286000" y="1560600"/>
            <a:ext cx="4572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7" descr="am49512i"/>
          <p:cNvPicPr/>
          <p:nvPr/>
        </p:nvPicPr>
        <p:blipFill>
          <a:blip r:embed="rId3"/>
          <a:stretch/>
        </p:blipFill>
        <p:spPr>
          <a:xfrm>
            <a:off x="684360" y="4005360"/>
            <a:ext cx="3384360" cy="266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тория возникновения письмен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иктограф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«рисуночное письмо», отображение общего содержания сообщения в виде рисунка или последовательности рисунков, обычно в целях запомин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01p0055i"/>
          <p:cNvPicPr/>
          <p:nvPr/>
        </p:nvPicPr>
        <p:blipFill>
          <a:blip r:embed="rId1"/>
          <a:stretch/>
        </p:blipFill>
        <p:spPr>
          <a:xfrm>
            <a:off x="1332000" y="4149720"/>
            <a:ext cx="2952720" cy="244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p_254i"/>
          <p:cNvPicPr/>
          <p:nvPr/>
        </p:nvPicPr>
        <p:blipFill>
          <a:blip r:embed="rId2"/>
          <a:stretch/>
        </p:blipFill>
        <p:spPr>
          <a:xfrm>
            <a:off x="5219640" y="3933720"/>
            <a:ext cx="2592360" cy="273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исьм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Line 4"/>
          <p:cNvSpPr/>
          <p:nvPr/>
        </p:nvSpPr>
        <p:spPr>
          <a:xfrm flipH="1">
            <a:off x="2987640" y="1484280"/>
            <a:ext cx="93672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4788000" y="1413000"/>
            <a:ext cx="86364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9360" y="2625840"/>
            <a:ext cx="4427640" cy="24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ов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официально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4998960" y="2676600"/>
            <a:ext cx="4140360" cy="2233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лично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Письмо № 1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ажаемый Радам Владимирович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 прибыл 21.01.96. Просим подтвердить дату отправки и наличие сопроводительных доку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уважением Тугуз А.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руктура пись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ч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ая ча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цов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texti"/>
          <p:cNvPicPr/>
          <p:nvPr/>
        </p:nvPicPr>
        <p:blipFill>
          <a:blip r:embed="rId1"/>
          <a:stretch/>
        </p:blipFill>
        <p:spPr>
          <a:xfrm>
            <a:off x="5796000" y="1916280"/>
            <a:ext cx="3084480" cy="338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7:19:46Z</dcterms:created>
  <dc:creator>БАБУШКА</dc:creator>
  <dc:description/>
  <dc:language>en-US</dc:language>
  <cp:lastModifiedBy>Zara</cp:lastModifiedBy>
  <dcterms:modified xsi:type="dcterms:W3CDTF">2016-04-12T07:50:22Z</dcterms:modified>
  <cp:revision>106</cp:revision>
  <dc:subject/>
  <dc:title>Особенности письма как эпистолярного жанра</dc:title>
</cp:coreProperties>
</file>