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DDE-7179-4CB6-8DF6-B649DF47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137-E653-419E-8EA8-C2CCEF1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CBBB-9958-4174-974C-79F1F173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6F7-F22A-4D72-9E4E-86405877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32C-71D5-4B8C-B892-314A714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64F-C139-48F7-80E5-F79D4779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45C-C598-4CFE-A28F-190B47E6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3DC-AF5C-4FFF-B76B-B681D59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BB5-6666-44D5-B221-CD2649CC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BC7-04DC-4BEB-84CB-E8AB88F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4E1-A08C-4DCA-93FF-42010697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024-ED93-4602-B03F-48F656F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EDA9-804D-42DD-88D6-F7511E9EC3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B9BC-EEFE-4F68-9EAF-2851CA0B6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2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пожаловать к ненца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Чемоданова Наталия Георгиевна,      воспитатель 1 категории МБДОУ «ДС» «Колокольчик»п.Пур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расскажем о жизни и быте этого кочующего народ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9CBA-1C4A-4475-8B01-9177F2E04E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9301-5A55-4346-ACDC-31CFF8B73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Текст 2" descr=""/>
          <p:cNvPicPr/>
          <p:nvPr/>
        </p:nvPicPr>
        <p:blipFill>
          <a:blip r:embed="rId2"/>
          <a:stretch/>
        </p:blipFill>
        <p:spPr>
          <a:xfrm>
            <a:off x="544680" y="1413000"/>
            <a:ext cx="8053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ум – это разборное жилище ненце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8419-20AC-4B92-ADF6-56697E5944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450-748B-4888-B27C-DB6C8EEA7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0" y="1341360"/>
            <a:ext cx="5111640" cy="3830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4572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ты – самое необходимое средство передвижения в тунд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D558-F3C8-4A9D-8BC8-869279D9B1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0FC-240A-4BF6-B5CE-4A53DD2A6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-108000" y="1844640"/>
            <a:ext cx="504036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88000" y="3487680"/>
            <a:ext cx="45511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нцы – язычники, верили в духов реки, озера, ветра, солнца, радуги, грозы, молни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E42-7AF2-4AC6-9B3C-4E57E8C3E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A770-4FD7-4858-B592-F80E45F75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2992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ные условия на Ямале суровы. Поэтому для ненцев хорошая одежда очень важ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6A1C-B8AD-4CA6-98C1-993E661BE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E4A-1966-421B-BB4E-D6D07152B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643280" cy="417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11640" y="2959200"/>
            <a:ext cx="49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ят ненцы проводить спортивные состязания – соревнования – игр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7133-C8D5-424E-811B-F0D9868FA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0FA5-87CC-4B7C-AD73-D8C5022BC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Текст 2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7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десь свежий воздух…который чувствуешь на вкус! Здесь бескрайний простор… который ощущаешь, но не можешь объять своим воображением! Здесь сохраняются вековые традиции предк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7482-34E2-4D9B-B094-B69A25BD8A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9384-2315-44F1-B4CE-AA2873111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Текст 2" descr=""/>
          <p:cNvPicPr/>
          <p:nvPr/>
        </p:nvPicPr>
        <p:blipFill>
          <a:blip r:embed="rId2"/>
          <a:stretch/>
        </p:blipFill>
        <p:spPr>
          <a:xfrm>
            <a:off x="0" y="1773360"/>
            <a:ext cx="3743280" cy="250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56000" y="3940200"/>
            <a:ext cx="4222800" cy="291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932360" y="1628640"/>
            <a:ext cx="4211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пожаловать в тундр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Текст 2" descr=""/>
          <p:cNvPicPr/>
          <p:nvPr/>
        </p:nvPicPr>
        <p:blipFill>
          <a:blip r:embed="rId2"/>
          <a:stretch/>
        </p:blipFill>
        <p:spPr>
          <a:xfrm>
            <a:off x="0" y="1197000"/>
            <a:ext cx="6716880" cy="511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78000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64000" y="3933720"/>
            <a:ext cx="3780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17:48:38Z</dcterms:created>
  <dc:creator>Admin</dc:creator>
  <dc:description>http://aida.ucoz.ru</dc:description>
  <dc:language>en-US</dc:language>
  <cp:lastModifiedBy>Admin</cp:lastModifiedBy>
  <dcterms:modified xsi:type="dcterms:W3CDTF">2016-04-13T06:10:56Z</dcterms:modified>
  <cp:revision>19</cp:revision>
  <dc:subject/>
  <dc:title>Добро пожаловать к ненцам!</dc:title>
</cp:coreProperties>
</file>