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D4B-0600-4226-AB60-7170596BE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AE6-56B2-45FD-91B4-D93C39F8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4E56-4F3F-4131-AC89-D8E8CEFF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132-F968-47B7-A379-5440B03F3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8846-824B-4738-86DE-F87E01E2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970-7E93-4099-AF94-9E4D4221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F1EC-179A-4B14-884A-DE6B682E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C888-CD56-4E2E-B2CA-B27D5756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90D-4144-48CE-A677-8E86CEFE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85B-C0B4-4051-BF79-3ED757C3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E4F-2D94-4EC2-8BF0-57114480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9E40-120A-4CD8-B69D-74859D92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1865-BE93-41FA-906B-A3127949D6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FA1D-B478-407E-B731-1645DA69A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2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бро пожаловать к ненца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 Чемоданова Наталия Георгиевна,      воспитатель 1 категории МБДОУ «ДС» «Колокольчик»п.Пурп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 расскажем о жизни и быте этого кочующего народ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DE8C-5DA9-46CD-8E1F-593BDC7605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F8FD-C1D3-4192-94DD-04901CE6C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Текст 2" descr=""/>
          <p:cNvPicPr/>
          <p:nvPr/>
        </p:nvPicPr>
        <p:blipFill>
          <a:blip r:embed="rId2"/>
          <a:stretch/>
        </p:blipFill>
        <p:spPr>
          <a:xfrm>
            <a:off x="544680" y="1413000"/>
            <a:ext cx="8053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ум – это разборное жилище ненцев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B6C2-13F8-4CFA-B994-59E9895D24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9A71-6B95-4E95-815A-982EF6CE2E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Текст 2" descr=""/>
          <p:cNvPicPr/>
          <p:nvPr/>
        </p:nvPicPr>
        <p:blipFill>
          <a:blip r:embed="rId2"/>
          <a:stretch/>
        </p:blipFill>
        <p:spPr>
          <a:xfrm>
            <a:off x="0" y="1341360"/>
            <a:ext cx="5111640" cy="3830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72000" y="2924280"/>
            <a:ext cx="45720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ты – самое необходимое средство передвижения в тунд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298B6-99AC-4F81-A6D7-49A85536BC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68DD-9215-42F4-B5F9-3C960432FB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Текст 2" descr=""/>
          <p:cNvPicPr/>
          <p:nvPr/>
        </p:nvPicPr>
        <p:blipFill>
          <a:blip r:embed="rId2"/>
          <a:stretch/>
        </p:blipFill>
        <p:spPr>
          <a:xfrm>
            <a:off x="-108000" y="1844640"/>
            <a:ext cx="5040360" cy="338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788000" y="3487680"/>
            <a:ext cx="45511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нцы – язычники, верили в духов реки, озера, ветра, солнца, радуги, грозы, молни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68AC-E258-42E9-B930-F7BF37631F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D6E2-D0D3-4D93-A825-87198F40F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Текст 2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52992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родные условия на Ямале суровы. Поэтому для ненцев хорошая одежда очень важ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E780-F55B-4E55-9888-5B4CAEFB20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FAA3-457A-4F0A-BD24-D44F6F0B0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1844640"/>
            <a:ext cx="4643280" cy="4176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211640" y="2959200"/>
            <a:ext cx="49323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ят ненцы проводить спортивные состязания – соревнования – игры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16CD-1BD7-4639-8120-C1D40B441C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7A68-1E5E-49FC-B017-43EF32B13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Текст 2" descr=""/>
          <p:cNvPicPr/>
          <p:nvPr/>
        </p:nvPicPr>
        <p:blipFill>
          <a:blip r:embed="rId2"/>
          <a:stretch/>
        </p:blipFill>
        <p:spPr>
          <a:xfrm>
            <a:off x="1763640" y="1844640"/>
            <a:ext cx="5759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0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десь свежий воздух…который чувствуешь на вкус! Здесь бескрайний простор… который ощущаешь, но не можешь объять своим воображением! Здесь сохраняются вековые традиции предков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4CD4-41B7-409E-9FA6-6E582998BE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7166-0271-41F7-9FA9-1EDD013BF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Текст 2" descr=""/>
          <p:cNvPicPr/>
          <p:nvPr/>
        </p:nvPicPr>
        <p:blipFill>
          <a:blip r:embed="rId2"/>
          <a:stretch/>
        </p:blipFill>
        <p:spPr>
          <a:xfrm>
            <a:off x="0" y="1773360"/>
            <a:ext cx="3743280" cy="2508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556000" y="3940200"/>
            <a:ext cx="4222800" cy="2917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932360" y="1628640"/>
            <a:ext cx="421164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бро пожаловать в тундр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Текст 2" descr=""/>
          <p:cNvPicPr/>
          <p:nvPr/>
        </p:nvPicPr>
        <p:blipFill>
          <a:blip r:embed="rId2"/>
          <a:stretch/>
        </p:blipFill>
        <p:spPr>
          <a:xfrm>
            <a:off x="0" y="1197000"/>
            <a:ext cx="6716880" cy="5111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364000" y="1341360"/>
            <a:ext cx="3780000" cy="2376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5364000" y="3933720"/>
            <a:ext cx="3780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17:48:38Z</dcterms:created>
  <dc:creator>Admin</dc:creator>
  <dc:description>http://aida.ucoz.ru</dc:description>
  <dc:language>en-US</dc:language>
  <cp:lastModifiedBy>Admin</cp:lastModifiedBy>
  <dcterms:modified xsi:type="dcterms:W3CDTF">2016-04-13T06:10:56Z</dcterms:modified>
  <cp:revision>19</cp:revision>
  <dc:subject/>
  <dc:title>Добро пожаловать к ненцам!</dc:title>
</cp:coreProperties>
</file>