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1.png" ContentType="image/png"/>
  <Override PartName="/ppt/media/image9.png" ContentType="image/png"/>
  <Override PartName="/ppt/media/image6.gif" ContentType="image/gif"/>
  <Override PartName="/ppt/media/image17.gif" ContentType="image/gif"/>
  <Override PartName="/ppt/media/image3.png" ContentType="image/png"/>
  <Override PartName="/ppt/media/image16.gif" ContentType="image/gif"/>
  <Override PartName="/ppt/media/image2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1.jpeg" ContentType="image/jpeg"/>
  <Override PartName="/ppt/media/image7.png" ContentType="image/png"/>
  <Override PartName="/ppt/media/image8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81BA7-476D-42EC-A116-838907F6EF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1EF73-FC9A-4704-A3CB-05F4B5D3B01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7FC-6A27-4B5D-B0F2-AA9505415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7E9-3FA0-4EC3-9119-6D9DF9CC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3E44-CEF3-43A0-B78C-A7CA82360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025-9922-4712-8BBF-6C46A893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F11A-858D-40BB-84B5-AAE7D8A1C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4F26-05FF-4758-B6C2-057F8F4DA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DB23-6ADB-4F87-B597-4A5B6A08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E7D1E-D697-44FC-BB81-7B6469145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E33C-81D2-4369-8740-B51429B9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4F4E-0716-476A-8426-69385A65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346C2-EDC8-4F47-B76C-0209C203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D107-FBA8-4F2A-8B99-A32C54BA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6DE2E-5CE3-4C32-A59C-0048DB414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D5F4D-01D3-4574-BD3C-5762FED4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B984-0ECC-42B7-9989-739EE44EC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A135-5235-4B4B-B284-DB2BF6BB3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AE2E2-3FD8-4FEE-93F0-D62F5B92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E232-17EC-4676-B1C7-F33A4BCE6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89C4B-EB6D-4F73-BCD2-A7D2BC83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97F7D-1AC3-4F36-9559-DDEAD20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1308C-78CC-4665-91FE-32AE1EBC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8AA4-F8FA-4368-9B0C-7CF4B2BE1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9A92-1BCD-4392-BA97-607D8E10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D81D-02F9-4912-8BFE-6876BFA49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9D239-AB5D-4728-8089-C9177EF9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81256-8CAB-4B96-A81C-0A29F01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6A70F-7E27-4038-88F7-D154DD2D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3F3E6-1052-4AB9-9E65-0A905360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3AA30-6684-44A6-AE9E-026EB984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625A0D-A9DD-4D87-96E7-302A329C9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22AF4-2AFF-4F73-898A-94EEF07B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62DDC-47D0-42F2-8E73-FE3696FBC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4FAE7-F407-423F-91F4-94E3479E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E10C-A3EE-4F3A-8615-EC0E591E3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FFF5B-C0FD-4A66-A914-9EF506720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DAB0A6-6C9E-4028-9031-43779F780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A2A4-5912-4BB5-A157-43B71ABB6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C1CCAB-953C-4F2B-A24D-5E95B449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C3DD8-D5CA-45B3-8E71-05677CDC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F087A-7FEF-4AF3-BB2B-B94C6830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57F4E-64E5-4503-AAB6-AAC159F3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C1E046-0AC6-4E1D-821E-BCBB606B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D4D13-074C-42E2-B2CE-E3DA82523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F234-CB23-48F1-865F-8917401AE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C00-5B51-4632-8CDE-1204CF2D1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4499B-E5EB-4C29-B6F6-C37CE49C5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1D318-44C0-4454-9206-DE81F1F2E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60FF3-D2D8-4DE3-ACA1-C34F8302B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704A10-315D-4D73-B2EF-8D2E1DBDD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4AB9E6-1830-4CBB-8E7D-77DB66A0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C6401-2E53-498F-BADE-264E7983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5BC4-B2CF-4D5F-B536-91E485465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1CF45-6D55-42A8-8DF6-17A614D0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3064B-5DE3-4B2D-B2F2-235A5927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4B80-93B6-4936-9932-7D90B46AF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7CFD-236F-40E6-AEC8-06CB5A3C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10139A-43A5-48F7-ACC0-8FDDA55C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6798E-D754-48F8-856F-F09C813A6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4A2B78-A942-468B-AD3B-CE9775592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4137-EBB1-4819-A020-B70975A0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05D76-6408-4BFC-95F9-56BC54A2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007F7-E2D6-4EAE-B1A7-5CE0CD03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3CAD-D4FA-48F7-ABCD-9079BA09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3B71FC-B2BA-4F4E-AD02-F87F39E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6C15F1-19E2-431D-9BA6-4100549B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F2D7F2-CC7D-4556-81A5-1BD567DD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4C79-09DD-4406-B8EE-A35EA2FC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1FB45-57D9-468B-9D45-0CDC470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8BE624-11AF-4087-A58F-C782204E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465FB-8598-4679-A4AE-819C1899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027476-B276-40A8-A303-A6C72D3E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1408C8-C9B7-42DC-AF5B-7C91081B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F6E8C-0F55-4AB9-B869-01EA5F38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59D11E-6591-46FA-8BC4-849224026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E17E5-F68F-4009-82EE-B49FCAE0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F65805-F59A-4E72-A72B-40A0EC65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51996-F6FF-47DC-8C79-F14BA53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B458-E76E-48F7-BF54-089724F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0F2DC-57F5-47DF-8500-265B62858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C27443-8E48-4091-BB2E-8993C9C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1949E0-5386-4D57-85D0-F9EA5811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37F53E-49B9-470E-90B5-4BE804F1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5E0C5B-3993-4852-BD91-0CB46878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A14-B6E8-4EF2-A904-C274756E7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F7A02-BDC6-4AA6-BA04-4B82532749A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F1FB6-5B2F-4F6B-9AC8-1C9584FC9E4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2A8B5-A496-48E0-B609-ED39597537E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AEEFD-C1CB-4AED-855A-782FF95D89E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D0171-0447-443E-83FC-BA2B43EFC94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CC529-B721-49EF-9673-B6B566C5E48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D611A-5837-46BB-AA8B-439A34930C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6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lobachevskiy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rektor" TargetMode="External"/><Relationship Id="rId3" Type="http://schemas.openxmlformats.org/officeDocument/2006/relationships/hyperlink" Target="http://moikompas.ru/tags/lobachevskiy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moikompas.ru/tags/lobachevskiy" TargetMode="External"/><Relationship Id="rId2" Type="http://schemas.openxmlformats.org/officeDocument/2006/relationships/hyperlink" Target="http://moikompas.ru/tags/rektor" TargetMode="External"/><Relationship Id="rId3" Type="http://schemas.openxmlformats.org/officeDocument/2006/relationships/hyperlink" Target="http://moikompas.ru/tags/lobachevskiy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1283c8"/>
                </a:solidFill>
                <a:latin typeface="Monotype Corsiva"/>
              </a:rPr>
              <a:t>МБОУ СОШ п. Пионерский</a:t>
            </a:r>
            <a:br>
              <a:rPr sz="3900"/>
            </a:br>
            <a:br>
              <a:rPr sz="3900"/>
            </a:br>
            <a:r>
              <a:rPr b="1" lang="ru-RU" sz="3900" spc="-1" strike="noStrike">
                <a:solidFill>
                  <a:srgbClr val="572314"/>
                </a:solidFill>
                <a:latin typeface="Monotype Corsiva"/>
              </a:rPr>
              <a:t>«Геометрия Н.И.Лобачевского 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547640" y="5300280"/>
            <a:ext cx="6400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Проект ученика 7 класса,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Шепелев Никита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Руководитель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Corbel"/>
              </a:rPr>
              <a:t>Сидорова С. А., учитель математики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7" name="Picture 4" descr="pic"/>
          <p:cNvPicPr/>
          <p:nvPr/>
        </p:nvPicPr>
        <p:blipFill>
          <a:blip r:embed="rId1"/>
          <a:stretch/>
        </p:blipFill>
        <p:spPr>
          <a:xfrm>
            <a:off x="1143000" y="1857240"/>
            <a:ext cx="3143160" cy="421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Николай Иванович Лобачевский</a:t>
            </a:r>
            <a:br>
              <a:rPr sz="2500"/>
            </a:br>
            <a:r>
              <a:rPr b="0" lang="ru-RU" sz="2500" spc="-1" strike="noStrike">
                <a:solidFill>
                  <a:srgbClr val="572314"/>
                </a:solidFill>
                <a:latin typeface="Corbel"/>
              </a:rPr>
              <a:t>(1792 – 1856 гг.)</a:t>
            </a:r>
            <a:endParaRPr b="0" lang="en-US" sz="25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Rectangle 5"/>
          <p:cNvSpPr/>
          <p:nvPr/>
        </p:nvSpPr>
        <p:spPr>
          <a:xfrm>
            <a:off x="324000" y="1197000"/>
            <a:ext cx="8640720" cy="446400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И подумал Лобачевский: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« Но ведь связана с природой аксиома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Мы природу понимаем по-земному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Во Вселенной расстоянья неземные,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Могут действовать законы там иные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Параллельные пойдут непараллельно!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Там, где звёздный мир раскинулся без края, -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Monotype Corsiva"/>
              </a:rPr>
              <a:t>Аксиома параллели  - там другая!».</a:t>
            </a: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0" name="Picture 6" descr="Лобачёвский Николай Иванович"/>
          <p:cNvPicPr/>
          <p:nvPr/>
        </p:nvPicPr>
        <p:blipFill>
          <a:blip r:embed="rId1"/>
          <a:stretch/>
        </p:blipFill>
        <p:spPr>
          <a:xfrm>
            <a:off x="6227640" y="1341360"/>
            <a:ext cx="1886040" cy="2879640"/>
          </a:xfrm>
          <a:prstGeom prst="rect">
            <a:avLst/>
          </a:prstGeom>
          <a:ln w="38160">
            <a:solidFill>
              <a:srgbClr val="4f271c"/>
            </a:solidFill>
            <a:miter/>
          </a:ln>
        </p:spPr>
      </p:pic>
      <p:pic>
        <p:nvPicPr>
          <p:cNvPr id="371" name="Picture 11" descr="Mailme"/>
          <p:cNvPicPr/>
          <p:nvPr/>
        </p:nvPicPr>
        <p:blipFill>
          <a:blip r:embed="rId2"/>
          <a:stretch/>
        </p:blipFill>
        <p:spPr>
          <a:xfrm>
            <a:off x="395280" y="4437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«Чем отличается геометрия Лобачевского</a:t>
            </a:r>
            <a:br>
              <a:rPr sz="2300"/>
            </a:br>
            <a:r>
              <a:rPr b="0" lang="ru-RU" sz="2300" spc="-1" strike="noStrike">
                <a:solidFill>
                  <a:srgbClr val="572314"/>
                </a:solidFill>
                <a:latin typeface="Corbel"/>
              </a:rPr>
              <a:t>от геометрии Евклида?»</a:t>
            </a: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250920" y="2997000"/>
            <a:ext cx="4032000" cy="1944360"/>
          </a:xfrm>
          <a:prstGeom prst="rect">
            <a:avLst/>
          </a:prstGeom>
          <a:noFill/>
          <a:ln w="57240">
            <a:solidFill>
              <a:srgbClr val="4f271c"/>
            </a:solidFill>
            <a:miter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rbel"/>
              </a:rPr>
              <a:t>через точку, не лежащую на данной прямой, проходит только одна прямая, лежащая с данной прямой в одной плоскости и не пересекающая её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4788000" y="2997360"/>
            <a:ext cx="4105080" cy="1923480"/>
          </a:xfrm>
          <a:prstGeom prst="rect">
            <a:avLst/>
          </a:pr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ез точку, не лежащую на данной прямой, проходят по крайней мере две прямые, лежащие с данной прямой в одной плоскости и не пересекающие её.</a:t>
            </a:r>
            <a:endParaRPr b="0" lang="en-US" sz="2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5" name="AutoShape 6"/>
          <p:cNvSpPr/>
          <p:nvPr/>
        </p:nvSpPr>
        <p:spPr>
          <a:xfrm>
            <a:off x="61128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Евклидова аксио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6" name="AutoShape 7"/>
          <p:cNvSpPr/>
          <p:nvPr/>
        </p:nvSpPr>
        <p:spPr>
          <a:xfrm>
            <a:off x="5292720" y="1052640"/>
            <a:ext cx="3168720" cy="12240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Аксиома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Лобачевского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о параллельных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7" name="AutoShape 8"/>
          <p:cNvSpPr/>
          <p:nvPr/>
        </p:nvSpPr>
        <p:spPr>
          <a:xfrm>
            <a:off x="1476360" y="2276640"/>
            <a:ext cx="165564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78" name="AutoShape 9"/>
          <p:cNvSpPr/>
          <p:nvPr/>
        </p:nvSpPr>
        <p:spPr>
          <a:xfrm>
            <a:off x="6227640" y="2276640"/>
            <a:ext cx="1584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79" name="Picture 11" descr="umnik"/>
          <p:cNvPicPr/>
          <p:nvPr/>
        </p:nvPicPr>
        <p:blipFill>
          <a:blip r:embed="rId1"/>
          <a:stretch/>
        </p:blipFill>
        <p:spPr>
          <a:xfrm>
            <a:off x="673272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2" descr="umnik"/>
          <p:cNvPicPr/>
          <p:nvPr/>
        </p:nvPicPr>
        <p:blipFill>
          <a:blip r:embed="rId2"/>
          <a:stretch/>
        </p:blipFill>
        <p:spPr>
          <a:xfrm>
            <a:off x="1979640" y="2349360"/>
            <a:ext cx="647640" cy="4939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6" descr="Mailme"/>
          <p:cNvPicPr/>
          <p:nvPr/>
        </p:nvPicPr>
        <p:blipFill>
          <a:blip r:embed="rId3"/>
          <a:stretch/>
        </p:blipFill>
        <p:spPr>
          <a:xfrm>
            <a:off x="179280" y="4653000"/>
            <a:ext cx="895320" cy="895320"/>
          </a:xfrm>
          <a:prstGeom prst="rect">
            <a:avLst/>
          </a:prstGeom>
          <a:ln w="0">
            <a:noFill/>
          </a:ln>
        </p:spPr>
      </p:pic>
      <p:sp>
        <p:nvSpPr>
          <p:cNvPr id="382" name="Line 27"/>
          <p:cNvSpPr/>
          <p:nvPr/>
        </p:nvSpPr>
        <p:spPr>
          <a:xfrm flipV="1">
            <a:off x="826920" y="5229360"/>
            <a:ext cx="2305080" cy="792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3" name="Line 28"/>
          <p:cNvSpPr/>
          <p:nvPr/>
        </p:nvSpPr>
        <p:spPr>
          <a:xfrm flipV="1">
            <a:off x="826920" y="5589360"/>
            <a:ext cx="2665440" cy="981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4" name="Oval 29"/>
          <p:cNvSpPr/>
          <p:nvPr/>
        </p:nvSpPr>
        <p:spPr>
          <a:xfrm>
            <a:off x="1908000" y="5589720"/>
            <a:ext cx="71640" cy="14436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5" name="Line 30"/>
          <p:cNvSpPr/>
          <p:nvPr/>
        </p:nvSpPr>
        <p:spPr>
          <a:xfrm flipV="1">
            <a:off x="5076720" y="5300280"/>
            <a:ext cx="1943280" cy="129708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6" name="Line 31"/>
          <p:cNvSpPr/>
          <p:nvPr/>
        </p:nvSpPr>
        <p:spPr>
          <a:xfrm flipV="1">
            <a:off x="5796000" y="5445000"/>
            <a:ext cx="1800360" cy="1224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7" name="Oval 32"/>
          <p:cNvSpPr/>
          <p:nvPr/>
        </p:nvSpPr>
        <p:spPr>
          <a:xfrm>
            <a:off x="6443640" y="6165720"/>
            <a:ext cx="73080" cy="142920"/>
          </a:xfrm>
          <a:prstGeom prst="ellipse">
            <a:avLst/>
          </a:prstGeom>
          <a:solidFill>
            <a:srgbClr val="00ffff">
              <a:alpha val="50000"/>
            </a:srgbClr>
          </a:solidFill>
          <a:ln w="12600">
            <a:solidFill>
              <a:srgbClr val="000099"/>
            </a:solidFill>
            <a:miter/>
          </a:ln>
          <a:effectLst>
            <a:outerShdw dist="40186" dir="1096358" blurRad="0" rotWithShape="0">
              <a:srgbClr val="99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88" name="Line 33"/>
          <p:cNvSpPr/>
          <p:nvPr/>
        </p:nvSpPr>
        <p:spPr>
          <a:xfrm flipH="1">
            <a:off x="5940360" y="5445000"/>
            <a:ext cx="1152720" cy="1413000"/>
          </a:xfrm>
          <a:prstGeom prst="line">
            <a:avLst/>
          </a:prstGeom>
          <a:ln w="25560">
            <a:solidFill>
              <a:srgbClr val="d31a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9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9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1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645920" y="142848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Наглядно геометрию Лобачевского можно устроить и на бумаге. Если нарисовать окружность, то мы можем, не выходя за её пределы, провести сколько угодно прямых, не пересекающих данную.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91" name="Group 4"/>
          <p:cNvGrpSpPr/>
          <p:nvPr/>
        </p:nvGrpSpPr>
        <p:grpSpPr>
          <a:xfrm>
            <a:off x="3492360" y="4194000"/>
            <a:ext cx="2737080" cy="2664000"/>
            <a:chOff x="3492360" y="4194000"/>
            <a:chExt cx="2737080" cy="2664000"/>
          </a:xfrm>
        </p:grpSpPr>
        <p:sp>
          <p:nvSpPr>
            <p:cNvPr id="392" name="Oval 5"/>
            <p:cNvSpPr/>
            <p:nvPr/>
          </p:nvSpPr>
          <p:spPr>
            <a:xfrm>
              <a:off x="3492360" y="4194000"/>
              <a:ext cx="2737080" cy="266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3" name="Line 6"/>
            <p:cNvSpPr/>
            <p:nvPr/>
          </p:nvSpPr>
          <p:spPr>
            <a:xfrm flipH="1">
              <a:off x="4274280" y="4320360"/>
              <a:ext cx="130320" cy="22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4" name="Line 7"/>
            <p:cNvSpPr/>
            <p:nvPr/>
          </p:nvSpPr>
          <p:spPr>
            <a:xfrm flipH="1">
              <a:off x="4665240" y="4447080"/>
              <a:ext cx="91224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5" name="Line 8"/>
            <p:cNvSpPr/>
            <p:nvPr/>
          </p:nvSpPr>
          <p:spPr>
            <a:xfrm>
              <a:off x="4925880" y="4447080"/>
              <a:ext cx="39096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396" name="Line 9"/>
            <p:cNvSpPr/>
            <p:nvPr/>
          </p:nvSpPr>
          <p:spPr>
            <a:xfrm flipH="1">
              <a:off x="5055840" y="4447080"/>
              <a:ext cx="129960" cy="215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«И физика в дальнейшем подтвердила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Теория его не миф, не сон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уч света не прямой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близи светила он силой тяготенья искривлён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d31a07"/>
                </a:solidFill>
                <a:latin typeface="Corbel"/>
              </a:rPr>
              <a:t>Вывод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457200" y="90756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Заменив </a:t>
            </a:r>
            <a:r>
              <a:rPr b="1" lang="en-US" sz="1800" spc="-1" strike="noStrike">
                <a:solidFill>
                  <a:srgbClr val="4f271c"/>
                </a:solidFill>
                <a:latin typeface="Gill Sans MT"/>
              </a:rPr>
              <a:t>V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постулат евклидовой геометрии на аксиому, Лобачевский пришел к выводу, что можно построить другую геометрию, отличную от евклидовой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         </a:t>
            </a:r>
            <a:r>
              <a:rPr b="1" lang="ru-RU" sz="1800" spc="-1" strike="noStrike">
                <a:solidFill>
                  <a:srgbClr val="4f271c"/>
                </a:solidFill>
                <a:latin typeface="Corbel"/>
              </a:rPr>
              <a:t>Геометрия Лобачевского отличается от евклидовой лишь в одной аксиоме — пятой.  Но главное различие кроется в понимании самой природы пространства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Corbe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625320" indent="-6253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00" name="Picture 14" descr="Mailme"/>
          <p:cNvPicPr/>
          <p:nvPr/>
        </p:nvPicPr>
        <p:blipFill>
          <a:blip r:embed="rId1"/>
          <a:stretch/>
        </p:blipFill>
        <p:spPr>
          <a:xfrm>
            <a:off x="0" y="1052640"/>
            <a:ext cx="826920" cy="826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5" descr="Mailme"/>
          <p:cNvPicPr/>
          <p:nvPr/>
        </p:nvPicPr>
        <p:blipFill>
          <a:blip r:embed="rId2"/>
          <a:stretch/>
        </p:blipFill>
        <p:spPr>
          <a:xfrm>
            <a:off x="0" y="3500280"/>
            <a:ext cx="826920" cy="82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Список литературы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79280" y="907560"/>
            <a:ext cx="868680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олесников М. Лобачевский./. Серия «Жизнь замечательных людей». – М.: Молодая гвардия, 1965. – 320 стр. с илл. 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Широков П.А. Краткий очерк основ геометрии                                      Лобачевского./. – М.: Наука, 1983. – 76 стр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Геометрия Лобачевского. Материал                                                                        из Википедии — свободной энциклопедии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Энциклопедия «Что такое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Кто такой</a:t>
            </a:r>
            <a:r>
              <a:rPr b="1" lang="en-US" sz="1600" spc="-1" strike="noStrike">
                <a:solidFill>
                  <a:srgbClr val="000000"/>
                </a:solidFill>
                <a:latin typeface="Gill Sans MT"/>
              </a:rPr>
              <a:t>?</a:t>
            </a:r>
            <a:r>
              <a:rPr b="1" lang="ru-RU" sz="1600" spc="-1" strike="noStrike">
                <a:solidFill>
                  <a:srgbClr val="000000"/>
                </a:solidFill>
                <a:latin typeface="Corbel"/>
              </a:rPr>
              <a:t>».-М.: Педагогика – Пресс.-2000г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4" name="Rectangle 4"/>
          <p:cNvSpPr/>
          <p:nvPr/>
        </p:nvSpPr>
        <p:spPr>
          <a:xfrm>
            <a:off x="0" y="3284640"/>
            <a:ext cx="8686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f271c"/>
                </a:solidFill>
                <a:latin typeface="Arial Black"/>
              </a:rPr>
              <a:t>Web </a:t>
            </a:r>
            <a:r>
              <a:rPr b="0" lang="ru-RU" sz="4000" spc="-1" strike="noStrike">
                <a:solidFill>
                  <a:srgbClr val="4f271c"/>
                </a:solidFill>
                <a:latin typeface="Arial Black"/>
              </a:rPr>
              <a:t>ресурсы</a:t>
            </a:r>
            <a:endParaRPr b="0" lang="en-US" sz="40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405" name="Text Box 5"/>
          <p:cNvSpPr/>
          <p:nvPr/>
        </p:nvSpPr>
        <p:spPr>
          <a:xfrm>
            <a:off x="324000" y="4365720"/>
            <a:ext cx="8569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pereplet.ru/obrazovanie/stsoros/67.htm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 неевклидовой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геометрии, Э. Б. ВИНБЕРГ, Московский государственный университет им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.В. Ломоносова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hrono.ru/biograf/lobachevski.html - Шикман А.П. Деятели отечественной истории. Биографический справочник. Москва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997 г. 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ww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icompas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ru/html - биография Лобачевского.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406" name="Picture 7" descr="AG00488_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6659640" y="1628640"/>
            <a:ext cx="2160360" cy="213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главление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1) Цель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2)Задачи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)Содержание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1 Биография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2 Эксперимент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3 Изучение постулата Евклида и аксиомы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3.4 Семиклассники о геометрии Лобачевского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4)Вывод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5)Используемая литература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Corbel"/>
              </a:rPr>
              <a:t>ЦЕЛЬ:  Изучить основные положения геометрии  Лобачевского  </a:t>
            </a:r>
            <a:br>
              <a:rPr sz="2000"/>
            </a:br>
            <a:r>
              <a:rPr b="1" lang="ru-RU" sz="2000" spc="-1" strike="noStrike">
                <a:solidFill>
                  <a:srgbClr val="aa305e"/>
                </a:solidFill>
                <a:latin typeface="Corbel"/>
              </a:rPr>
              <a:t>Задачи:</a:t>
            </a:r>
            <a:endParaRPr b="0" lang="en-US" sz="20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000080" y="857160"/>
            <a:ext cx="76564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провести эксперимент «Не верь глазам своим»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сравнить пятый постулат Евклида и аксиому Лобачевского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изучить аксиому Лобачевского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4f271c"/>
                </a:solidFill>
                <a:latin typeface="Bookman Old Style"/>
              </a:rPr>
              <a:t>сделать выводы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2" name="Picture 4" descr="13766_prev_98"/>
          <p:cNvPicPr/>
          <p:nvPr/>
        </p:nvPicPr>
        <p:blipFill>
          <a:blip r:embed="rId1"/>
          <a:stretch/>
        </p:blipFill>
        <p:spPr>
          <a:xfrm>
            <a:off x="0" y="907920"/>
            <a:ext cx="826920" cy="747720"/>
          </a:xfrm>
          <a:prstGeom prst="rect">
            <a:avLst/>
          </a:prstGeom>
          <a:ln w="0">
            <a:noFill/>
          </a:ln>
        </p:spPr>
      </p:pic>
      <p:grpSp>
        <p:nvGrpSpPr>
          <p:cNvPr id="333" name="Цилиндр 5"/>
          <p:cNvGrpSpPr/>
          <p:nvPr/>
        </p:nvGrpSpPr>
        <p:grpSpPr>
          <a:xfrm>
            <a:off x="1706400" y="3017880"/>
            <a:ext cx="1073160" cy="1371600"/>
            <a:chOff x="1706400" y="3017880"/>
            <a:chExt cx="1073160" cy="1371600"/>
          </a:xfrm>
        </p:grpSpPr>
        <p:pic>
          <p:nvPicPr>
            <p:cNvPr id="334" name="Цилиндр 5" descr=""/>
            <p:cNvPicPr/>
            <p:nvPr/>
          </p:nvPicPr>
          <p:blipFill>
            <a:blip r:embed="rId2"/>
            <a:stretch/>
          </p:blipFill>
          <p:spPr>
            <a:xfrm>
              <a:off x="1706400" y="3017880"/>
              <a:ext cx="1073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1785960" y="3300480"/>
              <a:ext cx="914400" cy="87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36" name="Куб 6"/>
          <p:cNvGrpSpPr/>
          <p:nvPr/>
        </p:nvGrpSpPr>
        <p:grpSpPr>
          <a:xfrm>
            <a:off x="2779560" y="3591000"/>
            <a:ext cx="1371600" cy="1371600"/>
            <a:chOff x="2779560" y="3591000"/>
            <a:chExt cx="1371600" cy="1371600"/>
          </a:xfrm>
        </p:grpSpPr>
        <p:pic>
          <p:nvPicPr>
            <p:cNvPr id="337" name="Куб 6" descr=""/>
            <p:cNvPicPr/>
            <p:nvPr/>
          </p:nvPicPr>
          <p:blipFill>
            <a:blip r:embed="rId3"/>
            <a:stretch/>
          </p:blipFill>
          <p:spPr>
            <a:xfrm>
              <a:off x="2779560" y="35910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2857680" y="3948120"/>
              <a:ext cx="9126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39" name="Цилиндр 7"/>
          <p:cNvGrpSpPr/>
          <p:nvPr/>
        </p:nvGrpSpPr>
        <p:grpSpPr>
          <a:xfrm>
            <a:off x="4632480" y="3090960"/>
            <a:ext cx="1073160" cy="1371600"/>
            <a:chOff x="4632480" y="3090960"/>
            <a:chExt cx="1073160" cy="1371600"/>
          </a:xfrm>
        </p:grpSpPr>
        <p:pic>
          <p:nvPicPr>
            <p:cNvPr id="340" name="Цилиндр 7" descr=""/>
            <p:cNvPicPr/>
            <p:nvPr/>
          </p:nvPicPr>
          <p:blipFill>
            <a:blip r:embed="rId4"/>
            <a:stretch/>
          </p:blipFill>
          <p:spPr>
            <a:xfrm>
              <a:off x="4632480" y="3090960"/>
              <a:ext cx="107316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714920" y="3371760"/>
              <a:ext cx="914400" cy="87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grpSp>
        <p:nvGrpSpPr>
          <p:cNvPr id="342" name="Куб 8"/>
          <p:cNvGrpSpPr/>
          <p:nvPr/>
        </p:nvGrpSpPr>
        <p:grpSpPr>
          <a:xfrm>
            <a:off x="6066000" y="3591000"/>
            <a:ext cx="1371600" cy="1371600"/>
            <a:chOff x="6066000" y="3591000"/>
            <a:chExt cx="1371600" cy="1371600"/>
          </a:xfrm>
        </p:grpSpPr>
        <p:pic>
          <p:nvPicPr>
            <p:cNvPr id="343" name="Куб 8" descr=""/>
            <p:cNvPicPr/>
            <p:nvPr/>
          </p:nvPicPr>
          <p:blipFill>
            <a:blip r:embed="rId5"/>
            <a:stretch/>
          </p:blipFill>
          <p:spPr>
            <a:xfrm>
              <a:off x="6066000" y="35910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"/>
            <p:cNvSpPr/>
            <p:nvPr/>
          </p:nvSpPr>
          <p:spPr>
            <a:xfrm>
              <a:off x="6143760" y="3948120"/>
              <a:ext cx="912600" cy="91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79280" y="69228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оротко о жизни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иколай Иванович </a:t>
            </a:r>
            <a:r>
              <a:rPr b="1" lang="ru-RU" sz="32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Лобачевский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родился 20 ноября (1 декабря) 1792 в Нижнем Новгороде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. Окончив гимназию, </a:t>
            </a:r>
            <a:r>
              <a:rPr b="0" lang="ru-RU" sz="32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Лобачевский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поступил в Казанский университет. 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262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 1811 получил степень магистра, в 1814 стал адъюнктом, в 1816 — экстраординарным, в 1822 — ординарным профессором. Вел научную работу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08000" y="981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В 1827 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1"/>
              </a:rPr>
              <a:t>Лобачевский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 был назначен </a:t>
            </a: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2"/>
              </a:rPr>
              <a:t>ректор</a:t>
            </a:r>
            <a:r>
              <a:rPr b="1" lang="ru-RU" sz="2800" spc="-1" strike="noStrike">
                <a:solidFill>
                  <a:srgbClr val="000000"/>
                </a:solidFill>
                <a:latin typeface="Blackadder ITC"/>
              </a:rPr>
              <a:t>ом Казанского университета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. Главным достижением Лобачевского является доказательство того, что существует более чем одна "истинная" геометрия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8dc765"/>
                </a:solidFill>
                <a:uFillTx/>
                <a:latin typeface="Blackadder ITC"/>
                <a:hlinkClick r:id="rId3"/>
              </a:rPr>
              <a:t>Лобачевский</a:t>
            </a:r>
            <a:r>
              <a:rPr b="0" lang="ru-RU" sz="2800" spc="-1" strike="noStrike">
                <a:solidFill>
                  <a:srgbClr val="000000"/>
                </a:solidFill>
                <a:latin typeface="Blackadder ITC"/>
              </a:rPr>
              <a:t> представил свою неевклидову геометрию 23 февраля 1826 на заседании отделения физико-математических наук Казанского университета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08000" y="259920"/>
            <a:ext cx="8686800" cy="51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66ffff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редложенное им сочинение называлось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«Сжатое изложение основ геометрии со строгим доказательством теоремы о параллельных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»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К сожалению, эта работа в то время не была понята и не получила поддержки. 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В 1846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1"/>
              </a:rPr>
              <a:t>Лобачевски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казался фактически отстранённым от университета. Он был назначен помощником нового попечителя (без оплаты) и лишён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2"/>
              </a:rPr>
              <a:t>ректор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ства. Здоровье его пошатнулось.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Последнюю работу </a:t>
            </a:r>
            <a:r>
              <a:rPr b="1" lang="ru-RU" sz="2600" spc="-1" strike="noStrike">
                <a:solidFill>
                  <a:srgbClr val="000000"/>
                </a:solidFill>
                <a:latin typeface="Corbel"/>
              </a:rPr>
              <a:t>«Пангеометрию»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он создал за год до смерти, диктуя её текст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Умер </a:t>
            </a:r>
            <a:r>
              <a:rPr b="0" lang="ru-RU" sz="2600" spc="-1" strike="noStrike" u="sng">
                <a:solidFill>
                  <a:srgbClr val="8dc765"/>
                </a:solidFill>
                <a:uFillTx/>
                <a:latin typeface="Corbel"/>
                <a:hlinkClick r:id="rId3"/>
              </a:rPr>
              <a:t>Лобачевский</a:t>
            </a: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непризнанным в Казани 12 (24) февраля 1856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72314"/>
                </a:solidFill>
                <a:latin typeface="Corbel"/>
              </a:rPr>
              <a:t>Эксперимент «Не верь глазам своим»</a:t>
            </a:r>
            <a:endParaRPr b="0" lang="en-US" sz="32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0" name="Picture 8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033800" cy="40320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76720" cy="40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572314"/>
                </a:solidFill>
                <a:latin typeface="Corbel"/>
              </a:rPr>
              <a:t>Эксперимент «Иллюзии зрения»</a:t>
            </a:r>
            <a:endParaRPr b="0" lang="en-US" sz="3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3" name="Picture 83" descr=""/>
          <p:cNvPicPr/>
          <p:nvPr/>
        </p:nvPicPr>
        <p:blipFill>
          <a:blip r:embed="rId1"/>
          <a:stretch/>
        </p:blipFill>
        <p:spPr>
          <a:xfrm>
            <a:off x="0" y="836640"/>
            <a:ext cx="3348000" cy="264780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 rot="1278600">
            <a:off x="3503160" y="2161800"/>
            <a:ext cx="3311640" cy="2303640"/>
          </a:xfrm>
          <a:prstGeom prst="rect">
            <a:avLst/>
          </a:prstGeom>
          <a:solidFill>
            <a:srgbClr val="00ffff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ИТОГИ опроса: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всего  параллельно   нет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20        3%         97%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a305e"/>
                </a:solidFill>
                <a:latin typeface="Arial"/>
              </a:rPr>
              <a:t>Ответ:</a:t>
            </a:r>
            <a:r>
              <a:rPr b="1" lang="ru-RU" sz="2400" spc="-1" strike="noStrike">
                <a:solidFill>
                  <a:srgbClr val="aa305e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eb80a"/>
                </a:solidFill>
                <a:latin typeface="Arial"/>
              </a:rPr>
              <a:t>параллельно.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5" name="Line 64"/>
          <p:cNvSpPr/>
          <p:nvPr/>
        </p:nvSpPr>
        <p:spPr>
          <a:xfrm>
            <a:off x="3924360" y="2133720"/>
            <a:ext cx="2951280" cy="115092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6" name="Line 66"/>
          <p:cNvSpPr/>
          <p:nvPr/>
        </p:nvSpPr>
        <p:spPr>
          <a:xfrm flipH="1">
            <a:off x="3634920" y="213372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7" name="Line 67"/>
          <p:cNvSpPr/>
          <p:nvPr/>
        </p:nvSpPr>
        <p:spPr>
          <a:xfrm>
            <a:off x="3635280" y="278136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8" name="Line 68"/>
          <p:cNvSpPr/>
          <p:nvPr/>
        </p:nvSpPr>
        <p:spPr>
          <a:xfrm flipV="1">
            <a:off x="6588000" y="3284280"/>
            <a:ext cx="289080" cy="64908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59" name="Line 69"/>
          <p:cNvSpPr/>
          <p:nvPr/>
        </p:nvSpPr>
        <p:spPr>
          <a:xfrm flipH="1">
            <a:off x="4356000" y="2421000"/>
            <a:ext cx="2872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0" name="Line 70"/>
          <p:cNvSpPr/>
          <p:nvPr/>
        </p:nvSpPr>
        <p:spPr>
          <a:xfrm flipH="1">
            <a:off x="5866920" y="2997360"/>
            <a:ext cx="289080" cy="64764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1" name="Line 71"/>
          <p:cNvSpPr/>
          <p:nvPr/>
        </p:nvSpPr>
        <p:spPr>
          <a:xfrm>
            <a:off x="3780000" y="2421000"/>
            <a:ext cx="2952720" cy="1152360"/>
          </a:xfrm>
          <a:prstGeom prst="line">
            <a:avLst/>
          </a:prstGeom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362" name="Rectangle 79"/>
          <p:cNvSpPr/>
          <p:nvPr/>
        </p:nvSpPr>
        <p:spPr>
          <a:xfrm>
            <a:off x="179280" y="5157720"/>
            <a:ext cx="8713800" cy="1366920"/>
          </a:xfrm>
          <a:prstGeom prst="rect">
            <a:avLst/>
          </a:prstGeom>
          <a:solidFill>
            <a:srgbClr val="00ffff">
              <a:alpha val="31000"/>
            </a:srgbClr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eb80a"/>
                </a:solidFill>
                <a:latin typeface="Arial"/>
              </a:rPr>
              <a:t>В геометрии истинность каждого утверждения необходимо доказывать, нельзя полагаться только на наблюдения. </a:t>
            </a:r>
            <a:endParaRPr b="0" lang="en-US" sz="19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feb80a"/>
                </a:solidFill>
                <a:latin typeface="Arial"/>
              </a:rPr>
              <a:t>Положительный момент:</a:t>
            </a:r>
            <a:r>
              <a:rPr b="1" lang="ru-RU" sz="1900" spc="-1" strike="noStrike">
                <a:solidFill>
                  <a:srgbClr val="feb80a"/>
                </a:solidFill>
                <a:latin typeface="Arial"/>
              </a:rPr>
              <a:t> благодаря зрительным искажениям существует живопись.</a:t>
            </a:r>
            <a:endParaRPr b="0" lang="en-US" sz="19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a305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aa305e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pic>
        <p:nvPicPr>
          <p:cNvPr id="363" name="Picture 80" descr="Mailme"/>
          <p:cNvPicPr/>
          <p:nvPr/>
        </p:nvPicPr>
        <p:blipFill>
          <a:blip r:embed="rId2"/>
          <a:stretch/>
        </p:blipFill>
        <p:spPr>
          <a:xfrm>
            <a:off x="0" y="4761000"/>
            <a:ext cx="895320" cy="895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692360" y="0"/>
            <a:ext cx="7750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Евклид (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III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 век до н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. 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э</a:t>
            </a:r>
            <a:r>
              <a:rPr b="0" lang="en-US" sz="1800" spc="-1" strike="noStrike">
                <a:solidFill>
                  <a:srgbClr val="572314"/>
                </a:solidFill>
                <a:latin typeface="Gill Sans MT"/>
              </a:rPr>
              <a:t>.</a:t>
            </a:r>
            <a:r>
              <a:rPr b="0" lang="ru-RU" sz="1800" spc="-1" strike="noStrike">
                <a:solidFill>
                  <a:srgbClr val="572314"/>
                </a:solidFill>
                <a:latin typeface="Corbel"/>
              </a:rPr>
              <a:t>)</a:t>
            </a:r>
            <a:br>
              <a:rPr sz="18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Древнегреческий</a:t>
            </a:r>
            <a:r>
              <a:rPr b="0" lang="en-US" sz="16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математик, автор первого трактата </a:t>
            </a:r>
            <a:br>
              <a:rPr sz="1600"/>
            </a:br>
            <a:r>
              <a:rPr b="0" lang="ru-RU" sz="1600" spc="-1" strike="noStrike">
                <a:solidFill>
                  <a:srgbClr val="572314"/>
                </a:solidFill>
                <a:latin typeface="Corbel"/>
              </a:rPr>
              <a:t>по геометрии «Начала» (в 13 книгах).</a:t>
            </a:r>
            <a:endParaRPr b="0" lang="en-US" sz="1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979640" y="1197000"/>
            <a:ext cx="6958080" cy="4392720"/>
          </a:xfrm>
          <a:prstGeom prst="rect">
            <a:avLst/>
          </a:prstGeom>
          <a:solidFill>
            <a:srgbClr val="00ffff">
              <a:alpha val="22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И стояла геометрия Евклида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Как  египетская чудо-пирамид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Строже выдумать строение невозможно,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Лишь одна была в ней глыба ненадёжна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Аксиома называлась «параллели»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Разгадать её загадку не сумели.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6" name="Picture 9" descr="180px-Euklid2"/>
          <p:cNvPicPr/>
          <p:nvPr/>
        </p:nvPicPr>
        <p:blipFill>
          <a:blip r:embed="rId1"/>
          <a:stretch/>
        </p:blipFill>
        <p:spPr>
          <a:xfrm>
            <a:off x="0" y="0"/>
            <a:ext cx="1857240" cy="299736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10" descr="rf22d_na[1]"/>
          <p:cNvPicPr/>
          <p:nvPr/>
        </p:nvPicPr>
        <p:blipFill>
          <a:blip r:embed="rId2"/>
          <a:stretch/>
        </p:blipFill>
        <p:spPr>
          <a:xfrm rot="1209600">
            <a:off x="0" y="4076640"/>
            <a:ext cx="1763640" cy="14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18:52:32Z</dcterms:created>
  <dc:creator>werr</dc:creator>
  <dc:description/>
  <dc:language>en-US</dc:language>
  <cp:lastModifiedBy>ПСШ</cp:lastModifiedBy>
  <dcterms:modified xsi:type="dcterms:W3CDTF">2016-04-12T13:50:42Z</dcterms:modified>
  <cp:revision>46</cp:revision>
  <dc:subject/>
  <dc:title>Лобачевский и его геометри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21171049</vt:lpwstr>
  </property>
</Properties>
</file>