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1.png" ContentType="image/png"/>
  <Override PartName="/ppt/media/image9.png" ContentType="image/png"/>
  <Override PartName="/ppt/media/image6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2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.jpeg" ContentType="image/jpe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591F-2882-41AC-A949-F99EF94457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1CA7-8D55-46D1-8E10-36B8447EAF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84EA-67A3-4AF2-9F36-CD6F68700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00A6-6AC1-4643-AE8D-B5C322BF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E786-B06B-4060-8BA6-776D19783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9D96-EB81-4933-B17B-DA9847053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5A9A-1C73-4A50-A100-AEE43257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FA0F-3B93-4A36-AE1E-E6DA7631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C313-A904-4537-8420-FE29BB51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E6FB-38B2-40FC-9575-B5C58224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8A6E-3486-4CFE-9142-4AF9FE7B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2802-4533-405F-8DE4-47A83B40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F8EC-C69E-47B5-AE57-ED30BD59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1A36-B0AF-436C-B5C6-50051B24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C67A-F1F7-435C-9068-406311AC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64F2-9B63-4B1D-B5F4-DCA81871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8D90-5F97-447E-8C2A-5A021473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5944-4B54-4DF9-9FFF-BDFC8ADE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8FCF-CBA8-4B5F-A298-3F2CE488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ECABC-F204-40CE-95D0-EA1F307DE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03F45-38D6-4AD0-8F82-A7357FDE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0632E-A212-426C-BFB8-1D32B979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5BFC2-D637-484C-91E8-BBE38F2D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3293E-DACF-447F-8F46-971B0088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FFFC-EBB3-4EDA-AB30-24C01484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3D910-6D26-4338-87F1-2A370828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8DAF3-1C38-4FC2-BDEF-9C9F8F7E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C5E69-6956-4C80-9880-BD586B00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36515-F147-4515-B6B6-FAAADF49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B4FFC-E48B-417E-A36B-A9BBA326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6280E-C0D8-4915-B25D-729A32D10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F5A57-2A39-4F3A-9920-AC82CEE6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020C2-06C5-449C-8BC8-FD768896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84406-A626-47D7-9353-7C9E7DD6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73483-880C-449C-BAA8-E29FF2C0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C8A9-9693-45DA-8647-97AD4B9E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48151-BB1A-4D66-B753-8AEFB4F5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E3D75-189D-4353-825C-65E96640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765CF-7498-4C02-A5C9-EEB8D0BB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60FD4-54E2-464A-81CE-065B2F15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71359-4878-4199-83D7-23FDF4DE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BB365-D2F0-4F5F-AADE-D9F06EB6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42BC4-14AD-49AD-BC2B-6A178C8F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7BE41-1594-4789-ACFF-1D125604C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6970F-D992-4FA8-89F2-70841B8F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28EA0-200D-489A-A600-10ADE364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78F6-2DBC-41A4-97D4-A27BD763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8AF69-1E44-4493-B992-CCF8715B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AF573-5BF9-4BD7-B39B-0D8F7C22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03EAB-8D8A-4527-A11D-BA6E5771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DC61F-9D32-463A-AC55-448E462D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074B0-145E-4C8F-9B99-37BBA126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C1A82-A182-4019-972E-23B17380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0A826-5877-43F5-96CB-42EE0911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E4EAB-74F8-4F83-BC1F-F9D81757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0EC28-FA88-4B7C-8269-7AECBA40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94D4E-8CAF-4B44-9578-5F2C25FC5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AEA3-0045-4589-BE89-AD023A36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58C0E-607B-4EB2-B940-3EBF083D1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F3EE8-6292-4DA4-AEF0-E22E11E2C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02DB8-8B08-42E3-AF15-50D8A570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7ED46-43F1-40C2-885A-AD627C75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B90A6-B231-49E1-8F27-C0C011EB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C38A2-D756-4444-AC35-0903F053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AF80D-5BCF-401B-84FD-74A23CCA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A35FB-2A0E-4CB2-8D94-D9F2F3B9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1DB83-1C45-4C00-9A9A-D1DC4A43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5C9AA-58F2-4DE7-A4C8-1B27C2F0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3644-1D2E-4672-9D00-8807B696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C95EA-0466-4165-98B5-4CA1FC29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4CB56-D8DD-4533-A43E-DC58164C2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F11BB-80D4-4F3B-BDF7-8B66E23A8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E8689-3E38-4045-B76A-BB1409ED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9BB8D-9B50-4153-BEF4-3EBCA4A0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34ECA-938D-4003-AE38-8D67D2B1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932AA-B856-49AE-AF21-3069ADA5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BFDEE-F139-4FE5-A7A9-2A8EEEAD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A7C73-944E-42A9-A7F1-C2031FA0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48687-244D-46E8-9BED-AE6BDBEE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2175-B4F0-4C32-8848-F0BAC617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836E9-56E5-4B66-8920-37B29D92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0143E-3E30-467E-8215-09F68966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0F2FB-F929-4443-863F-53BA0593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6F7A6-B77E-4658-B243-1A76D49D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954BE-07E9-4528-9F9C-ED9DBC6D5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417B-7250-4C7A-8A61-F0A12CBA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2062-4908-47E4-9809-DCE33455875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5A9E-F085-4370-B8EC-F9171D8F394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03A7-0956-4FEB-8A73-15402658418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23A8-3F2F-43B3-85DC-149896A684A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A002-B526-468C-A540-5FB727AA717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6266-A90D-4EC3-8FAF-40F28DD8AFD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15EC-3E9D-4D70-BCC5-E01A0A2615F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oikompas.ru/tags/lobachevskiy" TargetMode="External"/><Relationship Id="rId2" Type="http://schemas.openxmlformats.org/officeDocument/2006/relationships/hyperlink" Target="http://moikompas.ru/tags/lobachevskiy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oikompas.ru/tags/lobachevskiy" TargetMode="External"/><Relationship Id="rId2" Type="http://schemas.openxmlformats.org/officeDocument/2006/relationships/hyperlink" Target="http://moikompas.ru/tags/rektor" TargetMode="External"/><Relationship Id="rId3" Type="http://schemas.openxmlformats.org/officeDocument/2006/relationships/hyperlink" Target="http://moikompas.ru/tags/lobachevskiy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oikompas.ru/tags/lobachevskiy" TargetMode="External"/><Relationship Id="rId2" Type="http://schemas.openxmlformats.org/officeDocument/2006/relationships/hyperlink" Target="http://moikompas.ru/tags/rektor" TargetMode="External"/><Relationship Id="rId3" Type="http://schemas.openxmlformats.org/officeDocument/2006/relationships/hyperlink" Target="http://moikompas.ru/tags/lobachevskiy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1283c8"/>
                </a:solidFill>
                <a:latin typeface="Monotype Corsiva"/>
              </a:rPr>
              <a:t>МБОУ СОШ п. Пионерский</a:t>
            </a:r>
            <a:br>
              <a:rPr sz="3900"/>
            </a:br>
            <a:br>
              <a:rPr sz="3900"/>
            </a:br>
            <a:r>
              <a:rPr b="1" lang="ru-RU" sz="3900" spc="-1" strike="noStrike">
                <a:solidFill>
                  <a:srgbClr val="572314"/>
                </a:solidFill>
                <a:latin typeface="Monotype Corsiva"/>
              </a:rPr>
              <a:t>«Геометрия Н.И.Лобачевского »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547640" y="5300280"/>
            <a:ext cx="6400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rbel"/>
              </a:rPr>
              <a:t>Проект ученика 7 класса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rbel"/>
              </a:rPr>
              <a:t>Шепелев Никита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rbel"/>
              </a:rPr>
              <a:t>Руководитель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rbel"/>
              </a:rPr>
              <a:t>Сидорова С. А., учитель математики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7" name="Picture 4" descr="pic"/>
          <p:cNvPicPr/>
          <p:nvPr/>
        </p:nvPicPr>
        <p:blipFill>
          <a:blip r:embed="rId1"/>
          <a:stretch/>
        </p:blipFill>
        <p:spPr>
          <a:xfrm>
            <a:off x="1143000" y="1857240"/>
            <a:ext cx="3143160" cy="42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2314"/>
                </a:solidFill>
                <a:latin typeface="Corbel"/>
              </a:rPr>
              <a:t>Николай Иванович Лобачевский</a:t>
            </a: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Corbel"/>
              </a:rPr>
              <a:t>(1792 – 1856 гг.)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324000" y="1197000"/>
            <a:ext cx="8640720" cy="4464000"/>
          </a:xfrm>
          <a:prstGeom prst="rect">
            <a:avLst/>
          </a:prstGeom>
          <a:solidFill>
            <a:srgbClr val="00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Monotype Corsiva"/>
              </a:rPr>
              <a:t>И подумал Лобачевский: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Monotype Corsiva"/>
              </a:rPr>
              <a:t>« Но ведь связана с природой аксиома!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Monotype Corsiva"/>
              </a:rPr>
              <a:t>Мы природу понимаем по-земному.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Monotype Corsiva"/>
              </a:rPr>
              <a:t>Во Вселенной расстоянья неземные,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Monotype Corsiva"/>
              </a:rPr>
              <a:t>Могут действовать законы там иные!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Monotype Corsiva"/>
              </a:rPr>
              <a:t>Параллельные пойдут непараллельно!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Monotype Corsiva"/>
              </a:rPr>
              <a:t>Там, где звёздный мир раскинулся без края, -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Monotype Corsiva"/>
              </a:rPr>
              <a:t>Аксиома параллели  - там другая!».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370" name="Picture 6" descr="Лобачёвский Николай Иванович"/>
          <p:cNvPicPr/>
          <p:nvPr/>
        </p:nvPicPr>
        <p:blipFill>
          <a:blip r:embed="rId1"/>
          <a:stretch/>
        </p:blipFill>
        <p:spPr>
          <a:xfrm>
            <a:off x="6227640" y="1341360"/>
            <a:ext cx="1886040" cy="2879640"/>
          </a:xfrm>
          <a:prstGeom prst="rect">
            <a:avLst/>
          </a:prstGeom>
          <a:ln w="38160">
            <a:solidFill>
              <a:srgbClr val="4f271c"/>
            </a:solidFill>
            <a:miter/>
          </a:ln>
        </p:spPr>
      </p:pic>
      <p:pic>
        <p:nvPicPr>
          <p:cNvPr id="371" name="Picture 11" descr="Mailme"/>
          <p:cNvPicPr/>
          <p:nvPr/>
        </p:nvPicPr>
        <p:blipFill>
          <a:blip r:embed="rId2"/>
          <a:stretch/>
        </p:blipFill>
        <p:spPr>
          <a:xfrm>
            <a:off x="395280" y="4437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572314"/>
                </a:solidFill>
                <a:latin typeface="Corbel"/>
              </a:rPr>
              <a:t>«Чем отличается геометрия Лобачевского</a:t>
            </a:r>
            <a:br>
              <a:rPr sz="2300"/>
            </a:br>
            <a:r>
              <a:rPr b="0" lang="ru-RU" sz="2300" spc="-1" strike="noStrike">
                <a:solidFill>
                  <a:srgbClr val="572314"/>
                </a:solidFill>
                <a:latin typeface="Corbel"/>
              </a:rPr>
              <a:t>от геометрии Евклида?»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50920" y="2997000"/>
            <a:ext cx="4032000" cy="1944360"/>
          </a:xfrm>
          <a:prstGeom prst="rect">
            <a:avLst/>
          </a:prstGeom>
          <a:noFill/>
          <a:ln w="57240">
            <a:solidFill>
              <a:srgbClr val="4f271c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через точку, не лежащую на данной прямой, проходит только одна прямая, лежащая с данной прямой в одной плоскости и не пересекающая её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4788000" y="2997360"/>
            <a:ext cx="4105080" cy="192348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рез точку, не лежащую на данной прямой, проходят по крайней мере две прямые, лежащие с данной прямой в одной плоскости и не пересекающие её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611280" y="1052640"/>
            <a:ext cx="3168720" cy="1224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Евклидова аксиома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о параллельных: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5292720" y="1052640"/>
            <a:ext cx="3168720" cy="1224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Аксиома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Лобачевского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о параллельных: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7" name="AutoShape 8"/>
          <p:cNvSpPr/>
          <p:nvPr/>
        </p:nvSpPr>
        <p:spPr>
          <a:xfrm>
            <a:off x="1476360" y="2276640"/>
            <a:ext cx="165564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8" name="AutoShape 9"/>
          <p:cNvSpPr/>
          <p:nvPr/>
        </p:nvSpPr>
        <p:spPr>
          <a:xfrm>
            <a:off x="6227640" y="2276640"/>
            <a:ext cx="158436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379" name="Picture 11" descr="umnik"/>
          <p:cNvPicPr/>
          <p:nvPr/>
        </p:nvPicPr>
        <p:blipFill>
          <a:blip r:embed="rId1"/>
          <a:stretch/>
        </p:blipFill>
        <p:spPr>
          <a:xfrm>
            <a:off x="6732720" y="2349360"/>
            <a:ext cx="647640" cy="4939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2" descr="umnik"/>
          <p:cNvPicPr/>
          <p:nvPr/>
        </p:nvPicPr>
        <p:blipFill>
          <a:blip r:embed="rId2"/>
          <a:stretch/>
        </p:blipFill>
        <p:spPr>
          <a:xfrm>
            <a:off x="1979640" y="2349360"/>
            <a:ext cx="647640" cy="4939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6" descr="Mailme"/>
          <p:cNvPicPr/>
          <p:nvPr/>
        </p:nvPicPr>
        <p:blipFill>
          <a:blip r:embed="rId3"/>
          <a:stretch/>
        </p:blipFill>
        <p:spPr>
          <a:xfrm>
            <a:off x="179280" y="465300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382" name="Line 27"/>
          <p:cNvSpPr/>
          <p:nvPr/>
        </p:nvSpPr>
        <p:spPr>
          <a:xfrm flipV="1">
            <a:off x="826920" y="5229360"/>
            <a:ext cx="2305080" cy="792000"/>
          </a:xfrm>
          <a:prstGeom prst="line">
            <a:avLst/>
          </a:prstGeom>
          <a:ln w="25560">
            <a:solidFill>
              <a:srgbClr val="d31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3" name="Line 28"/>
          <p:cNvSpPr/>
          <p:nvPr/>
        </p:nvSpPr>
        <p:spPr>
          <a:xfrm flipV="1">
            <a:off x="826920" y="5589360"/>
            <a:ext cx="2665440" cy="981000"/>
          </a:xfrm>
          <a:prstGeom prst="line">
            <a:avLst/>
          </a:prstGeom>
          <a:ln w="25560">
            <a:solidFill>
              <a:srgbClr val="d31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4" name="Oval 29"/>
          <p:cNvSpPr/>
          <p:nvPr/>
        </p:nvSpPr>
        <p:spPr>
          <a:xfrm>
            <a:off x="1908000" y="5589720"/>
            <a:ext cx="71640" cy="144360"/>
          </a:xfrm>
          <a:prstGeom prst="ellipse">
            <a:avLst/>
          </a:prstGeom>
          <a:solidFill>
            <a:srgbClr val="00ffff">
              <a:alpha val="50000"/>
            </a:srgbClr>
          </a:solidFill>
          <a:ln w="12600">
            <a:solidFill>
              <a:srgbClr val="000099"/>
            </a:solidFill>
            <a:miter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5" name="Line 30"/>
          <p:cNvSpPr/>
          <p:nvPr/>
        </p:nvSpPr>
        <p:spPr>
          <a:xfrm flipV="1">
            <a:off x="5076720" y="5300280"/>
            <a:ext cx="1943280" cy="1297080"/>
          </a:xfrm>
          <a:prstGeom prst="line">
            <a:avLst/>
          </a:prstGeom>
          <a:ln w="25560">
            <a:solidFill>
              <a:srgbClr val="d31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6" name="Line 31"/>
          <p:cNvSpPr/>
          <p:nvPr/>
        </p:nvSpPr>
        <p:spPr>
          <a:xfrm flipV="1">
            <a:off x="5796000" y="5445000"/>
            <a:ext cx="1800360" cy="1224000"/>
          </a:xfrm>
          <a:prstGeom prst="line">
            <a:avLst/>
          </a:prstGeom>
          <a:ln w="25560">
            <a:solidFill>
              <a:srgbClr val="d31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7" name="Oval 32"/>
          <p:cNvSpPr/>
          <p:nvPr/>
        </p:nvSpPr>
        <p:spPr>
          <a:xfrm>
            <a:off x="6443640" y="6165720"/>
            <a:ext cx="73080" cy="142920"/>
          </a:xfrm>
          <a:prstGeom prst="ellipse">
            <a:avLst/>
          </a:prstGeom>
          <a:solidFill>
            <a:srgbClr val="00ffff">
              <a:alpha val="50000"/>
            </a:srgbClr>
          </a:solidFill>
          <a:ln w="12600">
            <a:solidFill>
              <a:srgbClr val="000099"/>
            </a:solidFill>
            <a:miter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8" name="Line 33"/>
          <p:cNvSpPr/>
          <p:nvPr/>
        </p:nvSpPr>
        <p:spPr>
          <a:xfrm flipH="1">
            <a:off x="5940360" y="5445000"/>
            <a:ext cx="1152720" cy="1413000"/>
          </a:xfrm>
          <a:prstGeom prst="line">
            <a:avLst/>
          </a:prstGeom>
          <a:ln w="25560">
            <a:solidFill>
              <a:srgbClr val="d31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645920" y="142848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глядно геометрию Лобачевского можно устроить и на бумаге. Если нарисовать окружность, то мы можем, не выходя за её пределы, провести сколько угодно прямых, не пересекающих данную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91" name="Group 4"/>
          <p:cNvGrpSpPr/>
          <p:nvPr/>
        </p:nvGrpSpPr>
        <p:grpSpPr>
          <a:xfrm>
            <a:off x="3492360" y="4194000"/>
            <a:ext cx="2737080" cy="2664000"/>
            <a:chOff x="3492360" y="4194000"/>
            <a:chExt cx="2737080" cy="2664000"/>
          </a:xfrm>
        </p:grpSpPr>
        <p:sp>
          <p:nvSpPr>
            <p:cNvPr id="392" name="Oval 5"/>
            <p:cNvSpPr/>
            <p:nvPr/>
          </p:nvSpPr>
          <p:spPr>
            <a:xfrm>
              <a:off x="3492360" y="4194000"/>
              <a:ext cx="2737080" cy="266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93" name="Line 6"/>
            <p:cNvSpPr/>
            <p:nvPr/>
          </p:nvSpPr>
          <p:spPr>
            <a:xfrm flipH="1">
              <a:off x="4274280" y="4320360"/>
              <a:ext cx="130320" cy="228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94" name="Line 7"/>
            <p:cNvSpPr/>
            <p:nvPr/>
          </p:nvSpPr>
          <p:spPr>
            <a:xfrm flipH="1">
              <a:off x="4665240" y="4447080"/>
              <a:ext cx="912240" cy="215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95" name="Line 8"/>
            <p:cNvSpPr/>
            <p:nvPr/>
          </p:nvSpPr>
          <p:spPr>
            <a:xfrm>
              <a:off x="4925880" y="4447080"/>
              <a:ext cx="390960" cy="215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96" name="Line 9"/>
            <p:cNvSpPr/>
            <p:nvPr/>
          </p:nvSpPr>
          <p:spPr>
            <a:xfrm flipH="1">
              <a:off x="5055840" y="4447080"/>
              <a:ext cx="129960" cy="215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«И физика в дальнейшем подтвердила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еория его не миф, не сон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Луч света не прямой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близи светила он силой тяготенья искривлён»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d31a07"/>
                </a:solidFill>
                <a:latin typeface="Corbel"/>
              </a:rPr>
              <a:t>Выводы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907560"/>
            <a:ext cx="868680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Corbe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625320" indent="-62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Corbel"/>
              </a:rPr>
              <a:t>         </a:t>
            </a:r>
            <a:r>
              <a:rPr b="1" lang="ru-RU" sz="1800" spc="-1" strike="noStrike">
                <a:solidFill>
                  <a:srgbClr val="4f271c"/>
                </a:solidFill>
                <a:latin typeface="Corbel"/>
              </a:rPr>
              <a:t>Заменив </a:t>
            </a:r>
            <a:r>
              <a:rPr b="1" lang="en-US" sz="1800" spc="-1" strike="noStrike">
                <a:solidFill>
                  <a:srgbClr val="4f271c"/>
                </a:solidFill>
                <a:latin typeface="Gill Sans MT"/>
              </a:rPr>
              <a:t>V </a:t>
            </a:r>
            <a:r>
              <a:rPr b="1" lang="ru-RU" sz="1800" spc="-1" strike="noStrike">
                <a:solidFill>
                  <a:srgbClr val="4f271c"/>
                </a:solidFill>
                <a:latin typeface="Corbel"/>
              </a:rPr>
              <a:t>постулат евклидовой геометрии на аксиому, Лобачевский пришел к выводу, что можно построить другую геометрию, отличную от евклидовой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625320" indent="-62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625320" indent="-62532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Corbe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625320" indent="-62532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625320" indent="-62532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625320" indent="-62532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Corbel"/>
              </a:rPr>
              <a:t>         </a:t>
            </a:r>
            <a:r>
              <a:rPr b="1" lang="ru-RU" sz="1800" spc="-1" strike="noStrike">
                <a:solidFill>
                  <a:srgbClr val="4f271c"/>
                </a:solidFill>
                <a:latin typeface="Corbel"/>
              </a:rPr>
              <a:t>Геометрия Лобачевского отличается от евклидовой лишь в одной аксиоме — пятой.  Но главное различие кроется в понимании самой природы пространства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625320" indent="-62532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625320" indent="-62532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625320" indent="-62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625320" indent="-62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rbe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25320" indent="-62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0" name="Picture 14" descr="Mailme"/>
          <p:cNvPicPr/>
          <p:nvPr/>
        </p:nvPicPr>
        <p:blipFill>
          <a:blip r:embed="rId1"/>
          <a:stretch/>
        </p:blipFill>
        <p:spPr>
          <a:xfrm>
            <a:off x="0" y="1052640"/>
            <a:ext cx="826920" cy="826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5" descr="Mailme"/>
          <p:cNvPicPr/>
          <p:nvPr/>
        </p:nvPicPr>
        <p:blipFill>
          <a:blip r:embed="rId2"/>
          <a:stretch/>
        </p:blipFill>
        <p:spPr>
          <a:xfrm>
            <a:off x="0" y="3500280"/>
            <a:ext cx="826920" cy="8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писок литературы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79280" y="90756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Колесников М. Лобачевский./. Серия «Жизнь замечательных людей». – М.: Молодая гвардия, 1965. – 320 стр. с илл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Широков П.А. Краткий очерк основ геометрии                                      Лобачевского./. – М.: Наука, 1983. – 76 стр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Геометрия Лобачевского. Материал                                                                        из Википедии — свободной энциклопедии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Энциклопедия «Что такое</a:t>
            </a: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?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Кто такой</a:t>
            </a: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?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».-М.: Педагогика – Пресс.-2000г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0" y="328464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Arial Black"/>
              </a:rPr>
              <a:t>Web </a:t>
            </a:r>
            <a:r>
              <a:rPr b="0" lang="ru-RU" sz="4000" spc="-1" strike="noStrike">
                <a:solidFill>
                  <a:srgbClr val="4f271c"/>
                </a:solidFill>
                <a:latin typeface="Arial Black"/>
              </a:rPr>
              <a:t>ресурсы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324000" y="4365720"/>
            <a:ext cx="8569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pereplet.ru/obrazovanie/stsoros/67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неевклидовой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еометрии, Э. Б. ВИНБЕРГ, Московский государственный университет им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.В. Ломоносов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hrono.ru/biograf/lobachevski.html - Шикман А.П. Деятели отечественной истории. Биографический справочник. Москва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997 г.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icompas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u/html - биография Лобачевского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06" name="Picture 7" descr="AG00488_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6659640" y="1628640"/>
            <a:ext cx="2160360" cy="213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главление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) Цель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)Задачи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)Содержание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1 Биография Лобачевского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2 Эксперимент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3 Изучение постулата Евклида и аксиомы Лобачевского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4 Семиклассники о геометрии Лобачевского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)Вывод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5)Используемая литература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305e"/>
                </a:solidFill>
                <a:latin typeface="Corbel"/>
              </a:rPr>
              <a:t>ЦЕЛЬ:  Изучить основные положения геометрии  Лобачевского  </a:t>
            </a:r>
            <a:br>
              <a:rPr sz="2000"/>
            </a:br>
            <a:r>
              <a:rPr b="1" lang="ru-RU" sz="2000" spc="-1" strike="noStrike">
                <a:solidFill>
                  <a:srgbClr val="aa305e"/>
                </a:solidFill>
                <a:latin typeface="Corbel"/>
              </a:rPr>
              <a:t>Задачи: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000080" y="857160"/>
            <a:ext cx="76564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Bookman Old Style"/>
              </a:rPr>
              <a:t>провести эксперимент «Не верь глазам своим»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Bookman Old Style"/>
              </a:rPr>
              <a:t>сравнить пятый постулат Евклида и аксиому Лобачевского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Bookman Old Style"/>
              </a:rPr>
              <a:t>изучить аксиому Лобачевского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Bookman Old Style"/>
              </a:rPr>
              <a:t>сделать выводы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2" name="Picture 4" descr="13766_prev_98"/>
          <p:cNvPicPr/>
          <p:nvPr/>
        </p:nvPicPr>
        <p:blipFill>
          <a:blip r:embed="rId1"/>
          <a:stretch/>
        </p:blipFill>
        <p:spPr>
          <a:xfrm>
            <a:off x="0" y="907920"/>
            <a:ext cx="826920" cy="747720"/>
          </a:xfrm>
          <a:prstGeom prst="rect">
            <a:avLst/>
          </a:prstGeom>
          <a:ln w="0">
            <a:noFill/>
          </a:ln>
        </p:spPr>
      </p:pic>
      <p:grpSp>
        <p:nvGrpSpPr>
          <p:cNvPr id="333" name="Цилиндр 5"/>
          <p:cNvGrpSpPr/>
          <p:nvPr/>
        </p:nvGrpSpPr>
        <p:grpSpPr>
          <a:xfrm>
            <a:off x="1706400" y="3017880"/>
            <a:ext cx="1073160" cy="1371600"/>
            <a:chOff x="1706400" y="3017880"/>
            <a:chExt cx="1073160" cy="1371600"/>
          </a:xfrm>
        </p:grpSpPr>
        <p:pic>
          <p:nvPicPr>
            <p:cNvPr id="334" name="Цилиндр 5" descr=""/>
            <p:cNvPicPr/>
            <p:nvPr/>
          </p:nvPicPr>
          <p:blipFill>
            <a:blip r:embed="rId2"/>
            <a:stretch/>
          </p:blipFill>
          <p:spPr>
            <a:xfrm>
              <a:off x="1706400" y="3017880"/>
              <a:ext cx="10731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1785960" y="3300480"/>
              <a:ext cx="914400" cy="87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336" name="Куб 6"/>
          <p:cNvGrpSpPr/>
          <p:nvPr/>
        </p:nvGrpSpPr>
        <p:grpSpPr>
          <a:xfrm>
            <a:off x="2779560" y="3591000"/>
            <a:ext cx="1371600" cy="1371600"/>
            <a:chOff x="2779560" y="3591000"/>
            <a:chExt cx="1371600" cy="1371600"/>
          </a:xfrm>
        </p:grpSpPr>
        <p:pic>
          <p:nvPicPr>
            <p:cNvPr id="337" name="Куб 6" descr=""/>
            <p:cNvPicPr/>
            <p:nvPr/>
          </p:nvPicPr>
          <p:blipFill>
            <a:blip r:embed="rId3"/>
            <a:stretch/>
          </p:blipFill>
          <p:spPr>
            <a:xfrm>
              <a:off x="2779560" y="35910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2857680" y="3948120"/>
              <a:ext cx="91260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339" name="Цилиндр 7"/>
          <p:cNvGrpSpPr/>
          <p:nvPr/>
        </p:nvGrpSpPr>
        <p:grpSpPr>
          <a:xfrm>
            <a:off x="4632480" y="3090960"/>
            <a:ext cx="1073160" cy="1371600"/>
            <a:chOff x="4632480" y="3090960"/>
            <a:chExt cx="1073160" cy="1371600"/>
          </a:xfrm>
        </p:grpSpPr>
        <p:pic>
          <p:nvPicPr>
            <p:cNvPr id="340" name="Цилиндр 7" descr=""/>
            <p:cNvPicPr/>
            <p:nvPr/>
          </p:nvPicPr>
          <p:blipFill>
            <a:blip r:embed="rId4"/>
            <a:stretch/>
          </p:blipFill>
          <p:spPr>
            <a:xfrm>
              <a:off x="4632480" y="3090960"/>
              <a:ext cx="10731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4714920" y="3371760"/>
              <a:ext cx="914400" cy="87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342" name="Куб 8"/>
          <p:cNvGrpSpPr/>
          <p:nvPr/>
        </p:nvGrpSpPr>
        <p:grpSpPr>
          <a:xfrm>
            <a:off x="6066000" y="3591000"/>
            <a:ext cx="1371600" cy="1371600"/>
            <a:chOff x="6066000" y="3591000"/>
            <a:chExt cx="1371600" cy="1371600"/>
          </a:xfrm>
        </p:grpSpPr>
        <p:pic>
          <p:nvPicPr>
            <p:cNvPr id="343" name="Куб 8" descr=""/>
            <p:cNvPicPr/>
            <p:nvPr/>
          </p:nvPicPr>
          <p:blipFill>
            <a:blip r:embed="rId5"/>
            <a:stretch/>
          </p:blipFill>
          <p:spPr>
            <a:xfrm>
              <a:off x="6066000" y="35910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6143760" y="3948120"/>
              <a:ext cx="91260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оротко о жизни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Николай Иванович </a:t>
            </a:r>
            <a:r>
              <a:rPr b="1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"/>
              </a:rPr>
              <a:t>Лобачевский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родился 20 ноября (1 декабря) 1792 в Нижнем Новгород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 Окончив гимназию, 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2"/>
              </a:rPr>
              <a:t>Лобачевский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поступил в Казанский университет.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1811 получил степень магистра, в 1814 стал адъюнктом, в 1816 — экстраординарным, в 1822 — ординарным профессором. Вел научную работу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08000" y="981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lackadder ITC"/>
              </a:rPr>
              <a:t>В 1827 </a:t>
            </a:r>
            <a:r>
              <a:rPr b="0" lang="ru-RU" sz="2800" spc="-1" strike="noStrike" u="sng">
                <a:solidFill>
                  <a:srgbClr val="8dc765"/>
                </a:solidFill>
                <a:uFillTx/>
                <a:latin typeface="Blackadder ITC"/>
                <a:hlinkClick r:id="rId1"/>
              </a:rPr>
              <a:t>Лобачевский</a:t>
            </a:r>
            <a:r>
              <a:rPr b="0" lang="ru-RU" sz="2800" spc="-1" strike="noStrike">
                <a:solidFill>
                  <a:srgbClr val="000000"/>
                </a:solidFill>
                <a:latin typeface="Blackadder ITC"/>
              </a:rPr>
              <a:t> был назначен </a:t>
            </a:r>
            <a:r>
              <a:rPr b="0" lang="ru-RU" sz="2800" spc="-1" strike="noStrike" u="sng">
                <a:solidFill>
                  <a:srgbClr val="8dc765"/>
                </a:solidFill>
                <a:uFillTx/>
                <a:latin typeface="Blackadder ITC"/>
                <a:hlinkClick r:id="rId2"/>
              </a:rPr>
              <a:t>ректор</a:t>
            </a:r>
            <a:r>
              <a:rPr b="1" lang="ru-RU" sz="2800" spc="-1" strike="noStrike">
                <a:solidFill>
                  <a:srgbClr val="000000"/>
                </a:solidFill>
                <a:latin typeface="Blackadder ITC"/>
              </a:rPr>
              <a:t>ом Казанского университета</a:t>
            </a:r>
            <a:r>
              <a:rPr b="0" lang="ru-RU" sz="2800" spc="-1" strike="noStrike">
                <a:solidFill>
                  <a:srgbClr val="000000"/>
                </a:solidFill>
                <a:latin typeface="Blackadder ITC"/>
              </a:rPr>
              <a:t>. Главным достижением Лобачевского является доказательство того, что существует более чем одна "истинная" геометрия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dc765"/>
                </a:solidFill>
                <a:uFillTx/>
                <a:latin typeface="Blackadder ITC"/>
                <a:hlinkClick r:id="rId3"/>
              </a:rPr>
              <a:t>Лобачевский</a:t>
            </a:r>
            <a:r>
              <a:rPr b="0" lang="ru-RU" sz="2800" spc="-1" strike="noStrike">
                <a:solidFill>
                  <a:srgbClr val="000000"/>
                </a:solidFill>
                <a:latin typeface="Blackadder ITC"/>
              </a:rPr>
              <a:t> представил свою неевклидову геометрию 23 февраля 1826 на заседании отделения физико-математических наук Казанского университета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08000" y="259920"/>
            <a:ext cx="868680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ffff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Предложенное им сочинение называлось </a:t>
            </a: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«Сжатое изложение основ геометрии со строгим доказательством теоремы о параллельных</a:t>
            </a: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»</a:t>
            </a: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К сожалению, эта работа в то время не была понята и не получила поддержки. 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В 1846 </a:t>
            </a:r>
            <a:r>
              <a:rPr b="0" lang="ru-RU" sz="2600" spc="-1" strike="noStrike" u="sng">
                <a:solidFill>
                  <a:srgbClr val="8dc765"/>
                </a:solidFill>
                <a:uFillTx/>
                <a:latin typeface="Corbel"/>
                <a:hlinkClick r:id="rId1"/>
              </a:rPr>
              <a:t>Лобачевский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оказался фактически отстранённым от университета. Он был назначен помощником нового попечителя (без оплаты) и лишён </a:t>
            </a:r>
            <a:r>
              <a:rPr b="0" lang="ru-RU" sz="2600" spc="-1" strike="noStrike" u="sng">
                <a:solidFill>
                  <a:srgbClr val="8dc765"/>
                </a:solidFill>
                <a:uFillTx/>
                <a:latin typeface="Corbel"/>
                <a:hlinkClick r:id="rId2"/>
              </a:rPr>
              <a:t>ректор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ства. Здоровье его пошатнулось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Последнюю работу </a:t>
            </a: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«Пангеометрию»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он создал за год до смерти, диктуя её текст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Умер </a:t>
            </a:r>
            <a:r>
              <a:rPr b="0" lang="ru-RU" sz="2600" spc="-1" strike="noStrike" u="sng">
                <a:solidFill>
                  <a:srgbClr val="8dc765"/>
                </a:solidFill>
                <a:uFillTx/>
                <a:latin typeface="Corbel"/>
                <a:hlinkClick r:id="rId3"/>
              </a:rPr>
              <a:t>Лобачевский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непризнанным в Казани 12 (24) февраля 1856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Эксперимент «Не верь глазам своим»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0" name="Picture 8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033800" cy="40320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417672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572314"/>
                </a:solidFill>
                <a:latin typeface="Corbel"/>
              </a:rPr>
              <a:t>Эксперимент «Иллюзии зрения»</a:t>
            </a:r>
            <a:endParaRPr b="0" lang="en-US" sz="34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3" name="Picture 83" descr=""/>
          <p:cNvPicPr/>
          <p:nvPr/>
        </p:nvPicPr>
        <p:blipFill>
          <a:blip r:embed="rId1"/>
          <a:stretch/>
        </p:blipFill>
        <p:spPr>
          <a:xfrm>
            <a:off x="0" y="836640"/>
            <a:ext cx="3348000" cy="264780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5"/>
          <p:cNvSpPr/>
          <p:nvPr/>
        </p:nvSpPr>
        <p:spPr>
          <a:xfrm rot="1278600">
            <a:off x="3503160" y="2161800"/>
            <a:ext cx="3311640" cy="2303640"/>
          </a:xfrm>
          <a:prstGeom prst="rect">
            <a:avLst/>
          </a:prstGeom>
          <a:solidFill>
            <a:srgbClr val="00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ИТОГИ опроса: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eb80a"/>
                </a:solidFill>
                <a:latin typeface="Arial"/>
              </a:rPr>
              <a:t>всего  параллельно   нет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20        3%         97%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305e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eb80a"/>
                </a:solidFill>
                <a:latin typeface="Arial"/>
              </a:rPr>
              <a:t>параллельно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5" name="Line 64"/>
          <p:cNvSpPr/>
          <p:nvPr/>
        </p:nvSpPr>
        <p:spPr>
          <a:xfrm>
            <a:off x="3924360" y="2133720"/>
            <a:ext cx="2951280" cy="11509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6" name="Line 66"/>
          <p:cNvSpPr/>
          <p:nvPr/>
        </p:nvSpPr>
        <p:spPr>
          <a:xfrm flipH="1">
            <a:off x="3634920" y="2133720"/>
            <a:ext cx="2890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7" name="Line 67"/>
          <p:cNvSpPr/>
          <p:nvPr/>
        </p:nvSpPr>
        <p:spPr>
          <a:xfrm>
            <a:off x="3635280" y="2781360"/>
            <a:ext cx="2952720" cy="1152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8" name="Line 68"/>
          <p:cNvSpPr/>
          <p:nvPr/>
        </p:nvSpPr>
        <p:spPr>
          <a:xfrm flipV="1">
            <a:off x="6588000" y="3284280"/>
            <a:ext cx="289080" cy="6490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9" name="Line 69"/>
          <p:cNvSpPr/>
          <p:nvPr/>
        </p:nvSpPr>
        <p:spPr>
          <a:xfrm flipH="1">
            <a:off x="4356000" y="2421000"/>
            <a:ext cx="2872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0" name="Line 70"/>
          <p:cNvSpPr/>
          <p:nvPr/>
        </p:nvSpPr>
        <p:spPr>
          <a:xfrm flipH="1">
            <a:off x="5866920" y="2997360"/>
            <a:ext cx="2890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1" name="Line 71"/>
          <p:cNvSpPr/>
          <p:nvPr/>
        </p:nvSpPr>
        <p:spPr>
          <a:xfrm>
            <a:off x="3780000" y="2421000"/>
            <a:ext cx="2952720" cy="1152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2" name="Rectangle 79"/>
          <p:cNvSpPr/>
          <p:nvPr/>
        </p:nvSpPr>
        <p:spPr>
          <a:xfrm>
            <a:off x="179280" y="5157720"/>
            <a:ext cx="8713800" cy="1366920"/>
          </a:xfrm>
          <a:prstGeom prst="rect">
            <a:avLst/>
          </a:prstGeom>
          <a:solidFill>
            <a:srgbClr val="00ffff">
              <a:alpha val="31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eb80a"/>
                </a:solidFill>
                <a:latin typeface="Arial"/>
              </a:rPr>
              <a:t>В геометрии истинность каждого утверждения необходимо доказывать, нельзя полагаться только на наблюдения. </a:t>
            </a:r>
            <a:endParaRPr b="0" lang="en-US" sz="19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eb80a"/>
                </a:solidFill>
                <a:latin typeface="Arial"/>
              </a:rPr>
              <a:t>Положительный момент:</a:t>
            </a:r>
            <a:r>
              <a:rPr b="1" lang="ru-RU" sz="1900" spc="-1" strike="noStrike">
                <a:solidFill>
                  <a:srgbClr val="feb80a"/>
                </a:solidFill>
                <a:latin typeface="Arial"/>
              </a:rPr>
              <a:t> благодаря зрительным искажениям существует живопись.</a:t>
            </a:r>
            <a:endParaRPr b="0" lang="en-US" sz="19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a305e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aa305e"/>
                </a:solidFill>
                <a:latin typeface="Arial"/>
              </a:rPr>
              <a:t>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363" name="Picture 80" descr="Mailme"/>
          <p:cNvPicPr/>
          <p:nvPr/>
        </p:nvPicPr>
        <p:blipFill>
          <a:blip r:embed="rId2"/>
          <a:stretch/>
        </p:blipFill>
        <p:spPr>
          <a:xfrm>
            <a:off x="0" y="4761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750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Евклид (</a:t>
            </a:r>
            <a:r>
              <a:rPr b="0" lang="en-US" sz="1800" spc="-1" strike="noStrike">
                <a:solidFill>
                  <a:srgbClr val="572314"/>
                </a:solidFill>
                <a:latin typeface="Gill Sans MT"/>
              </a:rPr>
              <a:t>III</a:t>
            </a: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 век до н</a:t>
            </a:r>
            <a:r>
              <a:rPr b="0" lang="en-US" sz="1800" spc="-1" strike="noStrike">
                <a:solidFill>
                  <a:srgbClr val="572314"/>
                </a:solidFill>
                <a:latin typeface="Gill Sans MT"/>
              </a:rPr>
              <a:t>. </a:t>
            </a: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э</a:t>
            </a:r>
            <a:r>
              <a:rPr b="0" lang="en-US" sz="1800" spc="-1" strike="noStrike">
                <a:solidFill>
                  <a:srgbClr val="572314"/>
                </a:solidFill>
                <a:latin typeface="Gill Sans MT"/>
              </a:rPr>
              <a:t>.</a:t>
            </a: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)</a:t>
            </a:r>
            <a:br>
              <a:rPr sz="1800"/>
            </a:b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Древнегреческий</a:t>
            </a:r>
            <a:r>
              <a:rPr b="0" lang="en-US" sz="16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математик, автор первого трактата </a:t>
            </a:r>
            <a:br>
              <a:rPr sz="1600"/>
            </a:b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по геометрии «Начала» (в 13 книгах).</a:t>
            </a:r>
            <a:endParaRPr b="0" lang="en-US" sz="1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979640" y="1197000"/>
            <a:ext cx="6958080" cy="4392720"/>
          </a:xfrm>
          <a:prstGeom prst="rect">
            <a:avLst/>
          </a:prstGeom>
          <a:solidFill>
            <a:srgbClr val="00ffff">
              <a:alpha val="22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560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 стояла геометрия Евклида,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5560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ак  египетская чудо-пирамида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5560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троже выдумать строение невозможно,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5560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Лишь одна была в ней глыба ненадёжна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5560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Аксиома называлась «параллели»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5560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азгадать её загадку не сумели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5560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6" name="Picture 9" descr="180px-Euklid2"/>
          <p:cNvPicPr/>
          <p:nvPr/>
        </p:nvPicPr>
        <p:blipFill>
          <a:blip r:embed="rId1"/>
          <a:stretch/>
        </p:blipFill>
        <p:spPr>
          <a:xfrm>
            <a:off x="0" y="0"/>
            <a:ext cx="1857240" cy="2997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0" descr="rf22d_na[1]"/>
          <p:cNvPicPr/>
          <p:nvPr/>
        </p:nvPicPr>
        <p:blipFill>
          <a:blip r:embed="rId2"/>
          <a:stretch/>
        </p:blipFill>
        <p:spPr>
          <a:xfrm rot="1209600">
            <a:off x="0" y="4076640"/>
            <a:ext cx="1763640" cy="1459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18:52:32Z</dcterms:created>
  <dc:creator>werr</dc:creator>
  <dc:description/>
  <dc:language>en-US</dc:language>
  <cp:lastModifiedBy>ПСШ</cp:lastModifiedBy>
  <dcterms:modified xsi:type="dcterms:W3CDTF">2016-04-12T13:50:42Z</dcterms:modified>
  <cp:revision>46</cp:revision>
  <dc:subject/>
  <dc:title>Лобачевский и его геометр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49</vt:lpwstr>
  </property>
</Properties>
</file>