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11.png" ContentType="image/png"/>
  <Override PartName="/ppt/media/image9.png" ContentType="image/png"/>
  <Override PartName="/ppt/media/image6.gif" ContentType="image/gif"/>
  <Override PartName="/ppt/media/image17.gif" ContentType="image/gif"/>
  <Override PartName="/ppt/media/image3.png" ContentType="image/png"/>
  <Override PartName="/ppt/media/image16.gif" ContentType="image/gif"/>
  <Override PartName="/ppt/media/image2.png" ContentType="image/png"/>
  <Override PartName="/ppt/media/image15.jpeg" ContentType="image/jpeg"/>
  <Override PartName="/ppt/media/image14.png" ContentType="image/png"/>
  <Override PartName="/ppt/media/image10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.jpeg" ContentType="image/jpeg"/>
  <Override PartName="/ppt/media/image7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D6538-B7E5-4474-B85B-8EB590E3C2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157DC-BA06-4092-B97F-836AFA6EED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9425-59B9-4C5E-B3BC-8CD0A8A78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A519-5F84-441D-81D5-4769D76F4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6EA1-4CFE-459E-ACAE-B9BC72127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51EE-7A1C-4781-BE40-A4C12065F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116AF-FEB3-4A4D-ABA5-E0C8C2A7C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3B26F-031E-4D39-B605-F566133F7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C80AF-E520-4AF3-91F4-5030C2535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CFDBD-B5DB-4598-ADDF-A95EAA6C6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48678-0D2D-4FE9-831C-345A26125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5326E-6A8B-43FF-98B9-7B97B60CD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AC25F-E696-4993-BDC1-80F153EF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EE7A-666A-4A07-914D-04A3AA33B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6F24B-DF88-4F05-AE9F-21EF0866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864CC-25C2-4E44-923A-9ED40589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84416-D135-4781-ADB0-88062055D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FC7A3-A59E-4014-A258-925CA52AA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681C3-4A49-4EB0-BF6A-96FB8F2F9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6CD01-55AC-438A-927A-11430F45E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4C3EC-4ACF-4BBE-AA52-7F9055373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B6517-673C-43A6-BB65-47A3BFEDA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22F46-AF12-46D6-88B6-3B30E094B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B2DA2-1089-4016-A215-296CB6D9C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548C-819F-47A3-BB36-23F7A4951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49F57-1DBF-480F-BD59-18F42020F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54AA4-CC38-4C24-BFFF-8ADA7C5E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2A5FE-026F-4C34-A539-05ACA1C9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3D218-172B-4450-9923-2CB75678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FAAEE-786B-4A87-9983-91684FA8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5A72C-5C02-46A4-BE46-A72EC2FC6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5CE08-0C24-47C9-A7B7-CCFDFA71C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76D05-9ADF-40F2-8A2C-D058C5A47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05383-6AA8-401A-A33E-4542BFE62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7993C-E9C2-47D8-A728-3AFA6BB2D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7FF2-B6EA-47A7-939D-662552C76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48E63-A690-40DE-9952-DB5C6D306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3FFA5-0D5B-4E39-B303-E80F95B97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6638D-B90D-4FD5-9382-4CD6E79CA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87795-8E15-4C14-9D19-5ED6A25F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FEA6E-5641-41C1-97EC-EAD39A64B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56FB4-D8C8-4FF4-9C33-D96FC640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CFE23-7BDA-4423-B2E8-FDDBA592C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62099-D779-4CB0-80E0-9AADE34EA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5EBC2-811F-4BE5-99D4-3252DB3F6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B43B6-8EC4-428F-A336-7CE38C9FC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06FC-CA43-420F-B10D-45977A1F1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B3383-0B25-467D-AC92-51D3B6351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989B2-8211-4E9D-9ADA-20816C8C1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15A7B-2985-4883-AF5D-FD717D7A4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1E7D4-438D-472F-ABC3-5470FD59C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ED452-0774-477C-88CE-F12A7A371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A2A31-E456-4EFA-BD98-0CBAB996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71D94-ED4F-410D-A530-7B8148E2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351E9-A4F2-4C26-91AD-8914EC3E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7E703-36D9-4094-B6E9-E934620AB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07261-BBFF-4074-A760-051E28538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EEEF-68A1-4F44-8DDB-EB40AC846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439C6-255B-4628-B283-78F9865CB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0EC95-D1AB-4DD3-A100-0BAB8A164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650F1-7BB4-467F-8340-CE7A64DF5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6950E-FC17-4871-9A88-81EEB67EB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6C7777-AE4F-4FE7-A9AD-F5FD86096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B6736-D669-4C0B-8FA2-C89FF415C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4D2BC-C02F-4B4A-A776-47BDA87E6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B61EB-2581-43CA-8ADD-8D052A5F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DD82D-25D9-402E-AE75-7072C362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FF59A-B2F8-493E-A58D-9E7CAFDE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6853-5A9F-43E9-90C5-226E0C19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F72BA-6F93-4912-A642-F4CEA43D7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6F0D2-CD16-4FCA-A0E0-3E568C928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041CA-F8B1-4CC9-BA4C-B1EC6CEF8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4A21E-0193-4C2A-80B6-FBB4B6ABF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74620-6FDD-446B-8E1A-4592236E1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7800F4-5363-437B-946C-42FCFAA83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093C0E-AB52-4BF0-8EB4-53A0E3638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20E60F-8FBA-4087-BF89-C33558BDD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C3274-E536-4BE1-B1B6-36D2BB393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0D314E-0A21-42A7-B103-0D02D5BE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A678-9D02-4B3B-8D09-E97CD7F4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3B4129-6521-4C78-9F32-9E235212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1C8F9-F23C-4573-8521-A02DB53E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A15AE-2F99-4042-9885-164FC581F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1EAED-5098-4656-86B2-71811D14D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DC33E-3D2C-468B-92FC-4C87C4757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3629-55F5-46CA-BB77-68A42655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4F2E0-8E3D-44A6-B3DD-ECF788A4EC0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B2C7D-E6CD-48B2-84A7-E7711AAB4CE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A491C-8B2D-47B6-A5A6-322F2E6EED7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CBC18-148E-40DF-9795-4B6D948734A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08BE9-94B8-4744-9E3D-76D17A2DD3A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57A55-D027-4BA4-90B6-5735347D10F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604B9-7461-4BCF-8693-397F1F262B1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6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moikompas.ru/tags/lobachevskiy" TargetMode="External"/><Relationship Id="rId2" Type="http://schemas.openxmlformats.org/officeDocument/2006/relationships/hyperlink" Target="http://moikompas.ru/tags/lobachevskiy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moikompas.ru/tags/lobachevskiy" TargetMode="External"/><Relationship Id="rId2" Type="http://schemas.openxmlformats.org/officeDocument/2006/relationships/hyperlink" Target="http://moikompas.ru/tags/rektor" TargetMode="External"/><Relationship Id="rId3" Type="http://schemas.openxmlformats.org/officeDocument/2006/relationships/hyperlink" Target="http://moikompas.ru/tags/lobachevskiy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moikompas.ru/tags/lobachevskiy" TargetMode="External"/><Relationship Id="rId2" Type="http://schemas.openxmlformats.org/officeDocument/2006/relationships/hyperlink" Target="http://moikompas.ru/tags/rektor" TargetMode="External"/><Relationship Id="rId3" Type="http://schemas.openxmlformats.org/officeDocument/2006/relationships/hyperlink" Target="http://moikompas.ru/tags/lobachevskiy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1283c8"/>
                </a:solidFill>
                <a:latin typeface="Monotype Corsiva"/>
              </a:rPr>
              <a:t>МБОУ СОШ п. Пионерский</a:t>
            </a:r>
            <a:br>
              <a:rPr sz="3900"/>
            </a:br>
            <a:br>
              <a:rPr sz="3900"/>
            </a:br>
            <a:r>
              <a:rPr b="1" lang="ru-RU" sz="3900" spc="-1" strike="noStrike">
                <a:solidFill>
                  <a:srgbClr val="572314"/>
                </a:solidFill>
                <a:latin typeface="Monotype Corsiva"/>
              </a:rPr>
              <a:t>«Геометрия Н.И.Лобачевского »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547640" y="5300280"/>
            <a:ext cx="6400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orbel"/>
              </a:rPr>
              <a:t>Проект ученика 7 класса,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orbel"/>
              </a:rPr>
              <a:t>Шепелев Никита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orbel"/>
              </a:rPr>
              <a:t>Руководитель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orbel"/>
              </a:rPr>
              <a:t>Сидорова С. А., учитель математики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7" name="Picture 4" descr="pic"/>
          <p:cNvPicPr/>
          <p:nvPr/>
        </p:nvPicPr>
        <p:blipFill>
          <a:blip r:embed="rId1"/>
          <a:stretch/>
        </p:blipFill>
        <p:spPr>
          <a:xfrm>
            <a:off x="1143000" y="1857240"/>
            <a:ext cx="3143160" cy="42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2314"/>
                </a:solidFill>
                <a:latin typeface="Corbel"/>
              </a:rPr>
              <a:t>Николай Иванович Лобачевский</a:t>
            </a:r>
            <a:br>
              <a:rPr sz="2500"/>
            </a:br>
            <a:r>
              <a:rPr b="0" lang="ru-RU" sz="2500" spc="-1" strike="noStrike">
                <a:solidFill>
                  <a:srgbClr val="572314"/>
                </a:solidFill>
                <a:latin typeface="Corbel"/>
              </a:rPr>
              <a:t>(1792 – 1856 гг.)</a:t>
            </a:r>
            <a:endParaRPr b="0" lang="en-US" sz="2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Rectangle 5"/>
          <p:cNvSpPr/>
          <p:nvPr/>
        </p:nvSpPr>
        <p:spPr>
          <a:xfrm>
            <a:off x="324000" y="1197000"/>
            <a:ext cx="8640720" cy="4464000"/>
          </a:xfrm>
          <a:prstGeom prst="rect">
            <a:avLst/>
          </a:prstGeom>
          <a:solidFill>
            <a:srgbClr val="00ffff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Monotype Corsiva"/>
              </a:rPr>
              <a:t>И подумал Лобачевский: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Monotype Corsiva"/>
              </a:rPr>
              <a:t>« Но ведь связана с природой аксиома!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Monotype Corsiva"/>
              </a:rPr>
              <a:t>Мы природу понимаем по-земному.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Monotype Corsiva"/>
              </a:rPr>
              <a:t>Во Вселенной расстоянья неземные,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Monotype Corsiva"/>
              </a:rPr>
              <a:t>Могут действовать законы там иные!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Monotype Corsiva"/>
              </a:rPr>
              <a:t>Параллельные пойдут непараллельно!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Monotype Corsiva"/>
              </a:rPr>
              <a:t>Там, где звёздный мир раскинулся без края, -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Monotype Corsiva"/>
              </a:rPr>
              <a:t>Аксиома параллели  - там другая!».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370" name="Picture 6" descr="Лобачёвский Николай Иванович"/>
          <p:cNvPicPr/>
          <p:nvPr/>
        </p:nvPicPr>
        <p:blipFill>
          <a:blip r:embed="rId1"/>
          <a:stretch/>
        </p:blipFill>
        <p:spPr>
          <a:xfrm>
            <a:off x="6227640" y="1341360"/>
            <a:ext cx="1886040" cy="2879640"/>
          </a:xfrm>
          <a:prstGeom prst="rect">
            <a:avLst/>
          </a:prstGeom>
          <a:ln w="38160">
            <a:solidFill>
              <a:srgbClr val="4f271c"/>
            </a:solidFill>
            <a:miter/>
          </a:ln>
        </p:spPr>
      </p:pic>
      <p:pic>
        <p:nvPicPr>
          <p:cNvPr id="371" name="Picture 11" descr="Mailme"/>
          <p:cNvPicPr/>
          <p:nvPr/>
        </p:nvPicPr>
        <p:blipFill>
          <a:blip r:embed="rId2"/>
          <a:stretch/>
        </p:blipFill>
        <p:spPr>
          <a:xfrm>
            <a:off x="395280" y="4437000"/>
            <a:ext cx="895320" cy="89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572314"/>
                </a:solidFill>
                <a:latin typeface="Corbel"/>
              </a:rPr>
              <a:t>«Чем отличается геометрия Лобачевского</a:t>
            </a:r>
            <a:br>
              <a:rPr sz="2300"/>
            </a:br>
            <a:r>
              <a:rPr b="0" lang="ru-RU" sz="2300" spc="-1" strike="noStrike">
                <a:solidFill>
                  <a:srgbClr val="572314"/>
                </a:solidFill>
                <a:latin typeface="Corbel"/>
              </a:rPr>
              <a:t>от геометрии Евклида?»</a:t>
            </a: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250920" y="2997000"/>
            <a:ext cx="4032000" cy="1944360"/>
          </a:xfrm>
          <a:prstGeom prst="rect">
            <a:avLst/>
          </a:prstGeom>
          <a:noFill/>
          <a:ln w="57240">
            <a:solidFill>
              <a:srgbClr val="4f271c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через точку, не лежащую на данной прямой, проходит только одна прямая, лежащая с данной прямой в одной плоскости и не пересекающая её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Rectangle 4"/>
          <p:cNvSpPr/>
          <p:nvPr/>
        </p:nvSpPr>
        <p:spPr>
          <a:xfrm>
            <a:off x="4788000" y="2997360"/>
            <a:ext cx="4105080" cy="1923480"/>
          </a:xfrm>
          <a:prstGeom prst="rect">
            <a:avLst/>
          </a:pr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ерез точку, не лежащую на данной прямой, проходят по крайней мере две прямые, лежащие с данной прямой в одной плоскости и не пересекающие её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5" name="AutoShape 6"/>
          <p:cNvSpPr/>
          <p:nvPr/>
        </p:nvSpPr>
        <p:spPr>
          <a:xfrm>
            <a:off x="611280" y="1052640"/>
            <a:ext cx="3168720" cy="122400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Евклидова аксиома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о параллельных: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6" name="AutoShape 7"/>
          <p:cNvSpPr/>
          <p:nvPr/>
        </p:nvSpPr>
        <p:spPr>
          <a:xfrm>
            <a:off x="5292720" y="1052640"/>
            <a:ext cx="3168720" cy="122400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Аксиома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Лобачевского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о параллельных: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7" name="AutoShape 8"/>
          <p:cNvSpPr/>
          <p:nvPr/>
        </p:nvSpPr>
        <p:spPr>
          <a:xfrm>
            <a:off x="1476360" y="2276640"/>
            <a:ext cx="165564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8" name="AutoShape 9"/>
          <p:cNvSpPr/>
          <p:nvPr/>
        </p:nvSpPr>
        <p:spPr>
          <a:xfrm>
            <a:off x="6227640" y="2276640"/>
            <a:ext cx="158436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379" name="Picture 11" descr="umnik"/>
          <p:cNvPicPr/>
          <p:nvPr/>
        </p:nvPicPr>
        <p:blipFill>
          <a:blip r:embed="rId1"/>
          <a:stretch/>
        </p:blipFill>
        <p:spPr>
          <a:xfrm>
            <a:off x="6732720" y="2349360"/>
            <a:ext cx="647640" cy="4939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2" descr="umnik"/>
          <p:cNvPicPr/>
          <p:nvPr/>
        </p:nvPicPr>
        <p:blipFill>
          <a:blip r:embed="rId2"/>
          <a:stretch/>
        </p:blipFill>
        <p:spPr>
          <a:xfrm>
            <a:off x="1979640" y="2349360"/>
            <a:ext cx="647640" cy="49392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6" descr="Mailme"/>
          <p:cNvPicPr/>
          <p:nvPr/>
        </p:nvPicPr>
        <p:blipFill>
          <a:blip r:embed="rId3"/>
          <a:stretch/>
        </p:blipFill>
        <p:spPr>
          <a:xfrm>
            <a:off x="179280" y="4653000"/>
            <a:ext cx="895320" cy="895320"/>
          </a:xfrm>
          <a:prstGeom prst="rect">
            <a:avLst/>
          </a:prstGeom>
          <a:ln w="0">
            <a:noFill/>
          </a:ln>
        </p:spPr>
      </p:pic>
      <p:sp>
        <p:nvSpPr>
          <p:cNvPr id="382" name="Line 27"/>
          <p:cNvSpPr/>
          <p:nvPr/>
        </p:nvSpPr>
        <p:spPr>
          <a:xfrm flipV="1">
            <a:off x="826920" y="5229360"/>
            <a:ext cx="2305080" cy="792000"/>
          </a:xfrm>
          <a:prstGeom prst="line">
            <a:avLst/>
          </a:prstGeom>
          <a:ln w="25560">
            <a:solidFill>
              <a:srgbClr val="d31a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83" name="Line 28"/>
          <p:cNvSpPr/>
          <p:nvPr/>
        </p:nvSpPr>
        <p:spPr>
          <a:xfrm flipV="1">
            <a:off x="826920" y="5589360"/>
            <a:ext cx="2665440" cy="981000"/>
          </a:xfrm>
          <a:prstGeom prst="line">
            <a:avLst/>
          </a:prstGeom>
          <a:ln w="25560">
            <a:solidFill>
              <a:srgbClr val="d31a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84" name="Oval 29"/>
          <p:cNvSpPr/>
          <p:nvPr/>
        </p:nvSpPr>
        <p:spPr>
          <a:xfrm>
            <a:off x="1908000" y="5589720"/>
            <a:ext cx="71640" cy="144360"/>
          </a:xfrm>
          <a:prstGeom prst="ellipse">
            <a:avLst/>
          </a:prstGeom>
          <a:solidFill>
            <a:srgbClr val="00ffff">
              <a:alpha val="50000"/>
            </a:srgbClr>
          </a:solidFill>
          <a:ln w="12600">
            <a:solidFill>
              <a:srgbClr val="000099"/>
            </a:solidFill>
            <a:miter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85" name="Line 30"/>
          <p:cNvSpPr/>
          <p:nvPr/>
        </p:nvSpPr>
        <p:spPr>
          <a:xfrm flipV="1">
            <a:off x="5076720" y="5300280"/>
            <a:ext cx="1943280" cy="1297080"/>
          </a:xfrm>
          <a:prstGeom prst="line">
            <a:avLst/>
          </a:prstGeom>
          <a:ln w="25560">
            <a:solidFill>
              <a:srgbClr val="d31a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86" name="Line 31"/>
          <p:cNvSpPr/>
          <p:nvPr/>
        </p:nvSpPr>
        <p:spPr>
          <a:xfrm flipV="1">
            <a:off x="5796000" y="5445000"/>
            <a:ext cx="1800360" cy="1224000"/>
          </a:xfrm>
          <a:prstGeom prst="line">
            <a:avLst/>
          </a:prstGeom>
          <a:ln w="25560">
            <a:solidFill>
              <a:srgbClr val="d31a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87" name="Oval 32"/>
          <p:cNvSpPr/>
          <p:nvPr/>
        </p:nvSpPr>
        <p:spPr>
          <a:xfrm>
            <a:off x="6443640" y="6165720"/>
            <a:ext cx="73080" cy="142920"/>
          </a:xfrm>
          <a:prstGeom prst="ellipse">
            <a:avLst/>
          </a:prstGeom>
          <a:solidFill>
            <a:srgbClr val="00ffff">
              <a:alpha val="50000"/>
            </a:srgbClr>
          </a:solidFill>
          <a:ln w="12600">
            <a:solidFill>
              <a:srgbClr val="000099"/>
            </a:solidFill>
            <a:miter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88" name="Line 33"/>
          <p:cNvSpPr/>
          <p:nvPr/>
        </p:nvSpPr>
        <p:spPr>
          <a:xfrm flipH="1">
            <a:off x="5940360" y="5445000"/>
            <a:ext cx="1152720" cy="1413000"/>
          </a:xfrm>
          <a:prstGeom prst="line">
            <a:avLst/>
          </a:prstGeom>
          <a:ln w="25560">
            <a:solidFill>
              <a:srgbClr val="d31a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9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9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9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1645920" y="142848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глядно геометрию Лобачевского можно устроить и на бумаге. Если нарисовать окружность, то мы можем, не выходя за её пределы, провести сколько угодно прямых, не пересекающих данную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91" name="Group 4"/>
          <p:cNvGrpSpPr/>
          <p:nvPr/>
        </p:nvGrpSpPr>
        <p:grpSpPr>
          <a:xfrm>
            <a:off x="3492360" y="4194000"/>
            <a:ext cx="2737080" cy="2664000"/>
            <a:chOff x="3492360" y="4194000"/>
            <a:chExt cx="2737080" cy="2664000"/>
          </a:xfrm>
        </p:grpSpPr>
        <p:sp>
          <p:nvSpPr>
            <p:cNvPr id="392" name="Oval 5"/>
            <p:cNvSpPr/>
            <p:nvPr/>
          </p:nvSpPr>
          <p:spPr>
            <a:xfrm>
              <a:off x="3492360" y="4194000"/>
              <a:ext cx="2737080" cy="266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93" name="Line 6"/>
            <p:cNvSpPr/>
            <p:nvPr/>
          </p:nvSpPr>
          <p:spPr>
            <a:xfrm flipH="1">
              <a:off x="4274280" y="4320360"/>
              <a:ext cx="130320" cy="228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94" name="Line 7"/>
            <p:cNvSpPr/>
            <p:nvPr/>
          </p:nvSpPr>
          <p:spPr>
            <a:xfrm flipH="1">
              <a:off x="4665240" y="4447080"/>
              <a:ext cx="912240" cy="215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95" name="Line 8"/>
            <p:cNvSpPr/>
            <p:nvPr/>
          </p:nvSpPr>
          <p:spPr>
            <a:xfrm>
              <a:off x="4925880" y="4447080"/>
              <a:ext cx="390960" cy="215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96" name="Line 9"/>
            <p:cNvSpPr/>
            <p:nvPr/>
          </p:nvSpPr>
          <p:spPr>
            <a:xfrm flipH="1">
              <a:off x="5055840" y="4447080"/>
              <a:ext cx="129960" cy="215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«И физика в дальнейшем подтвердила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Теория его не миф, не сон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Луч света не прямой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близи светила он силой тяготенья искривлён»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d31a07"/>
                </a:solidFill>
                <a:latin typeface="Corbel"/>
              </a:rPr>
              <a:t>Выводы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7200" y="907560"/>
            <a:ext cx="8686800" cy="51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271c"/>
                </a:solidFill>
                <a:latin typeface="Corbe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625320" indent="-62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271c"/>
                </a:solidFill>
                <a:latin typeface="Corbel"/>
              </a:rPr>
              <a:t>         </a:t>
            </a:r>
            <a:r>
              <a:rPr b="1" lang="ru-RU" sz="1800" spc="-1" strike="noStrike">
                <a:solidFill>
                  <a:srgbClr val="4f271c"/>
                </a:solidFill>
                <a:latin typeface="Corbel"/>
              </a:rPr>
              <a:t>Заменив </a:t>
            </a:r>
            <a:r>
              <a:rPr b="1" lang="en-US" sz="1800" spc="-1" strike="noStrike">
                <a:solidFill>
                  <a:srgbClr val="4f271c"/>
                </a:solidFill>
                <a:latin typeface="Gill Sans MT"/>
              </a:rPr>
              <a:t>V </a:t>
            </a:r>
            <a:r>
              <a:rPr b="1" lang="ru-RU" sz="1800" spc="-1" strike="noStrike">
                <a:solidFill>
                  <a:srgbClr val="4f271c"/>
                </a:solidFill>
                <a:latin typeface="Corbel"/>
              </a:rPr>
              <a:t>постулат евклидовой геометрии на аксиому, Лобачевский пришел к выводу, что можно построить другую геометрию, отличную от евклидовой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625320" indent="-62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625320" indent="-62532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271c"/>
                </a:solidFill>
                <a:latin typeface="Corbe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625320" indent="-62532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625320" indent="-62532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625320" indent="-62532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271c"/>
                </a:solidFill>
                <a:latin typeface="Corbel"/>
              </a:rPr>
              <a:t>         </a:t>
            </a:r>
            <a:r>
              <a:rPr b="1" lang="ru-RU" sz="1800" spc="-1" strike="noStrike">
                <a:solidFill>
                  <a:srgbClr val="4f271c"/>
                </a:solidFill>
                <a:latin typeface="Corbel"/>
              </a:rPr>
              <a:t>Геометрия Лобачевского отличается от евклидовой лишь в одной аксиоме — пятой.  Но главное различие кроется в понимании самой природы пространства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625320" indent="-62532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625320" indent="-62532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625320" indent="-62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625320" indent="-62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orbe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625320" indent="-62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00" name="Picture 14" descr="Mailme"/>
          <p:cNvPicPr/>
          <p:nvPr/>
        </p:nvPicPr>
        <p:blipFill>
          <a:blip r:embed="rId1"/>
          <a:stretch/>
        </p:blipFill>
        <p:spPr>
          <a:xfrm>
            <a:off x="0" y="1052640"/>
            <a:ext cx="826920" cy="8269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5" descr="Mailme"/>
          <p:cNvPicPr/>
          <p:nvPr/>
        </p:nvPicPr>
        <p:blipFill>
          <a:blip r:embed="rId2"/>
          <a:stretch/>
        </p:blipFill>
        <p:spPr>
          <a:xfrm>
            <a:off x="0" y="3500280"/>
            <a:ext cx="826920" cy="82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писок литературы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179280" y="907560"/>
            <a:ext cx="868680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Колесников М. Лобачевский./. Серия «Жизнь замечательных людей». – М.: Молодая гвардия, 1965. – 320 стр. с илл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Широков П.А. Краткий очерк основ геометрии                                      Лобачевского./. – М.: Наука, 1983. – 76 стр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Геометрия Лобачевского. Материал                                                                        из Википедии — свободной энциклопедии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Энциклопедия «Что такое</a:t>
            </a:r>
            <a:r>
              <a:rPr b="1" lang="en-US" sz="1600" spc="-1" strike="noStrike">
                <a:solidFill>
                  <a:srgbClr val="000000"/>
                </a:solidFill>
                <a:latin typeface="Gill Sans MT"/>
              </a:rPr>
              <a:t>?</a:t>
            </a: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Кто такой</a:t>
            </a:r>
            <a:r>
              <a:rPr b="1" lang="en-US" sz="1600" spc="-1" strike="noStrike">
                <a:solidFill>
                  <a:srgbClr val="000000"/>
                </a:solidFill>
                <a:latin typeface="Gill Sans MT"/>
              </a:rPr>
              <a:t>?</a:t>
            </a: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».-М.: Педагогика – Пресс.-2000г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0" y="328464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Arial Black"/>
              </a:rPr>
              <a:t>Web </a:t>
            </a:r>
            <a:r>
              <a:rPr b="0" lang="ru-RU" sz="4000" spc="-1" strike="noStrike">
                <a:solidFill>
                  <a:srgbClr val="4f271c"/>
                </a:solidFill>
                <a:latin typeface="Arial Black"/>
              </a:rPr>
              <a:t>ресурсы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5" name="Text Box 5"/>
          <p:cNvSpPr/>
          <p:nvPr/>
        </p:nvSpPr>
        <p:spPr>
          <a:xfrm>
            <a:off x="324000" y="4365720"/>
            <a:ext cx="85690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www.pereplet.ru/obrazovanie/stsoros/67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 неевклидовой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еометрии, Э. Б. ВИНБЕРГ, Московский государственный университет им.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.В. Ломоносова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www.hrono.ru/biograf/lobachevski.html - Шикман А.П. Деятели отечественной истории. Биографический справочник. Москва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997 г. 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ww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icompas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ru/html - биография Лобачевского.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06" name="Picture 7" descr="AG00488_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6659640" y="1628640"/>
            <a:ext cx="2160360" cy="2136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Оглавление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1) Цель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2)Задачи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3)Содержание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3.1 Биография Лобачевского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3.2 Эксперимент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3.3 Изучение постулата Евклида и аксиомы Лобачевского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3.4 Семиклассники о геометрии Лобачевского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4)Выводы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5)Используемая литература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a305e"/>
                </a:solidFill>
                <a:latin typeface="Corbel"/>
              </a:rPr>
              <a:t>ЦЕЛЬ:  Изучить основные положения геометрии  Лобачевского  </a:t>
            </a:r>
            <a:br>
              <a:rPr sz="2000"/>
            </a:br>
            <a:r>
              <a:rPr b="1" lang="ru-RU" sz="2000" spc="-1" strike="noStrike">
                <a:solidFill>
                  <a:srgbClr val="aa305e"/>
                </a:solidFill>
                <a:latin typeface="Corbel"/>
              </a:rPr>
              <a:t>Задачи:</a:t>
            </a: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000080" y="857160"/>
            <a:ext cx="765648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271c"/>
                </a:solidFill>
                <a:latin typeface="Bookman Old Style"/>
              </a:rPr>
              <a:t>провести эксперимент «Не верь глазам своим»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271c"/>
                </a:solidFill>
                <a:latin typeface="Bookman Old Style"/>
              </a:rPr>
              <a:t>сравнить пятый постулат Евклида и аксиому Лобачевского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271c"/>
                </a:solidFill>
                <a:latin typeface="Bookman Old Style"/>
              </a:rPr>
              <a:t>изучить аксиому Лобачевского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271c"/>
                </a:solidFill>
                <a:latin typeface="Bookman Old Style"/>
              </a:rPr>
              <a:t>сделать выводы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2" name="Picture 4" descr="13766_prev_98"/>
          <p:cNvPicPr/>
          <p:nvPr/>
        </p:nvPicPr>
        <p:blipFill>
          <a:blip r:embed="rId1"/>
          <a:stretch/>
        </p:blipFill>
        <p:spPr>
          <a:xfrm>
            <a:off x="0" y="907920"/>
            <a:ext cx="826920" cy="747720"/>
          </a:xfrm>
          <a:prstGeom prst="rect">
            <a:avLst/>
          </a:prstGeom>
          <a:ln w="0">
            <a:noFill/>
          </a:ln>
        </p:spPr>
      </p:pic>
      <p:grpSp>
        <p:nvGrpSpPr>
          <p:cNvPr id="333" name="Цилиндр 5"/>
          <p:cNvGrpSpPr/>
          <p:nvPr/>
        </p:nvGrpSpPr>
        <p:grpSpPr>
          <a:xfrm>
            <a:off x="1706400" y="3017880"/>
            <a:ext cx="1073160" cy="1371600"/>
            <a:chOff x="1706400" y="3017880"/>
            <a:chExt cx="1073160" cy="1371600"/>
          </a:xfrm>
        </p:grpSpPr>
        <p:pic>
          <p:nvPicPr>
            <p:cNvPr id="334" name="Цилиндр 5" descr=""/>
            <p:cNvPicPr/>
            <p:nvPr/>
          </p:nvPicPr>
          <p:blipFill>
            <a:blip r:embed="rId2"/>
            <a:stretch/>
          </p:blipFill>
          <p:spPr>
            <a:xfrm>
              <a:off x="1706400" y="3017880"/>
              <a:ext cx="107316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1785960" y="3300480"/>
              <a:ext cx="914400" cy="87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grpSp>
        <p:nvGrpSpPr>
          <p:cNvPr id="336" name="Куб 6"/>
          <p:cNvGrpSpPr/>
          <p:nvPr/>
        </p:nvGrpSpPr>
        <p:grpSpPr>
          <a:xfrm>
            <a:off x="2779560" y="3591000"/>
            <a:ext cx="1371600" cy="1371600"/>
            <a:chOff x="2779560" y="3591000"/>
            <a:chExt cx="1371600" cy="1371600"/>
          </a:xfrm>
        </p:grpSpPr>
        <p:pic>
          <p:nvPicPr>
            <p:cNvPr id="337" name="Куб 6" descr=""/>
            <p:cNvPicPr/>
            <p:nvPr/>
          </p:nvPicPr>
          <p:blipFill>
            <a:blip r:embed="rId3"/>
            <a:stretch/>
          </p:blipFill>
          <p:spPr>
            <a:xfrm>
              <a:off x="2779560" y="35910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2857680" y="3948120"/>
              <a:ext cx="912600" cy="91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grpSp>
        <p:nvGrpSpPr>
          <p:cNvPr id="339" name="Цилиндр 7"/>
          <p:cNvGrpSpPr/>
          <p:nvPr/>
        </p:nvGrpSpPr>
        <p:grpSpPr>
          <a:xfrm>
            <a:off x="4632480" y="3090960"/>
            <a:ext cx="1073160" cy="1371600"/>
            <a:chOff x="4632480" y="3090960"/>
            <a:chExt cx="1073160" cy="1371600"/>
          </a:xfrm>
        </p:grpSpPr>
        <p:pic>
          <p:nvPicPr>
            <p:cNvPr id="340" name="Цилиндр 7" descr=""/>
            <p:cNvPicPr/>
            <p:nvPr/>
          </p:nvPicPr>
          <p:blipFill>
            <a:blip r:embed="rId4"/>
            <a:stretch/>
          </p:blipFill>
          <p:spPr>
            <a:xfrm>
              <a:off x="4632480" y="3090960"/>
              <a:ext cx="107316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4714920" y="3371760"/>
              <a:ext cx="914400" cy="87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grpSp>
        <p:nvGrpSpPr>
          <p:cNvPr id="342" name="Куб 8"/>
          <p:cNvGrpSpPr/>
          <p:nvPr/>
        </p:nvGrpSpPr>
        <p:grpSpPr>
          <a:xfrm>
            <a:off x="6066000" y="3591000"/>
            <a:ext cx="1371600" cy="1371600"/>
            <a:chOff x="6066000" y="3591000"/>
            <a:chExt cx="1371600" cy="1371600"/>
          </a:xfrm>
        </p:grpSpPr>
        <p:pic>
          <p:nvPicPr>
            <p:cNvPr id="343" name="Куб 8" descr=""/>
            <p:cNvPicPr/>
            <p:nvPr/>
          </p:nvPicPr>
          <p:blipFill>
            <a:blip r:embed="rId5"/>
            <a:stretch/>
          </p:blipFill>
          <p:spPr>
            <a:xfrm>
              <a:off x="6066000" y="35910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6143760" y="3948120"/>
              <a:ext cx="912600" cy="91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Коротко о жизни…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9480" indent="-26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Николай Иванович </a:t>
            </a:r>
            <a:r>
              <a:rPr b="1" lang="ru-RU" sz="3200" spc="-1" strike="noStrike" u="sng">
                <a:solidFill>
                  <a:srgbClr val="8dc765"/>
                </a:solidFill>
                <a:uFillTx/>
                <a:latin typeface="Corbel"/>
                <a:hlinkClick r:id="rId1"/>
              </a:rPr>
              <a:t>Лобачевский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родился 20 ноября (1 декабря) 1792 в Нижнем Новгороде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. Окончив гимназию, 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2"/>
              </a:rPr>
              <a:t>Лобачевский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поступил в Казанский университет. 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 1811 получил степень магистра, в 1814 стал адъюнктом, в 1816 — экстраординарным, в 1822 — ординарным профессором. Вел научную работу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108000" y="9810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lackadder ITC"/>
              </a:rPr>
              <a:t>В 1827 </a:t>
            </a:r>
            <a:r>
              <a:rPr b="0" lang="ru-RU" sz="2800" spc="-1" strike="noStrike" u="sng">
                <a:solidFill>
                  <a:srgbClr val="8dc765"/>
                </a:solidFill>
                <a:uFillTx/>
                <a:latin typeface="Blackadder ITC"/>
                <a:hlinkClick r:id="rId1"/>
              </a:rPr>
              <a:t>Лобачевский</a:t>
            </a:r>
            <a:r>
              <a:rPr b="0" lang="ru-RU" sz="2800" spc="-1" strike="noStrike">
                <a:solidFill>
                  <a:srgbClr val="000000"/>
                </a:solidFill>
                <a:latin typeface="Blackadder ITC"/>
              </a:rPr>
              <a:t> был назначен </a:t>
            </a:r>
            <a:r>
              <a:rPr b="0" lang="ru-RU" sz="2800" spc="-1" strike="noStrike" u="sng">
                <a:solidFill>
                  <a:srgbClr val="8dc765"/>
                </a:solidFill>
                <a:uFillTx/>
                <a:latin typeface="Blackadder ITC"/>
                <a:hlinkClick r:id="rId2"/>
              </a:rPr>
              <a:t>ректор</a:t>
            </a:r>
            <a:r>
              <a:rPr b="1" lang="ru-RU" sz="2800" spc="-1" strike="noStrike">
                <a:solidFill>
                  <a:srgbClr val="000000"/>
                </a:solidFill>
                <a:latin typeface="Blackadder ITC"/>
              </a:rPr>
              <a:t>ом Казанского университета</a:t>
            </a:r>
            <a:r>
              <a:rPr b="0" lang="ru-RU" sz="2800" spc="-1" strike="noStrike">
                <a:solidFill>
                  <a:srgbClr val="000000"/>
                </a:solidFill>
                <a:latin typeface="Blackadder ITC"/>
              </a:rPr>
              <a:t>. Главным достижением Лобачевского является доказательство того, что существует более чем одна "истинная" геометрия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8dc765"/>
                </a:solidFill>
                <a:uFillTx/>
                <a:latin typeface="Blackadder ITC"/>
                <a:hlinkClick r:id="rId3"/>
              </a:rPr>
              <a:t>Лобачевский</a:t>
            </a:r>
            <a:r>
              <a:rPr b="0" lang="ru-RU" sz="2800" spc="-1" strike="noStrike">
                <a:solidFill>
                  <a:srgbClr val="000000"/>
                </a:solidFill>
                <a:latin typeface="Blackadder ITC"/>
              </a:rPr>
              <a:t> представил свою неевклидову геометрию 23 февраля 1826 на заседании отделения физико-математических наук Казанского университета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108000" y="259920"/>
            <a:ext cx="8686800" cy="51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-271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6ffff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Предложенное им сочинение называлось </a:t>
            </a:r>
            <a:r>
              <a:rPr b="1" lang="ru-RU" sz="2600" spc="-1" strike="noStrike">
                <a:solidFill>
                  <a:srgbClr val="000000"/>
                </a:solidFill>
                <a:latin typeface="Corbel"/>
              </a:rPr>
              <a:t>«Сжатое изложение основ геометрии со строгим доказательством теоремы о параллельных</a:t>
            </a:r>
            <a:r>
              <a:rPr b="1" i="1" lang="ru-RU" sz="2600" spc="-1" strike="noStrike">
                <a:solidFill>
                  <a:srgbClr val="000000"/>
                </a:solidFill>
                <a:latin typeface="Corbel"/>
              </a:rPr>
              <a:t>»</a:t>
            </a:r>
            <a:r>
              <a:rPr b="1" lang="ru-RU" sz="2600" spc="-1" strike="noStrike">
                <a:solidFill>
                  <a:srgbClr val="000000"/>
                </a:solidFill>
                <a:latin typeface="Corbel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К сожалению, эта работа в то время не была понята и не получила поддержки. 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В 1846 </a:t>
            </a:r>
            <a:r>
              <a:rPr b="0" lang="ru-RU" sz="2600" spc="-1" strike="noStrike" u="sng">
                <a:solidFill>
                  <a:srgbClr val="8dc765"/>
                </a:solidFill>
                <a:uFillTx/>
                <a:latin typeface="Corbel"/>
                <a:hlinkClick r:id="rId1"/>
              </a:rPr>
              <a:t>Лобачевский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оказался фактически отстранённым от университета. Он был назначен помощником нового попечителя (без оплаты) и лишён </a:t>
            </a:r>
            <a:r>
              <a:rPr b="0" lang="ru-RU" sz="2600" spc="-1" strike="noStrike" u="sng">
                <a:solidFill>
                  <a:srgbClr val="8dc765"/>
                </a:solidFill>
                <a:uFillTx/>
                <a:latin typeface="Corbel"/>
                <a:hlinkClick r:id="rId2"/>
              </a:rPr>
              <a:t>ректор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ства. Здоровье его пошатнулось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Последнюю работу </a:t>
            </a:r>
            <a:r>
              <a:rPr b="1" lang="ru-RU" sz="2600" spc="-1" strike="noStrike">
                <a:solidFill>
                  <a:srgbClr val="000000"/>
                </a:solidFill>
                <a:latin typeface="Corbel"/>
              </a:rPr>
              <a:t>«Пангеометрию»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он создал за год до смерти, диктуя её текст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Умер </a:t>
            </a:r>
            <a:r>
              <a:rPr b="0" lang="ru-RU" sz="2600" spc="-1" strike="noStrike" u="sng">
                <a:solidFill>
                  <a:srgbClr val="8dc765"/>
                </a:solidFill>
                <a:uFillTx/>
                <a:latin typeface="Corbel"/>
                <a:hlinkClick r:id="rId3"/>
              </a:rPr>
              <a:t>Лобачевский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непризнанным в Казани 12 (24) февраля 1856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Эксперимент «Не верь глазам своим»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50" name="Picture 8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4033800" cy="403200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9" descr=""/>
          <p:cNvPicPr/>
          <p:nvPr/>
        </p:nvPicPr>
        <p:blipFill>
          <a:blip r:embed="rId2"/>
          <a:stretch/>
        </p:blipFill>
        <p:spPr>
          <a:xfrm>
            <a:off x="4716360" y="1773360"/>
            <a:ext cx="4176720" cy="40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572314"/>
                </a:solidFill>
                <a:latin typeface="Corbel"/>
              </a:rPr>
              <a:t>Эксперимент «Иллюзии зрения»</a:t>
            </a:r>
            <a:endParaRPr b="0" lang="en-US" sz="34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53" name="Picture 83" descr=""/>
          <p:cNvPicPr/>
          <p:nvPr/>
        </p:nvPicPr>
        <p:blipFill>
          <a:blip r:embed="rId1"/>
          <a:stretch/>
        </p:blipFill>
        <p:spPr>
          <a:xfrm>
            <a:off x="0" y="836640"/>
            <a:ext cx="3348000" cy="264780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5"/>
          <p:cNvSpPr/>
          <p:nvPr/>
        </p:nvSpPr>
        <p:spPr>
          <a:xfrm rot="1278600">
            <a:off x="3503160" y="2161800"/>
            <a:ext cx="3311640" cy="2303640"/>
          </a:xfrm>
          <a:prstGeom prst="rect">
            <a:avLst/>
          </a:prstGeom>
          <a:solidFill>
            <a:srgbClr val="00ffff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ИТОГИ опроса: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a305e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eb80a"/>
                </a:solidFill>
                <a:latin typeface="Arial"/>
              </a:rPr>
              <a:t>всего  параллельно   нет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20        3%         97%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a305e"/>
                </a:solidFill>
                <a:latin typeface="Arial"/>
              </a:rPr>
              <a:t>Ответ:</a:t>
            </a: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eb80a"/>
                </a:solidFill>
                <a:latin typeface="Arial"/>
              </a:rPr>
              <a:t>параллельно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5" name="Line 64"/>
          <p:cNvSpPr/>
          <p:nvPr/>
        </p:nvSpPr>
        <p:spPr>
          <a:xfrm>
            <a:off x="3924360" y="2133720"/>
            <a:ext cx="2951280" cy="115092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6" name="Line 66"/>
          <p:cNvSpPr/>
          <p:nvPr/>
        </p:nvSpPr>
        <p:spPr>
          <a:xfrm flipH="1">
            <a:off x="3634920" y="2133720"/>
            <a:ext cx="289080" cy="6476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7" name="Line 67"/>
          <p:cNvSpPr/>
          <p:nvPr/>
        </p:nvSpPr>
        <p:spPr>
          <a:xfrm>
            <a:off x="3635280" y="2781360"/>
            <a:ext cx="2952720" cy="115236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8" name="Line 68"/>
          <p:cNvSpPr/>
          <p:nvPr/>
        </p:nvSpPr>
        <p:spPr>
          <a:xfrm flipV="1">
            <a:off x="6588000" y="3284280"/>
            <a:ext cx="289080" cy="64908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9" name="Line 69"/>
          <p:cNvSpPr/>
          <p:nvPr/>
        </p:nvSpPr>
        <p:spPr>
          <a:xfrm flipH="1">
            <a:off x="4356000" y="2421000"/>
            <a:ext cx="287280" cy="6476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0" name="Line 70"/>
          <p:cNvSpPr/>
          <p:nvPr/>
        </p:nvSpPr>
        <p:spPr>
          <a:xfrm flipH="1">
            <a:off x="5866920" y="2997360"/>
            <a:ext cx="289080" cy="6476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1" name="Line 71"/>
          <p:cNvSpPr/>
          <p:nvPr/>
        </p:nvSpPr>
        <p:spPr>
          <a:xfrm>
            <a:off x="3780000" y="2421000"/>
            <a:ext cx="2952720" cy="115236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2" name="Rectangle 79"/>
          <p:cNvSpPr/>
          <p:nvPr/>
        </p:nvSpPr>
        <p:spPr>
          <a:xfrm>
            <a:off x="179280" y="5157720"/>
            <a:ext cx="8713800" cy="1366920"/>
          </a:xfrm>
          <a:prstGeom prst="rect">
            <a:avLst/>
          </a:prstGeom>
          <a:solidFill>
            <a:srgbClr val="00ffff">
              <a:alpha val="31000"/>
            </a:srgbClr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eb80a"/>
                </a:solidFill>
                <a:latin typeface="Arial"/>
              </a:rPr>
              <a:t>В геометрии истинность каждого утверждения необходимо доказывать, нельзя полагаться только на наблюдения. </a:t>
            </a:r>
            <a:endParaRPr b="0" lang="en-US" sz="19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eb80a"/>
                </a:solidFill>
                <a:latin typeface="Arial"/>
              </a:rPr>
              <a:t>Положительный момент:</a:t>
            </a:r>
            <a:r>
              <a:rPr b="1" lang="ru-RU" sz="1900" spc="-1" strike="noStrike">
                <a:solidFill>
                  <a:srgbClr val="feb80a"/>
                </a:solidFill>
                <a:latin typeface="Arial"/>
              </a:rPr>
              <a:t> благодаря зрительным искажениям существует живопись.</a:t>
            </a:r>
            <a:endParaRPr b="0" lang="en-US" sz="19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a305e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aa305e"/>
                </a:solidFill>
                <a:latin typeface="Arial"/>
              </a:rPr>
              <a:t>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363" name="Picture 80" descr="Mailme"/>
          <p:cNvPicPr/>
          <p:nvPr/>
        </p:nvPicPr>
        <p:blipFill>
          <a:blip r:embed="rId2"/>
          <a:stretch/>
        </p:blipFill>
        <p:spPr>
          <a:xfrm>
            <a:off x="0" y="4761000"/>
            <a:ext cx="895320" cy="89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750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72314"/>
                </a:solidFill>
                <a:latin typeface="Corbel"/>
              </a:rPr>
              <a:t>Евклид (</a:t>
            </a:r>
            <a:r>
              <a:rPr b="0" lang="en-US" sz="1800" spc="-1" strike="noStrike">
                <a:solidFill>
                  <a:srgbClr val="572314"/>
                </a:solidFill>
                <a:latin typeface="Gill Sans MT"/>
              </a:rPr>
              <a:t>III</a:t>
            </a:r>
            <a:r>
              <a:rPr b="0" lang="ru-RU" sz="1800" spc="-1" strike="noStrike">
                <a:solidFill>
                  <a:srgbClr val="572314"/>
                </a:solidFill>
                <a:latin typeface="Corbel"/>
              </a:rPr>
              <a:t> век до н</a:t>
            </a:r>
            <a:r>
              <a:rPr b="0" lang="en-US" sz="1800" spc="-1" strike="noStrike">
                <a:solidFill>
                  <a:srgbClr val="572314"/>
                </a:solidFill>
                <a:latin typeface="Gill Sans MT"/>
              </a:rPr>
              <a:t>. </a:t>
            </a:r>
            <a:r>
              <a:rPr b="0" lang="ru-RU" sz="1800" spc="-1" strike="noStrike">
                <a:solidFill>
                  <a:srgbClr val="572314"/>
                </a:solidFill>
                <a:latin typeface="Corbel"/>
              </a:rPr>
              <a:t>э</a:t>
            </a:r>
            <a:r>
              <a:rPr b="0" lang="en-US" sz="1800" spc="-1" strike="noStrike">
                <a:solidFill>
                  <a:srgbClr val="572314"/>
                </a:solidFill>
                <a:latin typeface="Gill Sans MT"/>
              </a:rPr>
              <a:t>.</a:t>
            </a:r>
            <a:r>
              <a:rPr b="0" lang="ru-RU" sz="1800" spc="-1" strike="noStrike">
                <a:solidFill>
                  <a:srgbClr val="572314"/>
                </a:solidFill>
                <a:latin typeface="Corbel"/>
              </a:rPr>
              <a:t>)</a:t>
            </a:r>
            <a:br>
              <a:rPr sz="1800"/>
            </a:br>
            <a:r>
              <a:rPr b="0" lang="ru-RU" sz="1600" spc="-1" strike="noStrike">
                <a:solidFill>
                  <a:srgbClr val="572314"/>
                </a:solidFill>
                <a:latin typeface="Corbel"/>
              </a:rPr>
              <a:t>Древнегреческий</a:t>
            </a:r>
            <a:r>
              <a:rPr b="0" lang="en-US" sz="16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0" lang="ru-RU" sz="1600" spc="-1" strike="noStrike">
                <a:solidFill>
                  <a:srgbClr val="572314"/>
                </a:solidFill>
                <a:latin typeface="Corbel"/>
              </a:rPr>
              <a:t>математик, автор первого трактата </a:t>
            </a:r>
            <a:br>
              <a:rPr sz="1600"/>
            </a:br>
            <a:r>
              <a:rPr b="0" lang="ru-RU" sz="1600" spc="-1" strike="noStrike">
                <a:solidFill>
                  <a:srgbClr val="572314"/>
                </a:solidFill>
                <a:latin typeface="Corbel"/>
              </a:rPr>
              <a:t>по геометрии «Начала» (в 13 книгах).</a:t>
            </a:r>
            <a:endParaRPr b="0" lang="en-US" sz="1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979640" y="1197000"/>
            <a:ext cx="6958080" cy="4392720"/>
          </a:xfrm>
          <a:prstGeom prst="rect">
            <a:avLst/>
          </a:prstGeom>
          <a:solidFill>
            <a:srgbClr val="00ffff">
              <a:alpha val="22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55600" indent="-255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И стояла геометрия Евклида,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55600" indent="-255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Как  египетская чудо-пирамида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55600" indent="-255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троже выдумать строение невозможно,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55600" indent="-255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Лишь одна была в ней глыба ненадёжна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55600" indent="-255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Аксиома называлась «параллели»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55600" indent="-255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Разгадать её загадку не сумели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55600" indent="-255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6" name="Picture 9" descr="180px-Euklid2"/>
          <p:cNvPicPr/>
          <p:nvPr/>
        </p:nvPicPr>
        <p:blipFill>
          <a:blip r:embed="rId1"/>
          <a:stretch/>
        </p:blipFill>
        <p:spPr>
          <a:xfrm>
            <a:off x="0" y="0"/>
            <a:ext cx="1857240" cy="29973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10" descr="rf22d_na[1]"/>
          <p:cNvPicPr/>
          <p:nvPr/>
        </p:nvPicPr>
        <p:blipFill>
          <a:blip r:embed="rId2"/>
          <a:stretch/>
        </p:blipFill>
        <p:spPr>
          <a:xfrm rot="1209600">
            <a:off x="0" y="4076640"/>
            <a:ext cx="1763640" cy="1459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0T18:52:32Z</dcterms:created>
  <dc:creator>werr</dc:creator>
  <dc:description/>
  <dc:language>en-US</dc:language>
  <cp:lastModifiedBy>ПСШ</cp:lastModifiedBy>
  <dcterms:modified xsi:type="dcterms:W3CDTF">2016-04-12T13:50:42Z</dcterms:modified>
  <cp:revision>46</cp:revision>
  <dc:subject/>
  <dc:title>Лобачевский и его геометр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71049</vt:lpwstr>
  </property>
</Properties>
</file>