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20.jpeg" ContentType="image/jpeg"/>
  <Override PartName="/ppt/media/image18.png" ContentType="image/png"/>
  <Override PartName="/ppt/media/image15.jpeg" ContentType="image/jpeg"/>
  <Override PartName="/ppt/media/image19.jpeg" ContentType="image/jpeg"/>
  <Override PartName="/ppt/media/image10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png" ContentType="image/png"/>
  <Override PartName="/ppt/media/image1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9D8C-125B-41B0-80D9-3B30D4BA9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5E19-A285-45E4-BC28-071AF77D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60D8-7D65-43A7-869E-B8E18785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6C8-9BAB-489F-B3FC-0FB3EB2B6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246B7-B70E-438C-8950-8A5F4234F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CC13C-61C4-4424-91C5-CC858F2F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235B-053B-4E20-8A14-8CEC586B8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1DB2A-9F9A-42EB-A7DE-9F7A82586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B1761-9630-4714-8B0E-D888B7B5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A92F2-F4AE-46D5-B4DC-896BB87A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BEC6-0987-4A8C-966C-0AF15684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9EF3-EF27-4BA2-9ACE-C9EEAB29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0959-C59E-402C-8677-16972214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B500-937A-4FBD-950F-69FAADE1B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255C-2B73-4B95-A4F4-D558117E6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D29B-E66A-4375-86CE-DA40A0C5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09D25-2B84-43A0-8CD3-7FB7BE7D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F2BFAD-4DFD-47D2-8087-56D3B6935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61A9-FF58-4CB6-9E2F-9CDF460E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88510F-2E6B-4AD0-9DA3-7568C5F4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F5352-BBE1-4D57-8E21-08B491D9E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3DCBC-538F-43E8-B462-DC6BE9567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AC07-3E42-4EDA-8321-AC0FF3BBE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FBB92-A746-4CAE-B390-77359E67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972CC-5156-426A-990F-44AD0DF2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6AE17-219F-42F0-9E3E-81391FA9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171B4B-86D0-4DFB-B262-F0EDC07B6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FE7AF-9E81-41D2-8DDC-68D0CE05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DF1F-FB17-47F5-A4F1-FA2040630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8418D-FFB9-4332-AEC9-2B807BC02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4FFB6-9385-436F-93CE-DE9D1F605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CDB4F-257B-4ABD-8678-8924CDD7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9D811-2FE7-4E70-902C-53F064FD4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9C72-500E-475C-BD19-6E0AD5428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EDAF96-FE22-432E-AEB2-6117E1143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F51ECA-A237-433C-B20C-8F7CA424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79A77-85D2-4F74-A86B-6A480B0B6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A4F41-506A-43EF-B68F-B3A16A34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43FD1-B407-4ED9-9699-168B5546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EA022-51FF-4E2B-A00A-A9712448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4BB5B-01D7-409F-905D-CAAF1C56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1B360-FCB6-424D-AD7C-453FCE402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6AFB9-CD90-4A8A-810D-A88275331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A9F24-86D4-4650-B065-67C4C817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D07A-8839-404F-AB17-060FD6B0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A4E29-251B-429D-A233-769A9E2D4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D4970-C4B6-4A3B-9463-18ED225A1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9B538-3AE5-4AA6-83DC-8777E1A9C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0E836-F597-4FAE-B2F7-304FD2616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E8067-2F48-436B-A02F-D3238217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43719-2E92-4126-90D3-2B1FA85B7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D3FD64-15FB-4795-A47C-5A3B5051D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A8CB7-299F-4D0A-A20B-C8EF6107E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4DAC11-9E64-4122-A400-C8960C37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C00CB-1594-42AA-986B-950AB660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DAB6-39B6-4228-A30D-1FDA1B23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49D4F-7629-432C-ABE1-E77B19F02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90E3-9E8E-4C06-AE08-0D2D4616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C4163-2367-4AC1-A181-878B3CA6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7C32-670F-44CB-9EC3-201E6E65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21180-9E61-482F-9C28-A9F5E0FBEC1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E44F-4943-4283-B83D-8E12307EAAF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BC77D-123C-4302-84BF-2155CF8140EF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3B11-6C22-4B52-833F-D26EC40A386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9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0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FC23A-FFE9-4875-928A-6FE017FE39E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2"/>
          <a:stretch/>
        </p:blipFill>
        <p:spPr>
          <a:xfrm>
            <a:off x="530280" y="493560"/>
            <a:ext cx="8448480" cy="27734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3780000" y="4724280"/>
            <a:ext cx="399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Презентацию выполнил ученик 6 класса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БОУ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Ш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колы   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рипов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 М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сель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Картинка 6 из 21851"/>
          <p:cNvPicPr/>
          <p:nvPr/>
        </p:nvPicPr>
        <p:blipFill>
          <a:blip r:embed="rId2"/>
          <a:stretch/>
        </p:blipFill>
        <p:spPr>
          <a:xfrm>
            <a:off x="4857840" y="1857240"/>
            <a:ext cx="2428920" cy="4689720"/>
          </a:xfrm>
          <a:prstGeom prst="rect">
            <a:avLst/>
          </a:prstGeom>
          <a:ln w="0">
            <a:noFill/>
          </a:ln>
        </p:spPr>
      </p:pic>
      <p:sp>
        <p:nvSpPr>
          <p:cNvPr id="280" name="TextBox 3"/>
          <p:cNvSpPr/>
          <p:nvPr/>
        </p:nvSpPr>
        <p:spPr>
          <a:xfrm>
            <a:off x="285840" y="5072040"/>
            <a:ext cx="4000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Богач ― состояние оценивается со знаком «плюс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TextBox 4"/>
          <p:cNvSpPr/>
          <p:nvPr/>
        </p:nvSpPr>
        <p:spPr>
          <a:xfrm>
            <a:off x="4000680" y="142920"/>
            <a:ext cx="5000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Бедняк ― состояние равно нулю, а если есть долги, то оценивается со знаком «минус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2" name="Picture 6" descr="Картинка 6 из 19828"/>
          <p:cNvPicPr/>
          <p:nvPr/>
        </p:nvPicPr>
        <p:blipFill>
          <a:blip r:embed="rId3"/>
          <a:stretch/>
        </p:blipFill>
        <p:spPr>
          <a:xfrm>
            <a:off x="285840" y="1000080"/>
            <a:ext cx="3565440" cy="40006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5"/>
          <p:cNvSpPr/>
          <p:nvPr/>
        </p:nvSpPr>
        <p:spPr>
          <a:xfrm>
            <a:off x="357120" y="214200"/>
            <a:ext cx="314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nstantia"/>
              </a:rPr>
              <a:t>ИМУЩЕСТВО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Box 3"/>
          <p:cNvSpPr/>
          <p:nvPr/>
        </p:nvSpPr>
        <p:spPr>
          <a:xfrm>
            <a:off x="214200" y="714240"/>
            <a:ext cx="64296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onstantia"/>
              </a:rPr>
              <a:t>Иван-царевич ― положительный сказочный персонаж. Рассматриваем его со знаком «плюс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TextBox 4"/>
          <p:cNvSpPr/>
          <p:nvPr/>
        </p:nvSpPr>
        <p:spPr>
          <a:xfrm>
            <a:off x="3429000" y="4643280"/>
            <a:ext cx="54291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4617b"/>
                </a:solidFill>
                <a:latin typeface="Constantia"/>
              </a:rPr>
              <a:t>Кощей бессмертный ― отрицательный персонаж. Рассматриваем его со знаком «минус»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86" name="Picture 8" descr="Картинка 28 из 1182"/>
          <p:cNvPicPr/>
          <p:nvPr/>
        </p:nvPicPr>
        <p:blipFill>
          <a:blip r:embed="rId2"/>
          <a:stretch/>
        </p:blipFill>
        <p:spPr>
          <a:xfrm>
            <a:off x="214200" y="2071800"/>
            <a:ext cx="3162240" cy="43606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" descr="Картинка 139 из 2852"/>
          <p:cNvPicPr/>
          <p:nvPr/>
        </p:nvPicPr>
        <p:blipFill>
          <a:blip r:embed="rId3"/>
          <a:stretch/>
        </p:blipFill>
        <p:spPr>
          <a:xfrm>
            <a:off x="7072200" y="214200"/>
            <a:ext cx="1857600" cy="4621320"/>
          </a:xfrm>
          <a:prstGeom prst="rect">
            <a:avLst/>
          </a:prstGeom>
          <a:ln w="0">
            <a:noFill/>
          </a:ln>
        </p:spPr>
      </p:pic>
      <p:sp>
        <p:nvSpPr>
          <p:cNvPr id="288" name="Плюс 5"/>
          <p:cNvSpPr/>
          <p:nvPr/>
        </p:nvSpPr>
        <p:spPr>
          <a:xfrm>
            <a:off x="5072040" y="2000160"/>
            <a:ext cx="1500120" cy="1428840"/>
          </a:xfrm>
          <a:prstGeom prst="pie">
            <a:avLst/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Минус 6"/>
          <p:cNvSpPr/>
          <p:nvPr/>
        </p:nvSpPr>
        <p:spPr>
          <a:xfrm>
            <a:off x="4071960" y="3643200"/>
            <a:ext cx="1500120" cy="1214640"/>
          </a:xfrm>
          <a:prstGeom prst="pi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TextBox 7"/>
          <p:cNvSpPr/>
          <p:nvPr/>
        </p:nvSpPr>
        <p:spPr>
          <a:xfrm>
            <a:off x="285840" y="1429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onstantia"/>
              </a:rPr>
              <a:t>СКАЗК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3000"/>
                            </p:stCondLst>
                            <p:childTnLst>
                              <p:par>
                                <p:cTn id="2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500"/>
                            </p:stCondLst>
                            <p:childTnLst>
                              <p:par>
                                <p:cTn id="26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500"/>
                            </p:stCondLst>
                            <p:childTnLst>
                              <p:par>
                                <p:cTn id="2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             </a:t>
            </a:r>
            <a:r>
              <a:rPr b="0" lang="en-US" sz="5000" spc="-1" strike="noStrike">
                <a:solidFill>
                  <a:srgbClr val="04617b"/>
                </a:solidFill>
                <a:latin typeface="Arial"/>
              </a:rPr>
              <a:t>Автор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д работай работал: Зарипов Марсель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214200" y="1071720"/>
            <a:ext cx="8786880" cy="13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Положительные числа появились в глубокой древности, когда они стали использоваться для счета предметов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А вот числа отрицательные ― изобретение относительно недавне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214200" y="2571840"/>
            <a:ext cx="50720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Такие числа возникали при вычитании, но представлялись математикам непонятными,                           а действия с ними –                                       не имеющими реального смысла,           так как наименьшим количеством считалось «ничто», то есть нуль,                и казалось невозможным представить величину, которая была бы меньше нул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9" name="Picture 5" descr="C:\Documents and Settings\UserXP\Рабочий стол\Картины\Математика\Счеты\пальцы.jpg"/>
          <p:cNvPicPr/>
          <p:nvPr/>
        </p:nvPicPr>
        <p:blipFill>
          <a:blip r:embed="rId2"/>
          <a:stretch/>
        </p:blipFill>
        <p:spPr>
          <a:xfrm>
            <a:off x="5357880" y="2643120"/>
            <a:ext cx="3616200" cy="2857680"/>
          </a:xfrm>
          <a:prstGeom prst="rect">
            <a:avLst/>
          </a:prstGeom>
          <a:ln w="0">
            <a:noFill/>
          </a:ln>
        </p:spPr>
      </p:pic>
      <p:sp>
        <p:nvSpPr>
          <p:cNvPr id="250" name="TextBox 4"/>
          <p:cNvSpPr/>
          <p:nvPr/>
        </p:nvSpPr>
        <p:spPr>
          <a:xfrm>
            <a:off x="714240" y="0"/>
            <a:ext cx="785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ИСТОРИЯ ВОЗНИКНОВЕНИЯ ОТРИЦАТЕЛЬНЫХ ЧИСЕЛ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Box 1"/>
          <p:cNvSpPr/>
          <p:nvPr/>
        </p:nvSpPr>
        <p:spPr>
          <a:xfrm>
            <a:off x="142920" y="285840"/>
            <a:ext cx="8858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Древний Египет, Вавилон и Древняя Греция не использовали отрицательных чисел, а если при вычитании получались отрицательные корни уравнений, они отвергались как невозможные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2" name="Picture 6" descr="Картинка 98 из 164741"/>
          <p:cNvPicPr/>
          <p:nvPr/>
        </p:nvPicPr>
        <p:blipFill>
          <a:blip r:embed="rId2"/>
          <a:stretch/>
        </p:blipFill>
        <p:spPr>
          <a:xfrm rot="21308400">
            <a:off x="270000" y="3284280"/>
            <a:ext cx="3473280" cy="31431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Картинка 1 из 45"/>
          <p:cNvPicPr/>
          <p:nvPr/>
        </p:nvPicPr>
        <p:blipFill>
          <a:blip r:embed="rId3"/>
          <a:stretch/>
        </p:blipFill>
        <p:spPr>
          <a:xfrm>
            <a:off x="3714840" y="4643280"/>
            <a:ext cx="2625480" cy="18687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0" descr="http://www.ancient.gerodot.ru/topics/data/babylon/images/istar_gate/istar_gate_47.jpg"/>
          <p:cNvPicPr/>
          <p:nvPr/>
        </p:nvPicPr>
        <p:blipFill>
          <a:blip r:embed="rId4"/>
          <a:stretch/>
        </p:blipFill>
        <p:spPr>
          <a:xfrm rot="360000">
            <a:off x="6394320" y="2973240"/>
            <a:ext cx="2390760" cy="35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3000"/>
                            </p:stCondLst>
                            <p:childTnLst>
                              <p:par>
                                <p:cTn id="5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2116080" cy="65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Китай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6" name="Picture 13" descr="китай"/>
          <p:cNvPicPr/>
          <p:nvPr/>
        </p:nvPicPr>
        <p:blipFill>
          <a:blip r:embed="rId2"/>
          <a:stretch/>
        </p:blipFill>
        <p:spPr>
          <a:xfrm>
            <a:off x="142920" y="1071720"/>
            <a:ext cx="3786120" cy="28828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000320" y="213840"/>
            <a:ext cx="4965480" cy="37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Впервые отрицательные числа встречаются в  одной из книг древнекитайского трактата Джан Цань     (</a:t>
            </a:r>
            <a:r>
              <a:rPr b="0" lang="en-US" sz="2200" spc="-1" strike="noStrike">
                <a:solidFill>
                  <a:srgbClr val="04617b"/>
                </a:solidFill>
                <a:latin typeface="Constantia"/>
              </a:rPr>
              <a:t>I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век до нашей эры)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Эта книга составлена по более ранним источникам. В этой книге  указаны правила сложения и  вычитания положительных и отрицательных чисел с помощью метода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«ЧЖЭН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-ФУ»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    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«ЧЖЭН»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означает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«прибавляемый»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  а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«ФУ»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―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«вычитаемый»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179280" y="4437000"/>
            <a:ext cx="871560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Знака минус тогда не было, а чтобы отличить положительные числа от отрицательных, их изображали разными цветами: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«ЧЖЭН»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―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красным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а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«ФУ»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―</a:t>
            </a:r>
            <a:r>
              <a:rPr b="1" lang="ru-RU" sz="2200" spc="-1" strike="noStrike">
                <a:solidFill>
                  <a:srgbClr val="000000"/>
                </a:solidFill>
                <a:latin typeface="Constantia"/>
              </a:rPr>
              <a:t> черным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      </a:t>
            </a:r>
            <a:r>
              <a:rPr b="0" lang="ru-RU" sz="2200" spc="-1" strike="noStrike">
                <a:solidFill>
                  <a:srgbClr val="04617b"/>
                </a:solidFill>
                <a:latin typeface="Constantia"/>
              </a:rPr>
              <a:t>Более точных сведений на этот счет мы не имеем, так как император Ши Хуан Ди, разгневавшись на ученых, повелел все научные труды сжечь, а их авторов и читателей казнить. Содержание этих книг дошло до нас лишь в отрывках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4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819"/>
                            </p:stCondLst>
                            <p:childTnLst>
                              <p:par>
                                <p:cTn id="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98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819"/>
                            </p:stCondLst>
                            <p:childTnLst>
                              <p:par>
                                <p:cTn id="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819"/>
                            </p:stCondLst>
                            <p:childTnLst>
                              <p:par>
                                <p:cTn id="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819"/>
                            </p:stCondLst>
                            <p:childTnLst>
                              <p:par>
                                <p:cTn id="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9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3759120" cy="584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500"/>
            </a:br>
            <a:r>
              <a:rPr b="1" i="1" lang="en-US" sz="4500" spc="-1" strike="noStrike" u="sng">
                <a:solidFill>
                  <a:srgbClr val="ff0000"/>
                </a:solidFill>
                <a:uFillTx/>
                <a:latin typeface="Calibri"/>
              </a:rPr>
              <a:t>Индия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14200" y="1071720"/>
            <a:ext cx="542952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  VI–VII веках нашей эры  индийские математики уже систематически пользовались отрицательными числами, понимая их как долг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     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Впервые все четыре арифметических действия с отрицательными числами приведены индийским математиком и астрономом Брахмагуптой   (598–660 гг.)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1" name="Picture 2" descr="Картинка 1 из 1"/>
          <p:cNvPicPr/>
          <p:nvPr/>
        </p:nvPicPr>
        <p:blipFill>
          <a:blip r:embed="rId2"/>
          <a:stretch/>
        </p:blipFill>
        <p:spPr>
          <a:xfrm>
            <a:off x="5786280" y="1071720"/>
            <a:ext cx="3146760" cy="450360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5400" y="272880"/>
            <a:ext cx="3616200" cy="65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500" spc="-1" strike="noStrike" u="sng">
                <a:solidFill>
                  <a:srgbClr val="04617b"/>
                </a:solidFill>
                <a:uFillTx/>
                <a:latin typeface="Calibri"/>
              </a:rPr>
              <a:t>Итал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3" name="Picture 13" descr="италия Генуя, собор Сан-Лоренцо"/>
          <p:cNvPicPr/>
          <p:nvPr/>
        </p:nvPicPr>
        <p:blipFill>
          <a:blip r:embed="rId2"/>
          <a:stretch/>
        </p:blipFill>
        <p:spPr>
          <a:xfrm>
            <a:off x="214200" y="1285920"/>
            <a:ext cx="3268800" cy="50688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714840" y="285480"/>
            <a:ext cx="5214960" cy="63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езависимо от индийцев к пониманию отрицательных чисел, как противоположности положительных пришел итальянский математик Леонардо Пизанский (Фибоначчи), живший в XIII веке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о понадобилось еще около 400 лет, прежде чем «абсурдные» (бессмысленные) отрицатель-ные числа получили полное признание математиков,                                           а отрицательные  решения в задачах перестали  отбрасы-ваться как невозможные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omb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85840" y="285840"/>
            <a:ext cx="40003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Герма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428720" y="928440"/>
            <a:ext cx="442908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nstantia"/>
              </a:rPr>
              <a:t>В 1544 году немецкий математик Штифель впервые рассматривает отрицательные числа  как числа, меньшие нуля (т. е. «меньшие, чем ничто»).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7" name="Picture 6" descr="Картинка 32 из 11273"/>
          <p:cNvPicPr/>
          <p:nvPr/>
        </p:nvPicPr>
        <p:blipFill>
          <a:blip r:embed="rId2"/>
          <a:stretch/>
        </p:blipFill>
        <p:spPr>
          <a:xfrm>
            <a:off x="285840" y="1500120"/>
            <a:ext cx="4357440" cy="2908440"/>
          </a:xfrm>
          <a:prstGeom prst="rect">
            <a:avLst/>
          </a:prstGeom>
          <a:ln w="0">
            <a:noFill/>
          </a:ln>
        </p:spPr>
      </p:pic>
      <p:sp>
        <p:nvSpPr>
          <p:cNvPr id="268" name="TextBox 6"/>
          <p:cNvSpPr/>
          <p:nvPr/>
        </p:nvSpPr>
        <p:spPr>
          <a:xfrm>
            <a:off x="142920" y="4572000"/>
            <a:ext cx="87868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 этого момента отрицательные числа воспринимаются уже не как  долг, а совсем по-иному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circl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2928960" y="1071720"/>
            <a:ext cx="600084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Но еще Паскаль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623-1662 гг.)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читал, что 0 − 4 = 0, так как нет ничего, что было бы меньше, чем ничто. 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Бомбелли и Жирар, напротив, считали отрицательные числа вполне допустимыми и полезными, в частности, для обозначения недостачи чего-либо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0" name="Picture 2" descr="Картинка 10 из 1118"/>
          <p:cNvPicPr/>
          <p:nvPr/>
        </p:nvPicPr>
        <p:blipFill>
          <a:blip r:embed="rId2"/>
          <a:stretch/>
        </p:blipFill>
        <p:spPr>
          <a:xfrm>
            <a:off x="98280" y="142920"/>
            <a:ext cx="2759400" cy="40003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3"/>
          <p:cNvSpPr/>
          <p:nvPr/>
        </p:nvSpPr>
        <p:spPr>
          <a:xfrm>
            <a:off x="214200" y="4429080"/>
            <a:ext cx="8715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Отголоском тех времён является то обстоятельство, что в современной арифметике операция вычитания и знак отрицательных чисел обозначаются одним и тем же символом (минус), хотя алгебраически это совершенно разные понятия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071520" y="213840"/>
            <a:ext cx="3714840" cy="87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Франц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4" descr="Картинка 104 из 81004"/>
          <p:cNvPicPr/>
          <p:nvPr/>
        </p:nvPicPr>
        <p:blipFill>
          <a:blip r:embed="rId2"/>
          <a:stretch/>
        </p:blipFill>
        <p:spPr>
          <a:xfrm>
            <a:off x="142920" y="1571760"/>
            <a:ext cx="3571920" cy="5133960"/>
          </a:xfrm>
          <a:prstGeom prst="rect">
            <a:avLst/>
          </a:prstGeom>
          <a:ln w="0">
            <a:noFill/>
          </a:ln>
        </p:spPr>
      </p:pic>
      <p:sp>
        <p:nvSpPr>
          <p:cNvPr id="274" name="TextBox 3"/>
          <p:cNvSpPr/>
          <p:nvPr/>
        </p:nvSpPr>
        <p:spPr>
          <a:xfrm>
            <a:off x="4429080" y="1714680"/>
            <a:ext cx="43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nstantia"/>
              </a:rPr>
              <a:t>Тепло ― градусы со знаком «плюс»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TextBox 4"/>
          <p:cNvSpPr/>
          <p:nvPr/>
        </p:nvSpPr>
        <p:spPr>
          <a:xfrm>
            <a:off x="4429080" y="4572000"/>
            <a:ext cx="435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onstantia"/>
              </a:rPr>
              <a:t>Холод ― градусы со знаком «минус»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Крест 5"/>
          <p:cNvSpPr/>
          <p:nvPr/>
        </p:nvSpPr>
        <p:spPr>
          <a:xfrm>
            <a:off x="5500800" y="3071880"/>
            <a:ext cx="1571400" cy="1428840"/>
          </a:xfrm>
          <a:prstGeom prst="plus">
            <a:avLst>
              <a:gd name="adj" fmla="val 25000"/>
            </a:avLst>
          </a:prstGeom>
          <a:solidFill>
            <a:srgbClr val="ff00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Прямоугольник 6"/>
          <p:cNvSpPr/>
          <p:nvPr/>
        </p:nvSpPr>
        <p:spPr>
          <a:xfrm>
            <a:off x="5500800" y="5786280"/>
            <a:ext cx="1857240" cy="6429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TextBox 7"/>
          <p:cNvSpPr/>
          <p:nvPr/>
        </p:nvSpPr>
        <p:spPr>
          <a:xfrm>
            <a:off x="214200" y="142920"/>
            <a:ext cx="89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onstantia"/>
              </a:rPr>
              <a:t>ТЕРМОМЕТР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0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8T14:48:31Z</dcterms:created>
  <dc:creator>Елена</dc:creator>
  <dc:description/>
  <dc:language>en-US</dc:language>
  <cp:lastModifiedBy>Ryder</cp:lastModifiedBy>
  <dcterms:modified xsi:type="dcterms:W3CDTF">2015-03-12T13:59:49Z</dcterms:modified>
  <cp:revision>5</cp:revision>
  <dc:subject/>
  <dc:title>История возникновения отрицательных и положительных чисел</dc:title>
</cp:coreProperties>
</file>