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1CA9-1BDD-40C8-B2C1-938E8608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91F1-E299-460F-A5B5-BF1512CE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280A-D95D-48CF-9750-E762CACC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5CF4-0340-40FF-9B0A-363B5AEE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7097-1A16-4316-BDED-B42E37FD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1D54-D5D5-4594-9702-8854E76D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4A94-A15C-4A04-A617-B2710AFA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3389-9636-4003-999F-BDE7A198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C4A8-187F-44FD-85D7-0E356447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D609-5C5C-4CD9-A0AE-73073D34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280D-4ED3-4D98-8030-C0885347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E3CA-1C2C-4877-B0EF-C28E7964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B402-3EB0-433A-A09E-1E6298F9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63B9-EE25-4700-AB47-0B15BD0A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2A12-755F-4CDA-A243-20213F19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03E5-EE7A-4811-B4E9-0BA5697A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BE17-7D13-42B0-9E46-58323F12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0C151-3F3C-4F97-8840-4781CC1A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90A30-BEB5-454B-9B50-D20269B9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25F2A-F25D-4C85-BC97-B2B73641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2A755-C613-464F-BEE5-7A6DF922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C50AD-0FF0-42E8-B1D6-5A7E73E7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3F20-3D6C-4D59-8B00-DC0AA259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6233E-56D0-4F67-A4BE-157B753B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E9606-420C-47AC-B833-8D20665C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1A2DB-A50F-4E34-B90C-3DACA5EA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BF1FF-8B49-419E-95C0-FAA16B74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A2EC4-149E-4345-ADA9-69846C26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0DFD0-8ACE-4BCE-8F83-9AA61F5B7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12B9D-772A-42D6-9CD7-FBBF5EE9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5815B-FE78-4A2E-B4B8-50076A10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F809B-5D00-457F-81BF-CB28AC1D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595B1-E8C9-4D96-95F3-5C1E9D81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DFBD-E4DF-48CE-9FF8-40188FF8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E90F3-CAAC-44F8-9D9C-C19DF231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A52D8-7592-4DC2-8D78-AD105E2A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307AD-DEC3-4E8B-AF0A-6C7F07E6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A6C62-3122-4B74-979A-854938D6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34B1B-8E04-44FC-9554-2F6EDF32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7DAA5-4847-44C5-849C-3756B6E5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0DCC9-6D56-4488-95AC-49986C47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9F6D3-0FA2-4D0B-B8E3-977C712B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38147-7339-4401-BDAA-1FC10278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0F45E-AADE-4771-9BAF-34B3E178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A143-2B2F-487E-B8E2-2E1B08BE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09797-B67C-45F6-B74F-566752F0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ACA90-4106-453F-B51F-6213131E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D690D-CAB5-45A2-AED4-0F94B6F4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320B0-3F7F-40FF-A0F4-51FC8EB9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AA3E6-EA9C-470C-A026-BAB651F7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2CF62-5BC6-4B74-AEF0-A4CC893F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A7B99-2A3A-488C-849D-E5E3C150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B30E1-4B39-4E5C-8177-94B34A88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D9488-7FB4-4B1A-941D-449A574F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1505F-2FF2-4069-85F4-73E3CFB1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A2E1-554F-4C15-BBAD-8B8151F0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AB069-A6EF-4FB8-A06D-2E9A367B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BFFF-0304-4A9F-BAEE-9FF515F5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84D1-289C-4850-A4AE-F15485A7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27C6-D4C0-4F9C-8277-8955C359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6319-B1D0-480D-8422-42BD4E5CB69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67C8-C992-43E0-839B-2DE97011F36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39B6-E27D-48B2-B9E6-12FF23EE1B6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FBEC-C6A2-4135-A81C-F76F2145797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F1C4-2096-4100-8F5C-F8DDD60547F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2"/>
          <a:stretch/>
        </p:blipFill>
        <p:spPr>
          <a:xfrm>
            <a:off x="530280" y="493560"/>
            <a:ext cx="8448480" cy="27734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3780000" y="4724280"/>
            <a:ext cx="399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Презентацию выполнил ученик 6 класса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БОУ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Ш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школы  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рипов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сель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Картинка 6 из 21851"/>
          <p:cNvPicPr/>
          <p:nvPr/>
        </p:nvPicPr>
        <p:blipFill>
          <a:blip r:embed="rId2"/>
          <a:stretch/>
        </p:blipFill>
        <p:spPr>
          <a:xfrm>
            <a:off x="4857840" y="1857240"/>
            <a:ext cx="2428920" cy="46897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3"/>
          <p:cNvSpPr/>
          <p:nvPr/>
        </p:nvSpPr>
        <p:spPr>
          <a:xfrm>
            <a:off x="285840" y="5072040"/>
            <a:ext cx="4000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Богач ― состояние оценивается со знаком «плюс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4000680" y="142920"/>
            <a:ext cx="5000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Бедняк ― состояние равно нулю, а если есть долги, то оценивается со знаком «минус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2" name="Picture 6" descr="Картинка 6 из 19828"/>
          <p:cNvPicPr/>
          <p:nvPr/>
        </p:nvPicPr>
        <p:blipFill>
          <a:blip r:embed="rId3"/>
          <a:stretch/>
        </p:blipFill>
        <p:spPr>
          <a:xfrm>
            <a:off x="285840" y="1000080"/>
            <a:ext cx="3565440" cy="40006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5"/>
          <p:cNvSpPr/>
          <p:nvPr/>
        </p:nvSpPr>
        <p:spPr>
          <a:xfrm>
            <a:off x="357120" y="214200"/>
            <a:ext cx="31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ИМУЩЕСТВ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214200" y="714240"/>
            <a:ext cx="64296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Иван-царевич ― положительный сказочный персонаж. Рассматриваем его со знаком «плюс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429000" y="4643280"/>
            <a:ext cx="54291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Кощей бессмертный ― отрицательный персонаж. Рассматриваем его со знаком «минус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Picture 8" descr="Картинка 28 из 1182"/>
          <p:cNvPicPr/>
          <p:nvPr/>
        </p:nvPicPr>
        <p:blipFill>
          <a:blip r:embed="rId2"/>
          <a:stretch/>
        </p:blipFill>
        <p:spPr>
          <a:xfrm>
            <a:off x="214200" y="2071800"/>
            <a:ext cx="3162240" cy="43606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Картинка 139 из 2852"/>
          <p:cNvPicPr/>
          <p:nvPr/>
        </p:nvPicPr>
        <p:blipFill>
          <a:blip r:embed="rId3"/>
          <a:stretch/>
        </p:blipFill>
        <p:spPr>
          <a:xfrm>
            <a:off x="7072200" y="214200"/>
            <a:ext cx="1857600" cy="4621320"/>
          </a:xfrm>
          <a:prstGeom prst="rect">
            <a:avLst/>
          </a:prstGeom>
          <a:ln w="0">
            <a:noFill/>
          </a:ln>
        </p:spPr>
      </p:pic>
      <p:sp>
        <p:nvSpPr>
          <p:cNvPr id="288" name="Плюс 5"/>
          <p:cNvSpPr/>
          <p:nvPr/>
        </p:nvSpPr>
        <p:spPr>
          <a:xfrm>
            <a:off x="5072040" y="2000160"/>
            <a:ext cx="1500120" cy="1428840"/>
          </a:xfrm>
          <a:prstGeom prst="pi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Минус 6"/>
          <p:cNvSpPr/>
          <p:nvPr/>
        </p:nvSpPr>
        <p:spPr>
          <a:xfrm>
            <a:off x="4071960" y="3643200"/>
            <a:ext cx="1500120" cy="121464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TextBox 7"/>
          <p:cNvSpPr/>
          <p:nvPr/>
        </p:nvSpPr>
        <p:spPr>
          <a:xfrm>
            <a:off x="285840" y="142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onstantia"/>
              </a:rPr>
              <a:t>СКАЗК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500"/>
                            </p:stCondLst>
                            <p:childTnLst>
                              <p:par>
                                <p:cTn id="2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             </a:t>
            </a: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Авто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д работай работал: Зарипов Марсел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214200" y="1071720"/>
            <a:ext cx="878688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оложительные числа появились в глубокой древности, когда они стали использоваться для счета предметов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А вот числа отрицательные ― изобретение относительно недавне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214200" y="2571840"/>
            <a:ext cx="50720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Такие числа возникали при вычитании, но представлялись математикам непонятными,                           а действия с ними –                                       не имеющими реального смысла,           так как наименьшим количеством считалось «ничто», то есть нуль,                и казалось невозможным представить величину, которая была бы меньше нул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5" descr="C:\Documents and Settings\UserXP\Рабочий стол\Картины\Математика\Счеты\пальцы.jpg"/>
          <p:cNvPicPr/>
          <p:nvPr/>
        </p:nvPicPr>
        <p:blipFill>
          <a:blip r:embed="rId2"/>
          <a:stretch/>
        </p:blipFill>
        <p:spPr>
          <a:xfrm>
            <a:off x="5357880" y="2643120"/>
            <a:ext cx="3616200" cy="2857680"/>
          </a:xfrm>
          <a:prstGeom prst="rect">
            <a:avLst/>
          </a:prstGeom>
          <a:ln w="0">
            <a:noFill/>
          </a:ln>
        </p:spPr>
      </p:pic>
      <p:sp>
        <p:nvSpPr>
          <p:cNvPr id="250" name="TextBox 4"/>
          <p:cNvSpPr/>
          <p:nvPr/>
        </p:nvSpPr>
        <p:spPr>
          <a:xfrm>
            <a:off x="714240" y="0"/>
            <a:ext cx="785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СТОРИЯ ВОЗНИКНОВЕНИЯ ОТРИЦАТЕЛЬНЫХ ЧИСЕ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142920" y="285840"/>
            <a:ext cx="885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Древний Египет, Вавилон и Древняя Греция не использовали отрицательных чисел, а если при вычитании получались отрицательные корни уравнений, они отвергались как невозможны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6" descr="Картинка 98 из 164741"/>
          <p:cNvPicPr/>
          <p:nvPr/>
        </p:nvPicPr>
        <p:blipFill>
          <a:blip r:embed="rId2"/>
          <a:stretch/>
        </p:blipFill>
        <p:spPr>
          <a:xfrm rot="21308400">
            <a:off x="270000" y="3284280"/>
            <a:ext cx="3473280" cy="31431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Картинка 1 из 45"/>
          <p:cNvPicPr/>
          <p:nvPr/>
        </p:nvPicPr>
        <p:blipFill>
          <a:blip r:embed="rId3"/>
          <a:stretch/>
        </p:blipFill>
        <p:spPr>
          <a:xfrm>
            <a:off x="3714840" y="4643280"/>
            <a:ext cx="2625480" cy="1868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http://www.ancient.gerodot.ru/topics/data/babylon/images/istar_gate/istar_gate_47.jpg"/>
          <p:cNvPicPr/>
          <p:nvPr/>
        </p:nvPicPr>
        <p:blipFill>
          <a:blip r:embed="rId4"/>
          <a:stretch/>
        </p:blipFill>
        <p:spPr>
          <a:xfrm rot="360000">
            <a:off x="6394320" y="2973240"/>
            <a:ext cx="23907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2116080" cy="65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 u="sng">
                <a:solidFill>
                  <a:srgbClr val="ff0000"/>
                </a:solidFill>
                <a:uFillTx/>
                <a:latin typeface="Calibri"/>
              </a:rPr>
              <a:t>Китай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6" name="Picture 13" descr="китай"/>
          <p:cNvPicPr/>
          <p:nvPr/>
        </p:nvPicPr>
        <p:blipFill>
          <a:blip r:embed="rId2"/>
          <a:stretch/>
        </p:blipFill>
        <p:spPr>
          <a:xfrm>
            <a:off x="142920" y="1071720"/>
            <a:ext cx="3786120" cy="28828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000320" y="213840"/>
            <a:ext cx="496548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      </a:t>
            </a: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Впервые отрицательные числа встречаются в  одной из книг древнекитайского трактата Джан Цань     (</a:t>
            </a:r>
            <a:r>
              <a:rPr b="0" lang="en-US" sz="2200" spc="-1" strike="noStrike">
                <a:solidFill>
                  <a:srgbClr val="04617b"/>
                </a:solidFill>
                <a:latin typeface="Constantia"/>
              </a:rPr>
              <a:t>I</a:t>
            </a: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 век до нашей эры)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      </a:t>
            </a: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Эта книга составлена по более ранним источникам. В этой книге  указаны правила сложения и  вычитания положительных и отрицательных чисел с помощью метода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«ЧЖЭН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-ФУ»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     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«ЧЖЭН» </a:t>
            </a: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означает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«прибавляемый»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  а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«ФУ» </a:t>
            </a: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―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«вычитаемый»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179280" y="4437000"/>
            <a:ext cx="871560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      </a:t>
            </a: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Знака минус тогда не было, а чтобы отличить положительные числа от отрицательных, их изображали разными цветами: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«ЧЖЭН»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―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 красным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«ФУ»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―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черным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      </a:t>
            </a: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Более точных сведений на этот счет мы не имеем, так как император Ши Хуан Ди, разгневавшись на ученых, повелел все научные труды сжечь, а их авторов и читателей казнить. Содержание этих книг дошло до нас лишь в отрывках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819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819"/>
                            </p:stCondLst>
                            <p:childTnLst>
                              <p:par>
                                <p:cTn id="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819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8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819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375912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i="1" lang="en-US" sz="4500" spc="-1" strike="noStrike" u="sng">
                <a:solidFill>
                  <a:srgbClr val="ff0000"/>
                </a:solidFill>
                <a:uFillTx/>
                <a:latin typeface="Calibri"/>
              </a:rPr>
              <a:t>Индия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14200" y="1071720"/>
            <a:ext cx="54295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В  VI–VII веках нашей эры  индийские математики уже систематически пользовались отрицательными числами, понимая их как долг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Впервые все четыре арифметических действия с отрицательными числами приведены индийским математиком и астрономом Брахмагуптой   (598–660 гг.)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2" descr="Картинка 1 из 1"/>
          <p:cNvPicPr/>
          <p:nvPr/>
        </p:nvPicPr>
        <p:blipFill>
          <a:blip r:embed="rId2"/>
          <a:stretch/>
        </p:blipFill>
        <p:spPr>
          <a:xfrm>
            <a:off x="5786280" y="1071720"/>
            <a:ext cx="3146760" cy="45036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3616200" cy="65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 u="sng">
                <a:solidFill>
                  <a:srgbClr val="04617b"/>
                </a:solidFill>
                <a:uFillTx/>
                <a:latin typeface="Calibri"/>
              </a:rPr>
              <a:t>Итал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Picture 13" descr="италия Генуя, собор Сан-Лоренцо"/>
          <p:cNvPicPr/>
          <p:nvPr/>
        </p:nvPicPr>
        <p:blipFill>
          <a:blip r:embed="rId2"/>
          <a:stretch/>
        </p:blipFill>
        <p:spPr>
          <a:xfrm>
            <a:off x="214200" y="1285920"/>
            <a:ext cx="3268800" cy="50688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714840" y="285480"/>
            <a:ext cx="5214960" cy="63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зависимо от индийцев к пониманию отрицательных чисел, как противоположности положительных пришел итальянский математик Леонардо Пизанский (Фибоначчи), живший в XIII век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о понадобилось еще около 400 лет, прежде чем «абсурдные» (бессмысленные) отрицатель-ные числа получили полное признание математиков,                                           а отрицательные  решения в задачах перестали  отбрасы-ваться как невозможны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mb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40003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Герма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428720" y="928440"/>
            <a:ext cx="442908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В 1544 году немецкий математик Штифель впервые рассматривает отрицательные числа  как числа, меньшие нуля (т. е. «меньшие, чем ничто»)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6" descr="Картинка 32 из 11273"/>
          <p:cNvPicPr/>
          <p:nvPr/>
        </p:nvPicPr>
        <p:blipFill>
          <a:blip r:embed="rId2"/>
          <a:stretch/>
        </p:blipFill>
        <p:spPr>
          <a:xfrm>
            <a:off x="285840" y="1500120"/>
            <a:ext cx="4357440" cy="29084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6"/>
          <p:cNvSpPr/>
          <p:nvPr/>
        </p:nvSpPr>
        <p:spPr>
          <a:xfrm>
            <a:off x="142920" y="4572000"/>
            <a:ext cx="87868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 этого момента отрицательные числа воспринимаются уже не как  долг, а совсем по-иному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ircl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1"/>
          <p:cNvSpPr/>
          <p:nvPr/>
        </p:nvSpPr>
        <p:spPr>
          <a:xfrm>
            <a:off x="2928960" y="1071720"/>
            <a:ext cx="60008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о еще Паскаль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623-1662 гг.)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читал, что 0 − 4 = 0, так как нет ничего, что было бы меньше, чем ничто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омбелли и Жирар, напротив, считали отрицательные числа вполне допустимыми и полезными, в частности, для обозначения недостачи чего-либо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0" name="Picture 2" descr="Картинка 10 из 1118"/>
          <p:cNvPicPr/>
          <p:nvPr/>
        </p:nvPicPr>
        <p:blipFill>
          <a:blip r:embed="rId2"/>
          <a:stretch/>
        </p:blipFill>
        <p:spPr>
          <a:xfrm>
            <a:off x="98280" y="142920"/>
            <a:ext cx="2759400" cy="40003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3"/>
          <p:cNvSpPr/>
          <p:nvPr/>
        </p:nvSpPr>
        <p:spPr>
          <a:xfrm>
            <a:off x="214200" y="4429080"/>
            <a:ext cx="87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Отголоском тех времён является то обстоятельство, что в современной арифметике операция вычитания и знак отрицательных чисел обозначаются одним и тем же символом (минус), хотя алгебраически это совершенно разные понят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71520" y="213840"/>
            <a:ext cx="3714840" cy="87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Франц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Картинка 104 из 81004"/>
          <p:cNvPicPr/>
          <p:nvPr/>
        </p:nvPicPr>
        <p:blipFill>
          <a:blip r:embed="rId2"/>
          <a:stretch/>
        </p:blipFill>
        <p:spPr>
          <a:xfrm>
            <a:off x="142920" y="1571760"/>
            <a:ext cx="3571920" cy="5133960"/>
          </a:xfrm>
          <a:prstGeom prst="rect">
            <a:avLst/>
          </a:prstGeom>
          <a:ln w="0">
            <a:noFill/>
          </a:ln>
        </p:spPr>
      </p:pic>
      <p:sp>
        <p:nvSpPr>
          <p:cNvPr id="274" name="TextBox 3"/>
          <p:cNvSpPr/>
          <p:nvPr/>
        </p:nvSpPr>
        <p:spPr>
          <a:xfrm>
            <a:off x="4429080" y="1714680"/>
            <a:ext cx="43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Тепло ― градусы со знаком «плюс»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4429080" y="4572000"/>
            <a:ext cx="43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onstantia"/>
              </a:rPr>
              <a:t>Холод ― градусы со знаком «минус»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Крест 5"/>
          <p:cNvSpPr/>
          <p:nvPr/>
        </p:nvSpPr>
        <p:spPr>
          <a:xfrm>
            <a:off x="5500800" y="3071880"/>
            <a:ext cx="1571400" cy="142884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Прямоугольник 6"/>
          <p:cNvSpPr/>
          <p:nvPr/>
        </p:nvSpPr>
        <p:spPr>
          <a:xfrm>
            <a:off x="5500800" y="5786280"/>
            <a:ext cx="1857240" cy="6429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TextBox 7"/>
          <p:cNvSpPr/>
          <p:nvPr/>
        </p:nvSpPr>
        <p:spPr>
          <a:xfrm>
            <a:off x="214200" y="14292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onstantia"/>
              </a:rPr>
              <a:t>ТЕРМОМЕТР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4:48:31Z</dcterms:created>
  <dc:creator>Елена</dc:creator>
  <dc:description/>
  <dc:language>en-US</dc:language>
  <cp:lastModifiedBy>Ryder</cp:lastModifiedBy>
  <dcterms:modified xsi:type="dcterms:W3CDTF">2015-03-12T13:59:49Z</dcterms:modified>
  <cp:revision>5</cp:revision>
  <dc:subject/>
  <dc:title>История возникновения отрицательных и положительных чисел</dc:title>
</cp:coreProperties>
</file>