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720720" y="899640"/>
            <a:ext cx="611496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20720" y="4680000"/>
            <a:ext cx="611496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EAD16-BF3D-41A6-92FB-063F7C46F5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12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14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99D-18DE-4885-8878-6E9991D2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0F3-260A-4EBB-967B-2533E681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640-2DEE-495D-84E9-2FAF8EE0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15A-C3FE-4FE9-B1AD-42752456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8FAA-BB46-473E-BAFE-C3EB7ECA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2F45-D719-4561-B122-4401E07C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BEAA-5227-475E-A968-4A7D7109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4EE2-306D-45F3-8D0D-E1C2A2E5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2C4A-0A2E-4C1A-8E38-6F9ED8AF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39ED-77BE-409C-8B8E-6ED3E9A6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3F38-56E3-425D-9406-4F03AAEB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E86-648C-488D-9881-A5612731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0BCA-FCA2-46B6-A7D9-DF9F13D2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F0B6-D4DB-4DC1-9071-F130C584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9D9E-B9D3-47AF-97B1-FD7440D4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D7AD-EEA4-464E-B0B7-69130C93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3416-9D3A-46A8-B42D-76B2AA28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E91-A610-4359-89FB-746DA93B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3F1-4058-4B34-A320-0D9A72AB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017-4A76-4C96-915E-25438E7F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453-38DF-46DC-B943-E52FF5AA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6C8-8BD7-4BF5-96BC-5028CF69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25F-5858-4EAF-8D7D-D6933C87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4C1-094C-4329-9F69-011C8240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E6F54-8F43-4AB3-86BA-1C0DB108256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768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3280" y="1824120"/>
            <a:ext cx="906768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62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C9C6F-EB54-4312-8FF1-77B7EEFDF3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44720" y="2411280"/>
            <a:ext cx="55450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«Доброт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08360" y="216000"/>
            <a:ext cx="4176720" cy="72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87640" y="792000"/>
            <a:ext cx="5327640" cy="640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1440" y="2463840"/>
            <a:ext cx="2721240" cy="431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704000" y="2592360"/>
            <a:ext cx="2376720" cy="439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1152360"/>
            <a:ext cx="2376360" cy="4464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967280" y="1655640"/>
            <a:ext cx="27352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08320" y="853920"/>
            <a:ext cx="4964040" cy="59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92000" y="2166840"/>
            <a:ext cx="8496360" cy="31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ширить знания о доброте, добрых поступк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0680" y="2546280"/>
            <a:ext cx="921060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обро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отзывчивость, душевное расположение к людям, стремление делать добро друг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19280" y="431640"/>
            <a:ext cx="4608720" cy="669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95640" y="2311560"/>
            <a:ext cx="4178160" cy="52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03640" y="142920"/>
            <a:ext cx="4392360" cy="72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68720" y="2664000"/>
            <a:ext cx="40323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48000" y="144360"/>
            <a:ext cx="4751280" cy="72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52720" y="1690560"/>
            <a:ext cx="3672000" cy="565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1:17:45Z</dcterms:created>
  <dc:creator/>
  <dc:description/>
  <dc:language>en-US</dc:language>
  <cp:lastModifiedBy/>
  <dcterms:modified xsi:type="dcterms:W3CDTF">2015-01-29T17:27:16Z</dcterms:modified>
  <cp:revision>3</cp:revision>
  <dc:subject/>
  <dc:title/>
</cp:coreProperties>
</file>