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720720" y="899640"/>
            <a:ext cx="6114960" cy="343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720720" y="4680000"/>
            <a:ext cx="6114960" cy="50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27492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dt" idx="7"/>
          </p:nvPr>
        </p:nvSpPr>
        <p:spPr>
          <a:xfrm>
            <a:off x="4279680" y="-360"/>
            <a:ext cx="327492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10156320"/>
            <a:ext cx="327492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4279680" y="10156320"/>
            <a:ext cx="327492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233715-FE4E-4029-BED4-0C185E9926C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720720" y="900000"/>
            <a:ext cx="6119640" cy="3441960"/>
          </a:xfrm>
          <a:prstGeom prst="rect">
            <a:avLst/>
          </a:prstGeom>
          <a:ln w="0">
            <a:noFill/>
          </a:ln>
        </p:spPr>
      </p:sp>
      <p:sp>
        <p:nvSpPr>
          <p:cNvPr id="112" name=""/>
          <p:cNvSpPr/>
          <p:nvPr/>
        </p:nvSpPr>
        <p:spPr>
          <a:xfrm>
            <a:off x="720720" y="4680000"/>
            <a:ext cx="611964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28" name="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30" name="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32" name="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720720" y="900000"/>
            <a:ext cx="6118200" cy="3440160"/>
          </a:xfrm>
          <a:prstGeom prst="rect">
            <a:avLst/>
          </a:prstGeom>
          <a:ln w="0">
            <a:noFill/>
          </a:ln>
        </p:spPr>
      </p:sp>
      <p:sp>
        <p:nvSpPr>
          <p:cNvPr id="114" name=""/>
          <p:cNvSpPr/>
          <p:nvPr/>
        </p:nvSpPr>
        <p:spPr>
          <a:xfrm>
            <a:off x="720720" y="4680000"/>
            <a:ext cx="6118200" cy="503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16" name="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18" name="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20" name="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22" name="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24" name="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26" name="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0FBD8-4A36-4459-BAFF-F0C3A0312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62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90662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2D08F-E387-468B-A228-CE718C66F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4240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055760"/>
            <a:ext cx="44240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2DC5C-980C-448A-9497-9BE518DF6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2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7960"/>
            <a:ext cx="29192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7960"/>
            <a:ext cx="29192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9192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055760"/>
            <a:ext cx="29192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055760"/>
            <a:ext cx="29192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D626B-7DAA-4C1D-B84C-E775C9C41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D22C0-4E4B-4BD5-B659-AF9B2A13A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62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88F59-F669-41FE-A4BF-F8CCC3C2C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62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5BC38-B55F-401A-B322-693F070AF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107FD-46D3-45B5-AEBC-FCB4C65C1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FBFA0-9D2E-40D4-ADBC-E3ADFAEA1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EDAFE-295B-4DC3-AD25-93CDE07FB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4240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C29CE-DF8D-4F0C-B7AD-BF111A067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62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2E022-E376-436F-AA26-13A17467A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149080" y="4055760"/>
            <a:ext cx="44240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76507-2185-453C-BAEB-87533CE54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90662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B0585-F474-421E-90F7-ECB00C8C6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62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90662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A54CB-8739-4F60-8FD5-7E342DBE6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4240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149080" y="4055760"/>
            <a:ext cx="44240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2E29E-2BA6-40F5-8344-D8F973E62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2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569040" y="1767960"/>
            <a:ext cx="29192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634440" y="1767960"/>
            <a:ext cx="29192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9192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569040" y="4055760"/>
            <a:ext cx="29192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634440" y="4055760"/>
            <a:ext cx="29192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7FC43-8D8D-42DC-93D1-116BE295F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62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3D300-5C82-448C-8B78-1E7A8AC3F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2BE23-E622-4028-BAB1-C953CC4A4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35DE4-4993-4009-9BAC-85D54CCAA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E0E9E-264F-485C-9A97-9AFB7B168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4240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01858-6B29-4985-B3F6-5D9BEA15D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055760"/>
            <a:ext cx="44240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283E7-FD35-47AE-8D98-B09123A58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90662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D8706-5444-4C6C-B56D-5910A9016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62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7E6194-7FFB-4C66-9836-543B960A69EC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078920" cy="75596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03280" y="286920"/>
            <a:ext cx="906768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503280" y="1824120"/>
            <a:ext cx="9067680" cy="4379760"/>
          </a:xfrm>
          <a:prstGeom prst="rect">
            <a:avLst/>
          </a:prstGeom>
          <a:noFill/>
          <a:ln w="0">
            <a:noFill/>
          </a:ln>
        </p:spPr>
        <p:txBody>
          <a:bodyPr lIns="0" rIns="0" tIns="30960" bIns="0" anchor="t">
            <a:normAutofit fontScale="93000"/>
          </a:bodyPr>
          <a:p>
            <a:pPr marL="318960" indent="0">
              <a:lnSpc>
                <a:spcPct val="93000"/>
              </a:lnSpc>
              <a:spcAft>
                <a:spcPts val="153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318960" indent="-318960">
              <a:lnSpc>
                <a:spcPct val="93000"/>
              </a:lnSpc>
              <a:spcAft>
                <a:spcPts val="153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2" marL="318960" indent="-318960">
              <a:lnSpc>
                <a:spcPct val="93000"/>
              </a:lnSpc>
              <a:spcAft>
                <a:spcPts val="153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3" marL="318960" indent="-318960">
              <a:lnSpc>
                <a:spcPct val="93000"/>
              </a:lnSpc>
              <a:spcAft>
                <a:spcPts val="153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4" marL="318960" indent="-318960">
              <a:lnSpc>
                <a:spcPct val="93000"/>
              </a:lnSpc>
              <a:spcAft>
                <a:spcPts val="153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5" marL="318960" indent="-318960">
              <a:lnSpc>
                <a:spcPct val="93000"/>
              </a:lnSpc>
              <a:spcAft>
                <a:spcPts val="153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6" marL="318960" indent="-318960">
              <a:lnSpc>
                <a:spcPct val="93000"/>
              </a:lnSpc>
              <a:spcAft>
                <a:spcPts val="153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44628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7225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F9AB91-FC6A-4CD1-BD51-EC7301C0BCA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9.png"/><Relationship Id="rId3" Type="http://schemas.openxmlformats.org/officeDocument/2006/relationships/image" Target="../media/image6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1944720" y="2411280"/>
            <a:ext cx="5545080" cy="27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028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Тема урок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7200" spc="-1" strike="noStrike">
                <a:solidFill>
                  <a:srgbClr val="0000ff"/>
                </a:solidFill>
                <a:latin typeface="Arial"/>
              </a:rPr>
              <a:t>«Доброта»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808360" y="216000"/>
            <a:ext cx="4176720" cy="727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087640" y="792000"/>
            <a:ext cx="5327640" cy="640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2341440" y="2463840"/>
            <a:ext cx="2721240" cy="431964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7704000" y="2592360"/>
            <a:ext cx="2376720" cy="43927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0" y="1152360"/>
            <a:ext cx="2376360" cy="44643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4967280" y="1655640"/>
            <a:ext cx="2735280" cy="431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308320" y="853920"/>
            <a:ext cx="4964040" cy="598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792000" y="2166840"/>
            <a:ext cx="8496360" cy="31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Arial"/>
              </a:rPr>
              <a:t>Цель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расширить знания о доброте, добрых поступках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490680" y="2546280"/>
            <a:ext cx="9210600" cy="35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Доброта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- отзывчивость, душевное расположение к людям, стремление делать добро другим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2519280" y="431640"/>
            <a:ext cx="4608720" cy="669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3095640" y="2311560"/>
            <a:ext cx="4178160" cy="5248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303640" y="142920"/>
            <a:ext cx="4392360" cy="727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3168720" y="2664000"/>
            <a:ext cx="4032360" cy="482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448000" y="144360"/>
            <a:ext cx="4751280" cy="727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952720" y="1690560"/>
            <a:ext cx="3672000" cy="56530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27T11:17:45Z</dcterms:created>
  <dc:creator/>
  <dc:description/>
  <dc:language>en-US</dc:language>
  <cp:lastModifiedBy/>
  <dcterms:modified xsi:type="dcterms:W3CDTF">2015-01-29T17:27:16Z</dcterms:modified>
  <cp:revision>3</cp:revision>
  <dc:subject/>
  <dc:title/>
</cp:coreProperties>
</file>