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2B1-4839-4B3B-B4E0-0CBC953F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3205-2259-47DC-B7DF-4081C6C9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6411-8171-4136-835C-F7819D89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FA8-2527-4EF3-A0E4-5D505069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11C5-8741-4433-A710-0AE3ED2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6E8C-B832-4FF2-9DAE-52D7A760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0662-4A60-4643-ACA8-5E2D90C5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889-4FB8-48F3-AE5C-84CA1B77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EB27-AF93-412C-8707-114E8AF5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D28-0FAB-4E67-AEDB-62BC1D91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BCE-6FC9-486A-A830-9E9D792A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B52-220B-4C35-983D-8B0B88F5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59CD-0FD8-4FA5-B3B8-3EE432598B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58920" y="4437000"/>
            <a:ext cx="564804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66"/>
                </a:solidFill>
                <a:latin typeface="Constantia"/>
              </a:rPr>
              <a:t>Мугаллимова Наталья Викторо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66"/>
                </a:solidFill>
                <a:latin typeface="Constantia"/>
              </a:rPr>
              <a:t>учитель ИЗО и технолог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3127320" y="2090880"/>
            <a:ext cx="5394240" cy="2212920"/>
          </a:xfrm>
          <a:prstGeom prst="rect">
            <a:avLst/>
          </a:prstGeom>
          <a:ln w="0">
            <a:noFill/>
          </a:ln>
        </p:spPr>
      </p:pic>
      <p:sp>
        <p:nvSpPr>
          <p:cNvPr id="43" name="Подзаголовок 2"/>
          <p:cNvSpPr/>
          <p:nvPr/>
        </p:nvSpPr>
        <p:spPr>
          <a:xfrm>
            <a:off x="2195640" y="6021360"/>
            <a:ext cx="5648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201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2843280" y="765000"/>
            <a:ext cx="56484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МБОУ «ООШ № 9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Constantia"/>
              </a:rPr>
              <a:t>г. То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:\Users\User\Desktop\фотки косм\P_20160411_162530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84360" y="3141720"/>
            <a:ext cx="4103640" cy="2906640"/>
          </a:xfrm>
          <a:prstGeom prst="rect">
            <a:avLst/>
          </a:prstGeom>
          <a:ln w="0">
            <a:noFill/>
          </a:ln>
        </p:spPr>
      </p:pic>
      <p:sp>
        <p:nvSpPr>
          <p:cNvPr id="46" name="Подзаголовок 2"/>
          <p:cNvSpPr/>
          <p:nvPr/>
        </p:nvSpPr>
        <p:spPr>
          <a:xfrm>
            <a:off x="3348000" y="1413000"/>
            <a:ext cx="56484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                </a:t>
            </a: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Подвиг Гагарина является громадным вкладом в науку, он открыл новую эпоху в истории человечества – начало полетов в космос, дорогу к межпланетным сообщени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                                 </a:t>
            </a: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М.В. Келдыш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                            </a:t>
            </a:r>
            <a:r>
              <a:rPr b="1" i="1" lang="ru-RU" sz="1900" spc="-1" strike="noStrike">
                <a:solidFill>
                  <a:srgbClr val="000066"/>
                </a:solidFill>
                <a:latin typeface="Constantia"/>
              </a:rPr>
              <a:t>президент академии наук ССС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ttp://iconsoftheworld.com/wp-content/uploads/2013/12/IoR_TASS_92696_Gagarin.pn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435640" y="3573360"/>
            <a:ext cx="34956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User\Desktop\фотки косм\P_20160411_111748.jpg"/>
          <p:cNvPicPr/>
          <p:nvPr/>
        </p:nvPicPr>
        <p:blipFill>
          <a:blip r:embed="rId2"/>
          <a:stretch/>
        </p:blipFill>
        <p:spPr>
          <a:xfrm>
            <a:off x="4352760" y="255600"/>
            <a:ext cx="4473720" cy="3359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User\Desktop\фотки косм\P_20160411_162456.jpg"/>
          <p:cNvPicPr/>
          <p:nvPr/>
        </p:nvPicPr>
        <p:blipFill>
          <a:blip r:embed="rId3"/>
          <a:stretch/>
        </p:blipFill>
        <p:spPr>
          <a:xfrm>
            <a:off x="244440" y="328680"/>
            <a:ext cx="4187880" cy="3004920"/>
          </a:xfrm>
          <a:prstGeom prst="rect">
            <a:avLst/>
          </a:prstGeom>
          <a:ln w="0">
            <a:noFill/>
          </a:ln>
        </p:spPr>
      </p:pic>
      <p:sp>
        <p:nvSpPr>
          <p:cNvPr id="50" name="Подзаголовок 2"/>
          <p:cNvSpPr/>
          <p:nvPr/>
        </p:nvSpPr>
        <p:spPr>
          <a:xfrm>
            <a:off x="5148360" y="3429000"/>
            <a:ext cx="32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66"/>
                </a:solidFill>
                <a:latin typeface="Constantia"/>
              </a:rPr>
              <a:t>2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User\Desktop\фотки косм\P_20160411_162501.jpg"/>
          <p:cNvPicPr/>
          <p:nvPr/>
        </p:nvPicPr>
        <p:blipFill>
          <a:blip r:embed="rId4"/>
          <a:stretch/>
        </p:blipFill>
        <p:spPr>
          <a:xfrm>
            <a:off x="4638600" y="3852720"/>
            <a:ext cx="4041720" cy="27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esktop\фотки косм\P_20160411_162545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1116000" y="3500280"/>
            <a:ext cx="34560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Пользователь</cp:lastModifiedBy>
  <dcterms:modified xsi:type="dcterms:W3CDTF">2016-04-14T06:04:28Z</dcterms:modified>
  <cp:revision>30</cp:revision>
  <dc:subject/>
  <dc:title>Слайд 1</dc:title>
</cp:coreProperties>
</file>