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045-53FB-4BE3-BE0A-F7421A7E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DCC-6644-491E-9C19-5D90D691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494-3AE0-428C-A12E-070CFA95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EDA-2342-467C-A1B0-161D9327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EDC-4CC3-4C12-B179-40F14226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603-1FF4-4ED4-A840-E327EFF3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BE8-01C7-41FC-BD3B-0720374A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27F-008D-4C65-A482-1B6266ED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B19-B335-4144-B223-6B8F4BA9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EE4-3CDB-4E5B-9026-E7A20B9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2CE-AA33-4A57-942A-C6B8365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3B7-BD03-4519-BEC7-466039DF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4EAE-5EAF-4399-8097-A52A48DC9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58920" y="4437000"/>
            <a:ext cx="56480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Constantia"/>
              </a:rPr>
              <a:t>Мугаллимова Наталья Викто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Constantia"/>
              </a:rPr>
              <a:t>учитель ИЗО и техн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3127320" y="2090880"/>
            <a:ext cx="5394240" cy="221292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2195640" y="6021360"/>
            <a:ext cx="564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843280" y="765000"/>
            <a:ext cx="56484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МБОУ «ООШ № 9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г. То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Users\User\Desktop\фотки косм\P_20160411_162530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84360" y="3141720"/>
            <a:ext cx="4103640" cy="2906640"/>
          </a:xfrm>
          <a:prstGeom prst="rect">
            <a:avLst/>
          </a:prstGeom>
          <a:ln w="0">
            <a:noFill/>
          </a:ln>
        </p:spPr>
      </p:pic>
      <p:sp>
        <p:nvSpPr>
          <p:cNvPr id="46" name="Подзаголовок 2"/>
          <p:cNvSpPr/>
          <p:nvPr/>
        </p:nvSpPr>
        <p:spPr>
          <a:xfrm>
            <a:off x="3348000" y="1413000"/>
            <a:ext cx="564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Подвиг Гагарина является громадным вкладом в науку, он открыл новую эпоху в истории человечества – начало полетов в космос, дорогу к межпланетным сообщени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 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М.В. Келдыш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президент академии наук ССС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iconsoftheworld.com/wp-content/uploads/2013/12/IoR_TASS_92696_Gagarin.pn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435640" y="3573360"/>
            <a:ext cx="3495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фотки косм\P_20160411_111748.jpg"/>
          <p:cNvPicPr/>
          <p:nvPr/>
        </p:nvPicPr>
        <p:blipFill>
          <a:blip r:embed="rId2"/>
          <a:stretch/>
        </p:blipFill>
        <p:spPr>
          <a:xfrm>
            <a:off x="4352760" y="255600"/>
            <a:ext cx="4473720" cy="335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фотки косм\P_20160411_162456.jpg"/>
          <p:cNvPicPr/>
          <p:nvPr/>
        </p:nvPicPr>
        <p:blipFill>
          <a:blip r:embed="rId3"/>
          <a:stretch/>
        </p:blipFill>
        <p:spPr>
          <a:xfrm>
            <a:off x="244440" y="328680"/>
            <a:ext cx="4187880" cy="300492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5148360" y="3429000"/>
            <a:ext cx="32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66"/>
                </a:solidFill>
                <a:latin typeface="Constantia"/>
              </a:rPr>
              <a:t>2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ser\Desktop\фотки косм\P_20160411_162501.jpg"/>
          <p:cNvPicPr/>
          <p:nvPr/>
        </p:nvPicPr>
        <p:blipFill>
          <a:blip r:embed="rId4"/>
          <a:stretch/>
        </p:blipFill>
        <p:spPr>
          <a:xfrm>
            <a:off x="4638600" y="3852720"/>
            <a:ext cx="4041720" cy="27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esktop\фотки косм\P_20160411_162545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1116000" y="3500280"/>
            <a:ext cx="3456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Пользователь</cp:lastModifiedBy>
  <dcterms:modified xsi:type="dcterms:W3CDTF">2016-04-14T06:04:28Z</dcterms:modified>
  <cp:revision>30</cp:revision>
  <dc:subject/>
  <dc:title>Слайд 1</dc:title>
</cp:coreProperties>
</file>