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6F8-3364-42CF-8A94-F84AC704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57E-79AF-4426-8E51-F5F6353F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BD75-5A62-4132-8487-39F64EDCD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E41-B620-4E81-94C4-4F7F180C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1F84-73EF-400B-B204-E12EFDBD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E41-342A-4D6A-9153-A9F32C43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33A-67E4-44DD-A999-C77B4208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C73-B776-4FBC-B196-DF626AD0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D1E-0311-4C2D-8A94-27AE9190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8F96-87DE-4406-8F4C-35D91C83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D557-5EEE-467D-837E-D3360F58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810F-ED6F-43A0-8D3F-58B76EBC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8406-70CD-4F68-AF55-8E5FDBE311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User\Desktop\фотки косм\P_20160411_162448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11280" y="3213000"/>
            <a:ext cx="4681440" cy="3241800"/>
          </a:xfrm>
          <a:prstGeom prst="rect">
            <a:avLst/>
          </a:prstGeom>
          <a:ln w="0">
            <a:noFill/>
          </a:ln>
        </p:spPr>
      </p:pic>
      <p:sp>
        <p:nvSpPr>
          <p:cNvPr id="42" name="Подзаголовок 2"/>
          <p:cNvSpPr/>
          <p:nvPr/>
        </p:nvSpPr>
        <p:spPr>
          <a:xfrm>
            <a:off x="5435640" y="3141720"/>
            <a:ext cx="32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66"/>
                </a:solidFill>
                <a:latin typeface="Constantia"/>
              </a:rPr>
              <a:t>4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\Desktop\фотки косм\P_20160411_103230.jpg"/>
          <p:cNvPicPr/>
          <p:nvPr/>
        </p:nvPicPr>
        <p:blipFill>
          <a:blip r:embed="rId3"/>
          <a:stretch/>
        </p:blipFill>
        <p:spPr>
          <a:xfrm>
            <a:off x="4419720" y="396720"/>
            <a:ext cx="4370400" cy="2822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User\Desktop\фотки косм\P_20160411_162509.jpg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6012000" y="3868560"/>
            <a:ext cx="2087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C:\Users\User\Desktop\фотки косм\P_20160411_162538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771640" y="1125360"/>
            <a:ext cx="6032520" cy="431964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3348000" y="5516640"/>
            <a:ext cx="5329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«Белка и Стрел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Constantia"/>
              </a:rPr>
              <a:t>Зорькина Полина, 7 клас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Заголовок 1"/>
          <p:cNvSpPr/>
          <p:nvPr/>
        </p:nvSpPr>
        <p:spPr>
          <a:xfrm>
            <a:off x="395280" y="5445000"/>
            <a:ext cx="8424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Constantia"/>
              </a:rPr>
              <a:t>Желаем в будущем побывать в космосе и встретить друзей!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http://barselit.ru/images/males/gf.gif"/>
          <p:cNvPicPr/>
          <p:nvPr/>
        </p:nvPicPr>
        <p:blipFill>
          <a:blip r:embed="rId2"/>
          <a:stretch/>
        </p:blipFill>
        <p:spPr>
          <a:xfrm>
            <a:off x="3635280" y="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http://barselit.ru/images/males/gf.gif"/>
          <p:cNvPicPr/>
          <p:nvPr/>
        </p:nvPicPr>
        <p:blipFill>
          <a:blip r:embed="rId3"/>
          <a:stretch/>
        </p:blipFill>
        <p:spPr>
          <a:xfrm>
            <a:off x="7093080" y="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" descr="C:\Users\User\Desktop\фотки косм\P_20160412_075328.jpg"/>
          <p:cNvPicPr/>
          <p:nvPr/>
        </p:nvPicPr>
        <p:blipFill>
          <a:blip r:embed="rId4"/>
          <a:stretch/>
        </p:blipFill>
        <p:spPr>
          <a:xfrm>
            <a:off x="2627280" y="1413000"/>
            <a:ext cx="62373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20:21:28Z</dcterms:created>
  <dc:creator>DAY</dc:creator>
  <dc:description/>
  <dc:language>en-US</dc:language>
  <cp:lastModifiedBy>Пользователь</cp:lastModifiedBy>
  <dcterms:modified xsi:type="dcterms:W3CDTF">2016-04-14T06:03:58Z</dcterms:modified>
  <cp:revision>32</cp:revision>
  <dc:subject/>
  <dc:title>Слайд 1</dc:title>
</cp:coreProperties>
</file>