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ED3-E7CC-48CE-BE9A-CC1486AC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1DB-4E6F-48C2-B126-94772A00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4B37-86CC-4FD8-9424-4A1B52FC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B09F-9959-45A0-BEE8-FF631834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595-C103-48F5-A0F8-609D4C0D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9A22-67DA-470D-89F2-271E4D0B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4B7E-5E33-4731-B663-63FD03D8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C49-5795-49A9-ABF7-7FD6D5E8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13F-849C-4A1B-B6E3-24425B84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27F0-BC97-4E31-950C-03719DC8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2DA9-E84F-419F-9B54-B6F37ABD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1DA4-03D5-476F-9A25-9BE7090A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9AEB-7D5C-4387-8B5A-B59E0C45A2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Users\User\Desktop\фотки косм\P_20160411_162448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611280" y="3213000"/>
            <a:ext cx="4681440" cy="3241800"/>
          </a:xfrm>
          <a:prstGeom prst="rect">
            <a:avLst/>
          </a:prstGeom>
          <a:ln w="0">
            <a:noFill/>
          </a:ln>
        </p:spPr>
      </p:pic>
      <p:sp>
        <p:nvSpPr>
          <p:cNvPr id="42" name="Подзаголовок 2"/>
          <p:cNvSpPr/>
          <p:nvPr/>
        </p:nvSpPr>
        <p:spPr>
          <a:xfrm>
            <a:off x="5435640" y="3141720"/>
            <a:ext cx="324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66"/>
                </a:solidFill>
                <a:latin typeface="Constantia"/>
              </a:rPr>
              <a:t>4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User\Desktop\фотки косм\P_20160411_103230.jpg"/>
          <p:cNvPicPr/>
          <p:nvPr/>
        </p:nvPicPr>
        <p:blipFill>
          <a:blip r:embed="rId3"/>
          <a:stretch/>
        </p:blipFill>
        <p:spPr>
          <a:xfrm>
            <a:off x="4419720" y="396720"/>
            <a:ext cx="4370400" cy="2822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User\Desktop\фотки косм\P_20160411_162509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6012000" y="3868560"/>
            <a:ext cx="2087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C:\Users\User\Desktop\фотки косм\P_20160411_162538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771640" y="1125360"/>
            <a:ext cx="6032520" cy="4319640"/>
          </a:xfrm>
          <a:prstGeom prst="rect">
            <a:avLst/>
          </a:prstGeom>
          <a:ln w="0">
            <a:noFill/>
          </a:ln>
        </p:spPr>
      </p:pic>
      <p:sp>
        <p:nvSpPr>
          <p:cNvPr id="46" name="Заголовок 1"/>
          <p:cNvSpPr/>
          <p:nvPr/>
        </p:nvSpPr>
        <p:spPr>
          <a:xfrm>
            <a:off x="3348000" y="5516640"/>
            <a:ext cx="5329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Constantia"/>
              </a:rPr>
              <a:t>«Белка и Стрел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Constantia"/>
              </a:rPr>
              <a:t>Зорькина Полина, 7 клас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Заголовок 1"/>
          <p:cNvSpPr/>
          <p:nvPr/>
        </p:nvSpPr>
        <p:spPr>
          <a:xfrm>
            <a:off x="395280" y="5445000"/>
            <a:ext cx="8424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Constantia"/>
              </a:rPr>
              <a:t>Желаем в будущем побывать в космосе и встретить друзей!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" descr="C:\Users\User\Desktop\фотки косм\P_20160412_075328.jpg"/>
          <p:cNvPicPr/>
          <p:nvPr/>
        </p:nvPicPr>
        <p:blipFill>
          <a:blip r:embed="rId4"/>
          <a:stretch/>
        </p:blipFill>
        <p:spPr>
          <a:xfrm>
            <a:off x="2627280" y="1413000"/>
            <a:ext cx="6237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20:21:28Z</dcterms:created>
  <dc:creator>DAY</dc:creator>
  <dc:description/>
  <dc:language>en-US</dc:language>
  <cp:lastModifiedBy>Пользователь</cp:lastModifiedBy>
  <dcterms:modified xsi:type="dcterms:W3CDTF">2016-04-14T06:03:58Z</dcterms:modified>
  <cp:revision>32</cp:revision>
  <dc:subject/>
  <dc:title>Слайд 1</dc:title>
</cp:coreProperties>
</file>