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300-D303-4446-B50B-8A97EF3C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82A-6B05-4B28-BB60-0EFC56F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026-CA2B-4AF0-B4DB-BA138941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604-D610-4BA8-A329-AD48136A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EA6-0477-48B7-BBBB-493D743A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6ED5-0D9B-455F-91B2-8D53C709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FEDA-730E-4E2F-812D-2E8DC1B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F49-5FD1-4CEE-851C-1D7DF4E2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1443-CA77-4E61-85CA-BD2E392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62B-15DB-4414-8686-344F897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7FA3-6116-437B-8FD5-DB81869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E49-61D1-41EA-90AB-7D82A04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1E4-7572-4DFB-9D11-B9BC403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92F7-1E30-4DB5-BE66-F96E2D4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CD40-2078-4890-9D06-0F757751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ACC-4B0A-4D32-9861-FEB4E862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94E-6AC5-447B-A9DB-B516EB43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A40C5-9A11-4D94-B34B-6DB10EF9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85ADE-5343-4159-A9EB-49745A9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5B3A-3D43-45BA-BAC3-8DA0E4A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FB6B4-5CF9-43EE-BFF2-E9D14B37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14327-EEFE-4036-AC3C-8F3A330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A2A-59C2-415A-B59E-0F84763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698CA-0603-465B-919D-BC372A3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CC626-389C-45D0-9E37-9F34CC7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70CF5-5E56-461E-96CE-CB21480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AD962-F2F6-49E8-A3A9-D2A3CCF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1821E-20B4-4539-B4AA-ADD0FB58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8974F-E972-4879-97AA-2B02FE44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5CB42-42B3-4CB2-AFF9-43360020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96F8-08E9-42F9-93BE-7D5C3BBC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3429D-6705-4FA6-AF20-F9551C98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564F-1CE6-43F6-8E7E-CF4C4FE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11-6FA1-4F94-B1ED-5A08F71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C11D-1DC0-4A77-85E0-4C148FF2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6974-3B68-47F5-9E8E-80672B9F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418A-9C13-4C4B-892C-0D70AE62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3963-2D48-47D2-B59B-77F9429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1D26-EE09-4A3B-BFA7-B737B4A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1FFE-A6D7-4C3B-90AE-84D9A93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452F-EDC5-4F43-AACE-A7F6A54E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4BB9-E0F3-42E3-95D3-296C10B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67BC-9500-40D7-BB75-184A3ADA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CF3-CC1A-4232-BF19-6416192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D9B-A558-42CE-A5C5-03BDED7F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BCA-17D1-4C96-B5CA-CCB1118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D9A-1B13-4305-8614-DC23B60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17E-6863-4A76-B152-D77A652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172C-71CB-45A5-8460-D3C3C239BF7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E461-2571-41DB-A003-95A0B7122CD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6EBA-FA5E-451A-81FC-16339841415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790-D405-4B5F-9B45-F78F0B0DE56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На пути к подростковому возрасту…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://kragrad.ru/media/news/large/1130_vozrastnyie-ramki-pubertata-460x312.jpg"/>
          <p:cNvPicPr/>
          <p:nvPr/>
        </p:nvPicPr>
        <p:blipFill>
          <a:blip r:embed="rId1"/>
          <a:stretch/>
        </p:blipFill>
        <p:spPr>
          <a:xfrm>
            <a:off x="0" y="0"/>
            <a:ext cx="5500800" cy="3724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funlib.ru/cimg/2014/102003/3110252"/>
          <p:cNvPicPr/>
          <p:nvPr/>
        </p:nvPicPr>
        <p:blipFill>
          <a:blip r:embed="rId2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totalmedminas.com.br/wp-content/plugins/rss-poster/cache/46332_adolescentesbebidademenciasaudegetty.jpg"/>
          <p:cNvPicPr/>
          <p:nvPr/>
        </p:nvPicPr>
        <p:blipFill>
          <a:blip r:embed="rId3"/>
          <a:stretch/>
        </p:blipFill>
        <p:spPr>
          <a:xfrm>
            <a:off x="0" y="3216240"/>
            <a:ext cx="4857840" cy="364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http://www.neo-medical.ru/wp-content/uploads/2010/04/kosmetika.jpg"/>
          <p:cNvPicPr/>
          <p:nvPr/>
        </p:nvPicPr>
        <p:blipFill>
          <a:blip r:embed="rId4"/>
          <a:stretch/>
        </p:blipFill>
        <p:spPr>
          <a:xfrm>
            <a:off x="5143680" y="28584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0% мальчико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% девоче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возрасте 11–12 лет испытывают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спокойство по поводу своего рос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60% девоче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возрасте 11–12 лет испытывают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спокойство по поводу лишнего вес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В действительности лишь 16% от этого числа склонны к ожирению и туч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материалам статистики,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пыт первой влюбленности девочек –11 лет – 6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опыт первой влюбленност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альчиков – 13 л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85640"/>
            <a:ext cx="8229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полнение домашнего задания или общение с друзьям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1436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ение домашнего задания или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общение с друзьями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говорить о возникшей проблеме с родителями, классным руководителем или с подругой, другом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говорить о возникшей проблеме с родителями, классным руководителем или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с подругой, другом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ться с мнением родителей, учителей, если даже у них совсем иное мнение или высказать свое мнени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ться с мнением родителей, учителей, если даже у них совсем иное мнение или </a:t>
            </a: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ысказать свое мнение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12:27:00Z</dcterms:created>
  <dc:creator>User</dc:creator>
  <dc:description/>
  <dc:language>en-US</dc:language>
  <cp:lastModifiedBy>User</cp:lastModifiedBy>
  <dcterms:modified xsi:type="dcterms:W3CDTF">2016-01-12T19:56:34Z</dcterms:modified>
  <cp:revision>25</cp:revision>
  <dc:subject/>
  <dc:title>Взаимоотношения мальчиков и девочек</dc:title>
</cp:coreProperties>
</file>