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8A84-90B1-4C89-B65F-B4224B1C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C734-4077-4498-B0E4-2E2DA43A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1070-9577-48CE-A017-6BC6C696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1E0-678D-4938-88A1-CC868F81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C082-5AE0-4FF0-88F3-C0FD173F7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F0E4F-4FFF-48B6-9483-2DF55537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C29E-98C2-4AD2-928C-1803C1C1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722D-4017-4EB4-9F32-50C3F00BB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BC88-5C71-4CDD-9608-D71A696D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9EC1-76CF-47A9-9EC3-58485D66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5706-FFD3-4078-ADA9-C1C8077F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E52D-E590-46E8-A36F-D8D991BE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1296-36F3-47E6-AA23-AFDA53EC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22E1-3F1B-4BD3-B153-D285D93E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61601-52E0-4563-A83A-C6A5F79B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F5C5-EF12-4C4D-A83E-499F18CE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16B5-33C4-4750-8EB3-7F45D513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FE5B19-0FC0-47DD-9AB8-BF0180E5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6FE7F-CC4C-4F93-AD95-61D4A64B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84254-1351-43F3-963B-58F4FB84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2C0E81-8DE5-4C29-8C97-CBDF9BAF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AA7C1-D822-4501-8238-F3CFF4D1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52E-B937-4100-9AF0-A0FF4A8B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FAB443-1230-4386-80FF-9A0C89E5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8544A-A1A9-4333-B456-F1A5713B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B3B96-DBEF-40C9-B575-3401E4D3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4D44A-8EB6-49B6-A7BB-98B4D938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E0E6F-1525-4FFE-B306-841804F6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66AAFF-F692-4ECD-AAD8-01977070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D2964-8146-453F-B3E3-940150AD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5D4F3-DC6B-4B00-AC1C-A0AA6B98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C537C-8B33-4CDE-A965-A1FC2A7F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7F321-F77B-40A4-9EBE-623A2989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017B-FBFE-4246-940D-4ED00D1D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CD506-A619-43A6-9951-9B0C7319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C3F8C-D06B-4333-97AA-F5019694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48216-BFAB-429E-9927-35A6DDCA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03DA4-80E0-4925-A080-DE89B392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6883D-332B-486B-9872-EF81FB59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61987-4B51-4ADC-A574-EDA88420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0478B-750A-41CD-8238-F314538D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5EAB9-3DA5-421E-9E6C-C9FD9C357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84F3A-89C2-40D0-BBC7-CAB69F66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607E-BD9C-4473-90E3-86DD3E4B3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5B9-6318-497C-913B-DBB335B7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F11D-6484-402F-A154-A74F99CC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CF48-39F0-45BD-B233-4AEE1B8B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15A6-BDF9-41FC-8158-6CDDBBA6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E187-D789-47F9-88CA-51A7FC91F7D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D406-2C2F-4E3B-8087-A23FCDF84FF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C204-CCE3-4009-9A16-CC026F84C50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7BE9-60CA-431D-A2D2-1CE88B95554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rebuchet MS"/>
              </a:rPr>
              <a:t>На пути к подростковому возрасту…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2" descr="http://kragrad.ru/media/news/large/1130_vozrastnyie-ramki-pubertata-460x312.jpg"/>
          <p:cNvPicPr/>
          <p:nvPr/>
        </p:nvPicPr>
        <p:blipFill>
          <a:blip r:embed="rId1"/>
          <a:stretch/>
        </p:blipFill>
        <p:spPr>
          <a:xfrm>
            <a:off x="0" y="0"/>
            <a:ext cx="5500800" cy="3724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www.funlib.ru/cimg/2014/102003/3110252"/>
          <p:cNvPicPr/>
          <p:nvPr/>
        </p:nvPicPr>
        <p:blipFill>
          <a:blip r:embed="rId2"/>
          <a:stretch/>
        </p:blipFill>
        <p:spPr>
          <a:xfrm>
            <a:off x="4667400" y="3500280"/>
            <a:ext cx="4476600" cy="3357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http://totalmedminas.com.br/wp-content/plugins/rss-poster/cache/46332_adolescentesbebidademenciasaudegetty.jpg"/>
          <p:cNvPicPr/>
          <p:nvPr/>
        </p:nvPicPr>
        <p:blipFill>
          <a:blip r:embed="rId3"/>
          <a:stretch/>
        </p:blipFill>
        <p:spPr>
          <a:xfrm>
            <a:off x="0" y="3216240"/>
            <a:ext cx="4857840" cy="36417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http://www.neo-medical.ru/wp-content/uploads/2010/04/kosmetika.jpg"/>
          <p:cNvPicPr/>
          <p:nvPr/>
        </p:nvPicPr>
        <p:blipFill>
          <a:blip r:embed="rId4"/>
          <a:stretch/>
        </p:blipFill>
        <p:spPr>
          <a:xfrm>
            <a:off x="5143680" y="285840"/>
            <a:ext cx="44766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143000"/>
            <a:ext cx="8229600" cy="54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30% мальчиков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0% девочек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возрасте 11–12 лет испытывают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еспокойство по поводу своего рост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60% девочек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возрасте 11–12 лет испытывают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беспокойство по поводу лишнего веса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В действительности лишь 16% от этого числа склонны к ожирению и тучност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 материалам статистики,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пыт первой влюбленности девочек –11 лет – 60%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опыт первой влюбленности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альчиков – 13 ле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85640"/>
            <a:ext cx="8229600" cy="42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полнение домашнего задания или общение с друзьями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14360"/>
            <a:ext cx="82296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Выполнение домашнего задания или </a:t>
            </a:r>
            <a:r>
              <a:rPr b="1" lang="ru-RU" sz="9600" spc="-1" strike="noStrike">
                <a:solidFill>
                  <a:srgbClr val="000000"/>
                </a:solidFill>
                <a:latin typeface="Georgia"/>
              </a:rPr>
              <a:t>общение с друзьями!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говорить о возникшей проблеме с родителями, классным руководителем или с подругой, другом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говорить о возникшей проблеме с родителями, классным руководителем или </a:t>
            </a:r>
            <a:r>
              <a:rPr b="1" lang="ru-RU" sz="9600" spc="-1" strike="noStrike">
                <a:solidFill>
                  <a:srgbClr val="000000"/>
                </a:solidFill>
                <a:latin typeface="Georgia"/>
              </a:rPr>
              <a:t>с подругой, другом!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гласиться с мнением родителей, учителей, если даже у них совсем иное мнение или высказать свое мнение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13920" indent="-219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гласиться с мнением родителей, учителей, если даже у них совсем иное мнение или </a:t>
            </a:r>
            <a:r>
              <a:rPr b="0" lang="ru-RU" sz="9600" spc="-1" strike="noStrike">
                <a:solidFill>
                  <a:srgbClr val="000000"/>
                </a:solidFill>
                <a:latin typeface="Georgia"/>
              </a:rPr>
              <a:t>высказать свое мнение!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1T12:27:00Z</dcterms:created>
  <dc:creator>User</dc:creator>
  <dc:description/>
  <dc:language>en-US</dc:language>
  <cp:lastModifiedBy>User</cp:lastModifiedBy>
  <dcterms:modified xsi:type="dcterms:W3CDTF">2016-01-12T19:56:34Z</dcterms:modified>
  <cp:revision>25</cp:revision>
  <dc:subject/>
  <dc:title>Взаимоотношения мальчиков и девочек</dc:title>
</cp:coreProperties>
</file>