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C79-980A-46A6-8E62-10052E6D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E98-D1CB-4B3C-A82A-6D2ED904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4CE-732F-4C2C-A869-73C0E214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EAA-8FBB-4AA2-A50A-8FBB23DA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B31-85D2-40C7-926E-EED548EE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064-2D77-458C-976F-9A9AD105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462-C706-4652-BD5D-E3F19F71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73A-AE68-4B68-9446-FF73A215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474-5C1A-40CD-9643-3AD90FA3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23A-B1A5-4ACD-94DF-4A38FB0D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74C-FCC2-4AE4-80B1-6878F59B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F8A-FF12-4994-9E4B-5EFCFFFB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A979-123C-4B7E-87AB-DD793E3240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71680" y="1428840"/>
          <a:ext cx="7786440" cy="2485800"/>
        </p:xfrm>
        <a:graphic>
          <a:graphicData uri="http://schemas.openxmlformats.org/drawingml/2006/table">
            <a:tbl>
              <a:tblPr/>
              <a:tblGrid>
                <a:gridCol w="2152440"/>
                <a:gridCol w="2978280"/>
                <a:gridCol w="2655720"/>
              </a:tblGrid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л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инова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довалис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ре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ален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ряжал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лёп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цветным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нзилас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тракци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езуч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епета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орн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стрел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ивай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 rot="20739600">
            <a:off x="720720" y="1496520"/>
            <a:ext cx="5843520" cy="785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 rot="20000400">
            <a:off x="285840" y="3071520"/>
            <a:ext cx="8682120" cy="7142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3237840" y="4857840"/>
            <a:ext cx="524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 Драгун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1527120" y="357120"/>
            <a:ext cx="66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́ктор Ю́зефович Драгу́н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C:\Users\User\Desktop\0003-004-Viktor-JUzefovich-DRAGUNSKIJ.jpg"/>
          <p:cNvPicPr/>
          <p:nvPr/>
        </p:nvPicPr>
        <p:blipFill>
          <a:blip r:embed="rId1"/>
          <a:stretch/>
        </p:blipFill>
        <p:spPr>
          <a:xfrm>
            <a:off x="2500200" y="1357200"/>
            <a:ext cx="400068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Desktop\1961 год  Дома за письменным столом.jpg"/>
          <p:cNvPicPr/>
          <p:nvPr/>
        </p:nvPicPr>
        <p:blipFill>
          <a:blip r:embed="rId1"/>
          <a:stretch/>
        </p:blipFill>
        <p:spPr>
          <a:xfrm>
            <a:off x="285840" y="243000"/>
            <a:ext cx="857232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yubilei_detskogo_pisatelya_viktora_dragunskogo_v_rgdb_0_573x370.jpg"/>
          <p:cNvPicPr/>
          <p:nvPr/>
        </p:nvPicPr>
        <p:blipFill>
          <a:blip r:embed="rId1"/>
          <a:stretch/>
        </p:blipFill>
        <p:spPr>
          <a:xfrm>
            <a:off x="588960" y="857160"/>
            <a:ext cx="7966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3T17:11:38Z</dcterms:created>
  <dc:creator>User</dc:creator>
  <dc:description/>
  <dc:language>en-US</dc:language>
  <cp:lastModifiedBy>User</cp:lastModifiedBy>
  <dcterms:modified xsi:type="dcterms:W3CDTF">2016-02-23T19:27:49Z</dcterms:modified>
  <cp:revision>14</cp:revision>
  <dc:subject/>
  <dc:title>билет очередь</dc:title>
</cp:coreProperties>
</file>