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42FB-3E85-4618-AEA5-8782976E5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D133-0B42-404C-8EFA-8733A2D7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1A9D-9039-483D-A862-6207FBB4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D537-DE3E-4794-82E8-AB8A339A9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C589-7AA3-48A4-B5D7-1F67F4A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E11-FFD8-4C40-B97C-DF32A39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0E8-C6F4-4177-8E66-73B171AF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31C-38A1-4185-914A-2C3B7D9F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534-4C0D-4F37-A3AA-43831D36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1D92-17C7-40D9-B896-AD34BB79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3D13-3C2C-4F13-AE63-9A393B24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0491-76AA-4B13-A60E-D7972ADE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94D3-6547-4926-AF8E-75AA2330F8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71680" y="1428840"/>
          <a:ext cx="7786440" cy="2485800"/>
        </p:xfrm>
        <a:graphic>
          <a:graphicData uri="http://schemas.openxmlformats.org/drawingml/2006/table">
            <a:tbl>
              <a:tblPr/>
              <a:tblGrid>
                <a:gridCol w="2152440"/>
                <a:gridCol w="2978280"/>
                <a:gridCol w="265572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ле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инова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довали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ед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аленны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ряж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лёп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цветны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нзила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тракци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езучи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епета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ор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стреленны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ивай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 rot="20739600">
            <a:off x="720720" y="1496520"/>
            <a:ext cx="5843520" cy="785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 rot="20000400">
            <a:off x="285840" y="3071520"/>
            <a:ext cx="8682120" cy="7142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5"/>
          <p:cNvSpPr/>
          <p:nvPr/>
        </p:nvSpPr>
        <p:spPr>
          <a:xfrm>
            <a:off x="3237840" y="4857840"/>
            <a:ext cx="524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Драгу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3"/>
          <p:cNvSpPr/>
          <p:nvPr/>
        </p:nvSpPr>
        <p:spPr>
          <a:xfrm>
            <a:off x="1527120" y="357120"/>
            <a:ext cx="665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́ктор Ю́зефович Драгу́н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4" descr="C:\Users\User\Desktop\0003-004-Viktor-JUzefovich-DRAGUNSKIJ.jpg"/>
          <p:cNvPicPr/>
          <p:nvPr/>
        </p:nvPicPr>
        <p:blipFill>
          <a:blip r:embed="rId1"/>
          <a:stretch/>
        </p:blipFill>
        <p:spPr>
          <a:xfrm>
            <a:off x="2500200" y="1357200"/>
            <a:ext cx="400068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User\Desktop\1961 год  Дома за письменным столом.jpg"/>
          <p:cNvPicPr/>
          <p:nvPr/>
        </p:nvPicPr>
        <p:blipFill>
          <a:blip r:embed="rId1"/>
          <a:stretch/>
        </p:blipFill>
        <p:spPr>
          <a:xfrm>
            <a:off x="285840" y="243000"/>
            <a:ext cx="85723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yubilei_detskogo_pisatelya_viktora_dragunskogo_v_rgdb_0_573x370.jpg"/>
          <p:cNvPicPr/>
          <p:nvPr/>
        </p:nvPicPr>
        <p:blipFill>
          <a:blip r:embed="rId1"/>
          <a:stretch/>
        </p:blipFill>
        <p:spPr>
          <a:xfrm>
            <a:off x="588960" y="857160"/>
            <a:ext cx="796608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17:11:38Z</dcterms:created>
  <dc:creator>User</dc:creator>
  <dc:description/>
  <dc:language>en-US</dc:language>
  <cp:lastModifiedBy>User</cp:lastModifiedBy>
  <dcterms:modified xsi:type="dcterms:W3CDTF">2016-02-23T19:27:49Z</dcterms:modified>
  <cp:revision>14</cp:revision>
  <dc:subject/>
  <dc:title>билет очередь</dc:title>
</cp:coreProperties>
</file>