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805-9E44-4D11-81CB-612BB7BF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1745-9A01-4C03-99DB-40C00B4A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623-FBB7-4BA7-994D-739F45C4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FCB-4C0B-46D4-8D1A-6A58081E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9796-4415-4113-8B79-203756BF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0D63-605D-4B96-AE45-C6FA8ABC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64684-936E-4367-952D-9515ACAA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FB307-32EA-40B3-849B-D95DC86F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6397-C827-4B3B-9438-D0229F6A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6C3A-DBFF-49E8-A13F-1B08AF82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76BC-F9FF-4C46-BC11-BEEA181A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2958-6AD7-4A92-B87A-0856599D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4850-2D91-4471-9A9C-298756CA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BA33-5D7E-4D22-9782-9F32FBC7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2693-ED0D-4644-995D-F93DE2E5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C580-D853-48A6-B847-088FFE21D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29C4-B501-494D-A570-B7173053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30F619-40D5-4E02-83C0-C2F626EA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5997D-0019-44D7-9CDB-50E39CA1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E72A8-3AFC-4689-8D0D-E33CD34F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624F4-2980-4F24-AF40-6EEAAFEE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BF5D9-EC49-4A79-946B-B476F2E9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573-80C7-40B1-A11E-73128A91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9F8E0-D991-49F4-AE81-AE31F557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8EAD3F-41D6-4263-8F86-A0384817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A1CD1-71B5-495B-9628-CDBC04E7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61C0F-D0E2-4FDF-A79B-FC37DA1D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62B15-53FC-4F3A-A393-EA0D9701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19821-F75B-4BF5-8393-ABA9AAC6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55B97B-A447-4C2A-A197-5BB134FC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C3B5E-4334-49E2-A4CD-5DF1E477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7DE63-8445-4254-8CAC-DCF588AE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A84C3-C807-493B-B380-CB6D6486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593-AD0F-44FD-BAFF-905154A7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66BFB-5DC5-4226-97F8-5FD6817B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BE6B3-2917-4641-8E90-8F58452F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B4CC6-7AC3-49A5-869C-1FEED4D4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EE0E2-FFB8-477A-BA14-B3498D80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8201F-9A61-4A48-9ECE-FC1C3DFA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45FB5-6476-4E52-ADB1-96CAECDA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7CA71-7903-45A1-B83E-02F164A5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0764D-0DA9-4CC2-BC87-5FD67890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A810C-CD55-479F-B721-79B51D59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49E047-7AD2-4AE7-BE88-CA65CC4F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FEC-6AEF-4654-8CB0-CD15A30F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AE7F4-09FD-4245-BF79-7A632E3B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72C431-351D-4D34-B764-279AD699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D5D4A2-BB24-47C6-896A-A01B33CF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A75A25-9935-4130-8A97-D1537B77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5AF54C-E558-4B83-9343-F5613987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D64E22-7B75-41CA-8F51-5576C4E8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562EE-BC71-47F4-8935-AF93B86B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575906-A733-41CC-BA2D-6381E064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BFF17E-98C6-4BD9-9179-20381A57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6230AB-21E0-4409-85E2-AC03BD22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4DB-45F3-403D-A71A-A916C38F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3943B6-2F5E-4B40-AA30-5EEF2FE1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30E43-E058-40FF-9255-7880F499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40EE62-D83A-4BDD-A5B2-497F10A5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93745E-9CC7-499A-964D-47E8BF88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72CA2-7C98-4302-B0B6-19555921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23AD67-D764-4845-8E07-4F2742F1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47B7B2-E15E-4D14-8FCE-138517C8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7CADE6-3E03-4D86-AF5D-4C5BB52C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8DD339-31B7-4677-A2C3-249558FD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1ECF2-276D-4F42-A6AC-60FA95CA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D2FA-FD5C-4987-A33D-634069D1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DE85F8-E77C-41E8-BB78-CB55453E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57001-0D10-487C-A707-C1EB3C37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A64A4-782F-4CE3-87CD-12F38FA8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D566EE-E10D-4B78-8BEC-2C8EC67C8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CFBCE4-CFA9-4BC5-9CA5-C62703AE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78F59D-FF83-4C03-A641-D8841DF4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3B4855-9A8A-4FF8-834D-ADCD65C6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2C8EC3-E8DD-439B-9004-96648D20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EB819-D5EE-4150-9E9F-409CD948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32AFA8-0E55-40B2-962D-584D7FF0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EA4-A343-494F-A37A-0D5E909E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FFBFF4-9E14-4B32-93A5-2EFF1CBC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EF968A-6835-48EB-B95F-26330FA1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59847-CC1E-4367-AFC5-3ECCCCBD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D7233C-1304-494D-8296-C026B771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33FC88-8390-48D9-BCAF-46D683AA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4D5A-385F-4896-AD08-7E80F46B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E9E2-9E9E-4BEB-8B7D-52921677038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8542-CC92-41E1-B7E1-5EC0B5A7E139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0C46-6651-4F32-BCF3-246EF2D6B71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3478-75A6-4DBF-B573-18101E5A80E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71BC-DFC2-4553-BA93-A873DC54A6F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213C-C492-425E-B5A5-4EAFF691343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74D2-C966-4015-970F-6C70EFAA23A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Picture 2" descr="http://ppt4web.ru/images/288/21133/640/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«ОН ЖИВОЙ И СВЕТИТСЯ…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6" name="Picture 2" descr="http://www.mumbaitravellers.in/main/wp-content/uploads/2015/05/firefly-480x314.jpg?189db0"/>
          <p:cNvPicPr/>
          <p:nvPr/>
        </p:nvPicPr>
        <p:blipFill>
          <a:blip r:embed="rId1"/>
          <a:stretch/>
        </p:blipFill>
        <p:spPr>
          <a:xfrm>
            <a:off x="428760" y="1571760"/>
            <a:ext cx="7519680" cy="49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1. Имя геро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2. Внешность геро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3. Черты характера героя.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4. Отношение героя к окружающим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5. Отношение к герою других действующих лиц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6. Отношение автор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7. Ваше отношение к герою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1T18:21:58Z</dcterms:created>
  <dc:creator>User</dc:creator>
  <dc:description/>
  <dc:language>en-US</dc:language>
  <cp:lastModifiedBy>User</cp:lastModifiedBy>
  <dcterms:modified xsi:type="dcterms:W3CDTF">2016-03-09T16:49:01Z</dcterms:modified>
  <cp:revision>4</cp:revision>
  <dc:subject/>
  <dc:title>В. Бианки «Мышонок Пик»</dc:title>
</cp:coreProperties>
</file>