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DFA-3F12-4F8B-B2A9-932FCA25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75B9-1F5D-4AE2-9F30-A02941D7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275-B11B-436B-AAEE-A64F2BAF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8617-C647-4D1B-AC45-470E8728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84EB-9303-4130-96CC-6ADEFF91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BE34-E1DB-42FE-A42A-B7E2579E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5362-E25A-4FD5-8733-B47CF571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DB86-27BE-46C8-B358-C88108BA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C9A9-9189-49DD-AF66-BE82E8CF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DCB3-2C3D-4012-8BA9-C1F0A681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8704-CE02-4922-BCD7-AB977BE7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7A4-AA03-4A5B-B726-63A40FB9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CDD1-5DFA-481A-95E7-C85682E5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ED28-2B54-400E-9E08-9D8F68AD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E96B-83F7-4828-9372-E3E988B4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0945-6411-470A-A873-6BEC2C12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15A8-097D-460E-8E2F-4252C439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96E59-DB66-4964-9FE0-2C214F84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F9B2E-D499-4A72-8992-E5F02B0F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B8EA4-098E-42B9-B9C3-BFE5AEEB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04ECD-EB38-4390-8F55-093EA15A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7BF75-12AB-429A-AE5F-25FFCA66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013-DDCF-4BDA-8F3B-065536E6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C40E6-379D-41AF-BD5B-EDDB8A21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60AC08-995E-4E7C-B74D-F6B2AD43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2B6D8-9A1B-4F66-96C6-A141F6C8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D7DCA-4B36-465A-9F40-DFC52337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CC13A-449B-4BF1-94D2-5455A90F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AA557-512E-44A7-8038-AD6C7D4D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75D52-850B-4B61-91DB-E8E61653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1EFE3-8B09-4D7C-AE05-AD19FFEC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9155C-66D6-424D-BFB9-367FF0A5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6BAD3-4F5C-40E1-A0FB-98984808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B0B-E6C1-4329-8378-B4DD1A83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32DFD-9264-4712-B5F1-8D1FE60C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978E6-6149-4645-B31C-873B96B7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116B0-7DC2-46B5-B7E2-8FBDD7E4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F0063-E90A-4053-A1CA-A9D0D804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900EA-4C07-42AD-8F4B-116A89FC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1384C-877A-4004-85DC-EC74DFD1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2945D-407A-4E67-B381-D5E4F905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9CC95-371C-4238-A398-464F9EE9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EDE65-3A08-4E53-8432-42D9AB78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D28C2B-E12A-4245-9DC8-D63D707F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2F38-DC71-4287-A1BA-78CA46CB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D7364-19A6-4DC2-9B32-5D1529DF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C528DC-08A9-42B5-8C35-885AA4D9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66F581-6B8E-4944-90AB-FBDBA22C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143ACA-1A92-4B2F-894E-4B720537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47730-E04C-4E1A-98AE-78F4F1D2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5CF904-C2A1-4FB6-AC40-1768B7E5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C5E56-DB61-4675-8FFD-D6D9B82F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D6CA68-F8B9-43D4-B173-20503587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5465C1-A2B8-4819-91CA-B901CBFA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631AC-8A80-4AD2-B04F-0A5DA69B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874-2708-4950-9059-189B6768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DB568-AD5D-44B7-9D98-CCACB80E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08B544-3F15-41F0-BFDC-06625181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68B85E-D601-42D7-B40E-F875A5B1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3BCED7-F5AF-4796-A165-30AE8B0B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16E62F-FF76-4475-818D-20A5BCED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BB0B41-B439-451F-A57E-39F37255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6DF45F-9D8C-4FE3-B098-2F894BCE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5B672D-026E-4323-93C3-81648DAF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745C91-52C2-41F8-B6D3-324D5420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507BA-120E-409F-A5BC-3F346AFA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919-0720-4556-A039-ADE1FCBE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078395-39A5-48D4-A054-64CF7D6C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96782-A754-4905-8885-96A9646C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1E41CB-B28A-4970-9C1D-93B73155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A25340-AF24-4E0A-A26C-92B9CE20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E0DAAA-F90A-4B30-B30E-8153CAC7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C0C64C-2BB7-40A4-B8D4-290BFE0C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1993C6-52F0-43A1-ABFF-B8707D8E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480633-9F9F-4DAA-B65C-27293CD3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E64329-AD47-4998-872D-E1C7F986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7F341A-98D3-419C-AC25-C30A55A5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C375-8479-4EC2-B5FA-78D1773F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0D6EF8-B7E0-4C45-8066-686EC819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0E7B65-5911-44F4-BCAA-54A09402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C97815-0754-42C9-A3DA-34E9FC5E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E09C54-3560-48E0-8153-F5C95DBD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403675-2B88-44C6-9319-E651247E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6D8C-FBBD-45DD-8295-1BF7483C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FE4E-4710-4181-985C-0105AD52752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19FD-BD85-49A6-8152-14E7787E034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24C0-340B-4DD9-B85D-EC2666A6E68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6427-C2B1-4527-8545-F8459AF416B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C057-2D5A-4861-A40A-FF1B19A7B23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A61C-FF52-4BF0-9C9B-36374201AEB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3C78-3E0B-4B32-A8CD-04923362FDD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http://ppt4web.ru/images/288/21133/640/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«ОН ЖИВОЙ И СВЕТИТСЯ…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2" descr="http://www.mumbaitravellers.in/main/wp-content/uploads/2015/05/firefly-480x314.jpg?189db0"/>
          <p:cNvPicPr/>
          <p:nvPr/>
        </p:nvPicPr>
        <p:blipFill>
          <a:blip r:embed="rId1"/>
          <a:stretch/>
        </p:blipFill>
        <p:spPr>
          <a:xfrm>
            <a:off x="428760" y="1571760"/>
            <a:ext cx="751968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1. Имя геро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2. Внешность геро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3. Черты характера героя.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4. Отношение героя к окружающим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5. Отношение к герою других действующих лиц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6. Отношение автор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7. Ваше отношение к герою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1T18:21:58Z</dcterms:created>
  <dc:creator>User</dc:creator>
  <dc:description/>
  <dc:language>en-US</dc:language>
  <cp:lastModifiedBy>User</cp:lastModifiedBy>
  <dcterms:modified xsi:type="dcterms:W3CDTF">2016-03-09T16:49:01Z</dcterms:modified>
  <cp:revision>4</cp:revision>
  <dc:subject/>
  <dc:title>В. Бианки «Мышонок Пик»</dc:title>
</cp:coreProperties>
</file>