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10FC-DFB7-4959-A5F8-D01BDCC0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3F88-F7C2-4703-8CB6-8CDDB968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6BF2A-E713-44FF-864C-ACC20014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02FDB-B583-4E21-A121-7242DCFA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7DFCA-B006-4328-A3BD-0E155A6B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63208-27C0-4FEF-B510-F83A81D4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BC470-6D61-40C5-BEC4-1FDCCD5C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2D3DE-14C5-4891-8570-1FDDBE9C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77A52-F66C-493A-A931-608AF8C0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7CAEC-A9AF-4D39-97BD-95BA2FC9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A5DF3-1A0D-4040-8223-82B23D58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7DA-6A23-474B-947A-A6C9E285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F7B9-1EAB-4063-B4D2-C70C380A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0DA6-ED40-43D9-98C5-C73BE786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DEA5-8C61-42E8-A05C-2F253F2B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7482-98D0-4208-8217-7ECF5C4D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829B-E026-458B-98E4-B80E1769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A5BB-907A-44A1-8FA3-D3312217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C8FB-BEC5-4B8E-BCBF-D0DBD025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36AB-9862-4385-AD3C-E562E084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FE4D-0EB6-49CF-BCA6-6EF2D6C8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20BA-F41C-44DD-B3C7-B776CC3A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27DD-3D68-4763-8E8E-28EDBDC9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FE7D-208C-4BD6-9D59-87158CFA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E15F-9AC4-41F5-A6CF-B3A83A50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A27D-4EAC-4AB4-8ACA-0C88EDE1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D7D00-A849-4912-B13C-8493259D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BBD2F-A7F9-411A-B8DA-B9ED07CA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31CD4-9048-49EF-81BD-3AC710E5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D226E-A2F1-4EFD-9A5A-3FA0BDAC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596F0-CDE7-42FC-B91D-E48623DB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E0B1-930C-4B72-BC1B-8878B385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E0E52-C124-4ABD-8D8C-E2623886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638A6-EAC5-4371-ABF0-F0CB69AA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DB7F8-9F61-4450-B0EC-354B7165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F76F3-C5FB-4835-8F21-8D933B20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724D9-62DE-4084-8F7A-57D1521C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1052C-8442-4687-A1DE-203CBE8C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10CE8-BA5B-4F25-B094-95412CF7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9603D-F4CE-41DD-A79A-71E2F534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67B03-5244-4A86-8C1D-018DCB2A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1CBB3-D5C3-4420-8F7D-B501E25C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9931-7F6F-47B5-A71E-6D437288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0E970-5E50-474D-8FF1-5C551C09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B9E60-1AE3-490F-8B98-F53C0148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8B8C6-3531-4329-80D5-F31D79EC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259A4-5AD0-4B72-B063-4A657AB6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A494B-FD74-4736-A1D9-21586E12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7C7F7-4C37-40DD-9FA5-CE09D40A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3E730-67BC-473D-92FF-AA461619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11FD0-46F5-4A90-BFF0-C1400916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387E9-240A-4643-A803-9BAF67C3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4DA16-E9D3-4110-8E78-978CE571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75F2-5C9C-4857-B155-B534A120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6C601-0EA3-4C7B-9167-0C8A207E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AA10E-37F1-4A5A-92D2-A55D961C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63B88-DD21-4800-BE4B-3A60DA76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2C30C-6D3D-4D50-975A-F3A2DD47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E5173-7D7D-4FE5-B175-DA39441E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09D9F-3B5E-4562-BAFD-9BE0D90D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EF95E-9D8B-4763-8E8D-D8BE600D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5C583-BDDD-41CF-A67C-2839128C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D21E8-76D5-429C-BD0E-BBA92B18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6034F-D3B6-43E7-B7E2-26B0A0C8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E9E-F00D-4583-A6CE-8ACE5EA6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86ED0-9793-4604-807E-430DAC43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EB503-9E94-490F-9A30-0136A2AD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83366-C1CF-429A-BD29-E1AA9B99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44090-ECE4-452A-A85E-4573B914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355A2-19DB-497E-8B28-FCAA9D29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B0F5D-2DF0-447A-9B5B-E346442C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4E945-95B6-4E53-8BCF-FDD737EA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87E00-DF95-4551-90A7-8C2DFF3C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A4BA4-32CC-4D2B-8D01-1A271395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DCE4D-02E4-4A80-B596-DFD06E13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21EB-E18E-4B9D-80C0-5D81F3E6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7B11A-7AE3-431A-A631-E378F88E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A3449-316E-4679-B948-8A226655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B3F48-DC25-4AF9-A8E8-F92CED25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1D535-1CE0-477A-B636-AFAE8D2F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857CC-C104-49CD-A9DB-4944DD8B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74841-9507-4F6C-9319-911521DF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1377C-C56E-40D8-9C79-D139FC89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EDEBC-3A44-4638-9C5B-4DBD52D4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7C1F5-C8F9-4C5C-B24A-622F6DA2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92521-1D6F-4D21-AD8B-F3E9AB3A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40FA-5613-449F-9DE8-D4AAD4F2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2A2E1-E283-401A-A02F-85F2E320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62315-9131-4BAD-A615-BCDB6F36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D6B2E-FE78-40AD-AF4C-369D3A1B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23E16-E1C8-4ED5-BC71-838D5260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B4386-BA7A-4C0E-A509-9AF3521C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ABD40-69A4-484E-9D3A-B18E2494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AC074-9DA3-4C81-A1CF-E103123A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1240F-813E-4377-A454-6BFD93B8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6EFAE-B3D9-4E96-A62E-311B1D6B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7041B-ECEA-4C24-8F70-B8B18908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401-C1CB-407D-991E-BA5C4F5D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23E78-BE0F-4285-A52C-A29A5C45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1D718-A57B-412C-B66B-F527FFD7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A39E0-872A-4535-9204-1D1C47E1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CBFAF-C9AD-4672-8362-BABFC99F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AC9D5-4751-448E-8E24-6260C844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9BF3C-85FF-4AD3-AF27-2FA015BD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B3D66-C757-49A7-BC3D-1A38EDC4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036D9-4AE1-42CA-8DE4-BC1E988D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B54C7-C4E5-4CC6-A714-12B1A974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A92FB-7105-4DE2-9338-557EF1E9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141F-1AA0-4A49-892F-61B318168FE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E09D-74D9-45A3-BFCC-8F22D9C19D9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B0A8-F74F-47E4-A2BF-CDA06000F92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DDC6-8B7C-40C7-90A6-DE8B1C9E077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7B01-1A7D-4140-9D7A-D3B358C6263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097D-AA1A-4025-9210-999DCBBCC32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5689-DBD1-445B-A864-DF2985E6513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1F31-4AC6-4365-895E-CD23F11EA5C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FF3F-8E0D-4F49-A1CB-89B54952313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Орп бьназоеяк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уганлих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хулиган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Орп бьназоеяк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«Про обезьянку»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5" name="Picture 2" descr="http://diafilmy.su/uploads/posts/2014-03/1395092830_05.jpg"/>
          <p:cNvPicPr/>
          <p:nvPr/>
        </p:nvPicPr>
        <p:blipFill>
          <a:blip r:embed="rId1"/>
          <a:stretch/>
        </p:blipFill>
        <p:spPr>
          <a:xfrm>
            <a:off x="0" y="0"/>
            <a:ext cx="10429920" cy="78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ори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епанович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Житк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http://www.xxlbook.ru/imgh1062944.png"/>
          <p:cNvPicPr/>
          <p:nvPr/>
        </p:nvPicPr>
        <p:blipFill>
          <a:blip r:embed="rId1"/>
          <a:stretch/>
        </p:blipFill>
        <p:spPr>
          <a:xfrm>
            <a:off x="3228840" y="-285840"/>
            <a:ext cx="591516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алчмьки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алчмьки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мальчики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оаитврщ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оаитврщ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товарищ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уганлих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4T16:40:54Z</dcterms:created>
  <dc:creator>User</dc:creator>
  <dc:description/>
  <dc:language>en-US</dc:language>
  <cp:lastModifiedBy>User</cp:lastModifiedBy>
  <dcterms:modified xsi:type="dcterms:W3CDTF">2016-02-28T18:03:04Z</dcterms:modified>
  <cp:revision>8</cp:revision>
  <dc:subject/>
  <dc:title>Слайд 1</dc:title>
</cp:coreProperties>
</file>