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CDD-5C12-458E-A4FA-77860A15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AC8-59E8-4C03-B4D6-78AC95D6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FE9659-BD7A-4971-840A-FC03553C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2BFF58-3621-457F-BB3A-91AF1812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7D9FF-E27E-41AE-A421-B277207E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DD507-4E4E-4FAC-ABD3-F16393C6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58D75-209C-4D5A-B213-F1FF76CE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8CB5D-70FD-4D33-BE5C-7C3168A6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E2DBF-4EE9-4CC3-89B4-467D9327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98750-E47A-4319-9462-85E88F3E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59F76F-EF7F-4755-97E7-9E22F417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217-D3B3-44F9-A936-0A6106042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39B9-24D3-4DEB-90F0-B4BB2244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2389-47CA-4F39-80BD-04EF15BA0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42A7-CE18-4E11-9246-DAB3D5E7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BE2C-C18A-4A01-9EC1-901789E9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92E7-3108-4D0C-A445-6D7BEE33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291B-74A3-4FE2-A33B-09ED59E0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8E2B-53CF-4CBD-B206-CC349649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AED6-EAA9-4723-9316-552A5893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910-0DD3-425F-BB98-12E67809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B984-4A3A-465C-BB24-165A2077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BCAA-CDD2-43AD-B884-B5BFAEFE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4A4A-B443-4F4B-85FF-7E1C9CB0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8444-7055-4AAF-8051-01E9B10B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CAE9-E587-4A79-9ED5-813737D0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3D88-D669-4ACE-BECB-47FDC3E4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5D2A5-C5D8-401E-9A35-5A3A1F06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3D868-B7BF-49CD-86A5-911E5849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098B-149C-4607-BE83-75AD54C9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E105C-25B4-4502-B001-436D07C60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7996-1254-4124-A957-2139E7F8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AAFA-B911-49C1-B91D-48547AFF0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95532-9939-4CC7-BE17-8AE09F61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3701-8CF0-4845-911C-B7662530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6D123-FF6B-4BD1-9138-4A20C7D3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7A1B-905A-4ABE-8456-C65FD2B7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6A066-4222-43E9-9253-EEB66B80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9BCD-DC22-4D5C-96B5-159CF474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48F89-7B2F-4AD4-9167-C49E6B92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E2928-ADF1-4B44-A56E-FCC2E3DB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5A5FD-D702-4AEA-AA09-2711B3E1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AC6-051D-4DD8-87F2-EA113F381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E9CC9-66D7-4F9A-92A7-5356AD90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619CE-0E6A-408E-9FED-56A2ED73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60F9-9870-4267-B74A-7C743337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BA7B0-EC30-49F9-9A24-023C71FD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9A9CA-CEF9-48EA-B176-AD7CEF16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BDBBC-6EC0-4AD2-9B3F-0B69F749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B4CF-CB64-457C-9E85-F5ABFFC3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4DB58-2BFB-446C-A142-722A5837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D3784-D7F8-4135-89DE-3D4F86A2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251DD-A7EB-47D1-8C06-10329C419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CF3-7D78-4467-9239-AEDE1527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D3A9F-A3EA-4203-8B13-59734F5C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8CF05-8FD4-41B5-88BF-7AA6660A6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0A630-1013-4F2E-97D9-169FF664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B4A99-E0CA-4A14-8DD3-79FCEDF4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1AE50-BE33-4ED7-A0E5-FD36CF86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1FA4F-1AB6-4E04-BA87-90942A33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764C2-E6B5-4C25-A0A1-E3CC1628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F719A-C4F5-4C60-A10A-54A7B258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D0DE9-96F7-47C8-BFE4-F79E39DF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50FD1-EAE4-456D-A97E-E47AACF30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59CF-B301-48D5-B161-6AF3C83B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A3E72-B377-4C1C-AB9E-B9AF8D64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C1996-D600-447C-BA53-423F8AC9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72A81-B88E-47A0-86E6-559DA36A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16C43-2A90-4455-9D0A-932C84C4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1FE45-95B1-4595-841E-D447298D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56770-DF79-411A-9B60-6B0ADDD8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64033-D01F-4C17-8EDC-564EED91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9D5D6-5BAE-41F6-A7D7-8AD75C7A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7D8EF-30C3-40CB-B1EF-4CA85200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371C9-1F5A-4070-AC1D-BD81A538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B6B-6DF0-4527-8A95-B86E1286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18B6C-3EBD-424F-9163-C752420A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A03E0-2D2A-4854-B8DF-9F3C97E8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88E86-349A-4E7F-A0D9-FBD345B8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4A036-C6A8-4F3E-84F4-91D17BC4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50999-5750-4CF7-BE0E-C5CDA4BF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75950-BC4D-4471-B89F-3BCE1A89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8FAA5-D50A-40C3-9C4D-8E39D472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9A2CC-3ABA-40C6-B4D4-909C24FF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89927-6533-4F4C-882E-4216C70D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85DDD-F3C1-457A-9130-842D9F71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83E-3839-42FA-B88E-631E5BFC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D9DFB-2DB8-4EF5-A635-09F668D5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1C51A-C5AA-4D5D-88D8-31B0EADA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C77B8-AB18-477D-8FF5-DD28FC5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F1390-3C0A-4770-8B0D-A4E8B9B0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A8377-C099-4A92-BD9A-AC131EF7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B0244D-BC18-4FBA-A3B9-A4211787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33737-BEED-47C9-B085-E2D2D9CF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E91F8-FBED-4273-966B-F590648C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B1A3F-5325-415E-B45F-6FDC5D3BB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5C475-2FD4-45DC-9B58-8E4F3BCE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2D4-D157-4D0A-B928-DD16FAC0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4BAC4-6610-4D77-B5F0-85537963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6950A-5D7C-4EE2-9775-5F12B0EA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C2350-4EBF-497D-8988-AA44D98E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31707-8216-4A83-9D8F-305C9675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37B97-3B7D-4B0B-833C-E8073463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436CD-993A-449B-8657-E5C0EF5C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1AA62-74F5-4EBA-B803-ED67FE9A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52A76-637B-4406-BEAE-AE9F4B4A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15B51-1969-4397-81FE-7E081D85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3FE14-9476-4A71-BD12-837E8069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DC45-E78A-4B91-A107-869E4AA4008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CE45-2043-4308-9F57-74EBAC9D164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A6D0-CB88-457C-84FD-AB5E4BCBA5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90B2-CBF5-432D-9BFD-3C5B733A9B7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0D70-357C-423D-8D40-5874A294ABA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3B01-E941-4CCE-BFB9-F769C4905E0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90B1-DEB8-4C7F-AC7D-9623B2DE14E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1CC2-F514-4AC1-BAA0-EDEA7B5C8F0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60F1-EC9B-45CD-9F08-0D10B8B0E8B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Орп бьназоеяк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уганлих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хулиган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Орп бьназоеяк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«Про обезьянку»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43329"/>
              </a:solidFill>
              <a:latin typeface="Franklin Gothic Book"/>
            </a:endParaRPr>
          </a:p>
        </p:txBody>
      </p:sp>
      <p:pic>
        <p:nvPicPr>
          <p:cNvPr id="405" name="Picture 2" descr="http://diafilmy.su/uploads/posts/2014-03/1395092830_05.jpg"/>
          <p:cNvPicPr/>
          <p:nvPr/>
        </p:nvPicPr>
        <p:blipFill>
          <a:blip r:embed="rId1"/>
          <a:stretch/>
        </p:blipFill>
        <p:spPr>
          <a:xfrm>
            <a:off x="0" y="0"/>
            <a:ext cx="10429920" cy="78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орис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епанович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Житков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www.xxlbook.ru/imgh1062944.png"/>
          <p:cNvPicPr/>
          <p:nvPr/>
        </p:nvPicPr>
        <p:blipFill>
          <a:blip r:embed="rId1"/>
          <a:stretch/>
        </p:blipFill>
        <p:spPr>
          <a:xfrm>
            <a:off x="3228840" y="-285840"/>
            <a:ext cx="5915160" cy="762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алчмьки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алчмьки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мальчики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оаитврщ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оаитврщ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товарищ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4e3b30"/>
                </a:solidFill>
                <a:latin typeface="Franklin Gothic Book"/>
              </a:rPr>
              <a:t>уганлих</a:t>
            </a: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16:40:54Z</dcterms:created>
  <dc:creator>User</dc:creator>
  <dc:description/>
  <dc:language>en-US</dc:language>
  <cp:lastModifiedBy>User</cp:lastModifiedBy>
  <dcterms:modified xsi:type="dcterms:W3CDTF">2016-02-28T18:03:04Z</dcterms:modified>
  <cp:revision>8</cp:revision>
  <dc:subject/>
  <dc:title>Слайд 1</dc:title>
</cp:coreProperties>
</file>