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8.gif" ContentType="image/gif"/>
  <Override PartName="/ppt/media/image14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22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20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34F5-C555-4CFC-B337-F4DBE4C1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3AD-3BE9-434D-AE76-2503A357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E726-76CC-4F9A-90C2-44360378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8A8-4F57-4DA1-9BFB-1D91DD22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1793-DB3E-43F6-BA9E-D89F3150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2609-E3F8-4C60-BF17-32BDDA28D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59CE-7EDC-4E68-8103-006F9CA1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C9D9-9CAA-418A-8610-374D929C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735C-84B2-44E5-B86E-A30F3EB5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1307-3362-4A9F-9ACE-C915C66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46A8-F1D9-4D52-8AF9-D5C026A1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BCB-A009-45A8-91FE-F2D08CD85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4F4D-7471-471F-9504-CF1BF9B8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0921-1867-4798-97D9-35E7B2C2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EB43-CCD9-4976-963B-A12FCFDE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A307-2C5B-464D-A409-6DB62E1A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D53B-C324-4666-B74D-2BAA5D10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10B1-F9DC-4F79-BE99-2E9D31D6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032-B9EE-4ABB-9C9F-633CF0EF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AF09-0A3F-4B36-9B7D-AA25D10A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0DE-7E73-4C36-B91D-D53D1366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902-D843-4B78-BE49-08872257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EA5B-BDC7-4114-ACD0-C2437DC7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19F4-1EED-4843-B72A-36A36B95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18B0-254D-4AC6-A33F-1C26365C99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EC5B-ECCE-4622-9863-D4A10F6B340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436536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cc"/>
                </a:solidFill>
                <a:latin typeface="Monotype Corsiva"/>
              </a:rPr>
              <a:t>Самые необычные </a:t>
            </a:r>
            <a:br>
              <a:rPr sz="8000"/>
            </a:br>
            <a:r>
              <a:rPr b="1" lang="ru-RU" sz="8000" spc="-1" strike="noStrike">
                <a:solidFill>
                  <a:srgbClr val="0000cc"/>
                </a:solidFill>
                <a:latin typeface="Monotype Corsiva"/>
              </a:rPr>
              <a:t>и интересные профессии</a:t>
            </a:r>
            <a:br>
              <a:rPr sz="8000"/>
            </a:br>
            <a:r>
              <a:rPr b="1" lang="ru-RU" sz="8000" spc="-1" strike="noStrike">
                <a:solidFill>
                  <a:srgbClr val="0000cc"/>
                </a:solidFill>
                <a:latin typeface="Monotype Corsiva"/>
              </a:rPr>
              <a:t>мир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7" descr=""/>
          <p:cNvPicPr/>
          <p:nvPr/>
        </p:nvPicPr>
        <p:blipFill>
          <a:blip r:embed="rId1"/>
          <a:stretch/>
        </p:blipFill>
        <p:spPr>
          <a:xfrm>
            <a:off x="0" y="0"/>
            <a:ext cx="1104840" cy="148428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0" descr=""/>
          <p:cNvPicPr/>
          <p:nvPr/>
        </p:nvPicPr>
        <p:blipFill>
          <a:blip r:embed="rId2"/>
          <a:stretch/>
        </p:blipFill>
        <p:spPr>
          <a:xfrm>
            <a:off x="7885080" y="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73" descr=""/>
          <p:cNvPicPr/>
          <p:nvPr/>
        </p:nvPicPr>
        <p:blipFill>
          <a:blip r:embed="rId3"/>
          <a:stretch/>
        </p:blipFill>
        <p:spPr>
          <a:xfrm>
            <a:off x="0" y="2781360"/>
            <a:ext cx="1243080" cy="14684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6" descr=""/>
          <p:cNvPicPr/>
          <p:nvPr/>
        </p:nvPicPr>
        <p:blipFill>
          <a:blip r:embed="rId4"/>
          <a:stretch/>
        </p:blipFill>
        <p:spPr>
          <a:xfrm>
            <a:off x="3635280" y="0"/>
            <a:ext cx="1631880" cy="120348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7" descr=""/>
          <p:cNvPicPr/>
          <p:nvPr/>
        </p:nvPicPr>
        <p:blipFill>
          <a:blip r:embed="rId5"/>
          <a:stretch/>
        </p:blipFill>
        <p:spPr>
          <a:xfrm>
            <a:off x="7451640" y="5402160"/>
            <a:ext cx="1692360" cy="14558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3" descr=""/>
          <p:cNvPicPr/>
          <p:nvPr/>
        </p:nvPicPr>
        <p:blipFill>
          <a:blip r:embed="rId6"/>
          <a:stretch/>
        </p:blipFill>
        <p:spPr>
          <a:xfrm>
            <a:off x="7885080" y="2852640"/>
            <a:ext cx="1258920" cy="119376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1" descr=""/>
          <p:cNvPicPr/>
          <p:nvPr/>
        </p:nvPicPr>
        <p:blipFill>
          <a:blip r:embed="rId7"/>
          <a:stretch/>
        </p:blipFill>
        <p:spPr>
          <a:xfrm>
            <a:off x="0" y="5157720"/>
            <a:ext cx="1349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5"/>
          <p:cNvSpPr txBox="1"/>
          <p:nvPr/>
        </p:nvSpPr>
        <p:spPr>
          <a:xfrm>
            <a:off x="826920" y="260280"/>
            <a:ext cx="777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амая редкая на земле специальность –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переворачиватель пингвинов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2" name="Picture 6" descr="%D0%BF%D0%B8%D0%BD%D0%B3%D0%B2%D0%B8%D0%BD"/>
          <p:cNvPicPr/>
          <p:nvPr/>
        </p:nvPicPr>
        <p:blipFill>
          <a:blip r:embed="rId1"/>
          <a:stretch/>
        </p:blipFill>
        <p:spPr>
          <a:xfrm>
            <a:off x="1187280" y="2492280"/>
            <a:ext cx="6624720" cy="3902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 "/>
          <p:cNvPicPr/>
          <p:nvPr/>
        </p:nvPicPr>
        <p:blipFill>
          <a:blip r:embed="rId1"/>
          <a:stretch/>
        </p:blipFill>
        <p:spPr>
          <a:xfrm>
            <a:off x="1386000" y="2060640"/>
            <a:ext cx="6372000" cy="4255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5"/>
          <p:cNvSpPr txBox="1"/>
          <p:nvPr/>
        </p:nvSpPr>
        <p:spPr>
          <a:xfrm>
            <a:off x="1258920" y="47628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Ловец крабов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6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 "/>
          <p:cNvPicPr/>
          <p:nvPr/>
        </p:nvPicPr>
        <p:blipFill>
          <a:blip r:embed="rId1"/>
          <a:stretch/>
        </p:blipFill>
        <p:spPr>
          <a:xfrm>
            <a:off x="1332000" y="1700280"/>
            <a:ext cx="6767280" cy="45162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5"/>
          <p:cNvSpPr txBox="1"/>
          <p:nvPr/>
        </p:nvSpPr>
        <p:spPr>
          <a:xfrm>
            <a:off x="1258920" y="476280"/>
            <a:ext cx="66261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Лётчик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амолёта-опылителя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9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 "/>
          <p:cNvPicPr/>
          <p:nvPr/>
        </p:nvPicPr>
        <p:blipFill>
          <a:blip r:embed="rId1"/>
          <a:stretch/>
        </p:blipFill>
        <p:spPr>
          <a:xfrm>
            <a:off x="1979640" y="1916280"/>
            <a:ext cx="5580000" cy="4184640"/>
          </a:xfrm>
          <a:prstGeom prst="rect">
            <a:avLst/>
          </a:prstGeom>
          <a:ln w="0">
            <a:noFill/>
          </a:ln>
        </p:spPr>
      </p:pic>
      <p:sp>
        <p:nvSpPr>
          <p:cNvPr id="151" name="WordArt 5"/>
          <p:cNvSpPr txBox="1"/>
          <p:nvPr/>
        </p:nvSpPr>
        <p:spPr>
          <a:xfrm>
            <a:off x="2124000" y="907920"/>
            <a:ext cx="5184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усорщик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52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 "/>
          <p:cNvPicPr/>
          <p:nvPr/>
        </p:nvPicPr>
        <p:blipFill>
          <a:blip r:embed="rId1"/>
          <a:stretch/>
        </p:blipFill>
        <p:spPr>
          <a:xfrm>
            <a:off x="1979640" y="1989000"/>
            <a:ext cx="4952880" cy="43722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>
            <a:off x="1476360" y="90792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портивный агент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55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 "/>
          <p:cNvPicPr/>
          <p:nvPr/>
        </p:nvPicPr>
        <p:blipFill>
          <a:blip r:embed="rId1"/>
          <a:stretch/>
        </p:blipFill>
        <p:spPr>
          <a:xfrm>
            <a:off x="1835280" y="2421000"/>
            <a:ext cx="5398920" cy="40496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5"/>
          <p:cNvSpPr txBox="1"/>
          <p:nvPr/>
        </p:nvSpPr>
        <p:spPr>
          <a:xfrm>
            <a:off x="1476360" y="90792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ыгульщик собак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58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2124000" y="692280"/>
            <a:ext cx="54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Гондольер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0" name="WordArt 6"/>
          <p:cNvSpPr txBox="1"/>
          <p:nvPr/>
        </p:nvSpPr>
        <p:spPr>
          <a:xfrm>
            <a:off x="6877080" y="6453360"/>
            <a:ext cx="22669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енеция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61" name="Picture 7" descr="av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3" descr=""/>
          <p:cNvPicPr/>
          <p:nvPr/>
        </p:nvPicPr>
        <p:blipFill>
          <a:blip r:embed="rId2"/>
          <a:stretch/>
        </p:blipFill>
        <p:spPr>
          <a:xfrm>
            <a:off x="2124000" y="4149720"/>
            <a:ext cx="2087640" cy="156852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" descr=""/>
          <p:cNvPicPr/>
          <p:nvPr/>
        </p:nvPicPr>
        <p:blipFill>
          <a:blip r:embed="rId3"/>
          <a:stretch/>
        </p:blipFill>
        <p:spPr>
          <a:xfrm>
            <a:off x="4427640" y="2133720"/>
            <a:ext cx="2232000" cy="19634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" descr=""/>
          <p:cNvPicPr/>
          <p:nvPr/>
        </p:nvPicPr>
        <p:blipFill>
          <a:blip r:embed="rId4"/>
          <a:stretch/>
        </p:blipFill>
        <p:spPr>
          <a:xfrm>
            <a:off x="2179800" y="1413000"/>
            <a:ext cx="1699920" cy="22748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4"/>
          <p:cNvSpPr txBox="1"/>
          <p:nvPr/>
        </p:nvSpPr>
        <p:spPr>
          <a:xfrm>
            <a:off x="1042920" y="5877000"/>
            <a:ext cx="705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И многое, многое другое!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596160"/>
            <a:ext cx="9036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телефонный экстрасенс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специалист по украшению новогодней елки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ловец черных медвед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отгонщики обез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кокосовые смотрит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«шоперы», которые покупают одежду для чрезмерно занятых VIP-клиентов и клиен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6"/>
          <p:cNvSpPr txBox="1"/>
          <p:nvPr/>
        </p:nvSpPr>
        <p:spPr>
          <a:xfrm>
            <a:off x="395280" y="4437000"/>
            <a:ext cx="237636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а в Москве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8" name="WordArt 7"/>
          <p:cNvSpPr txBox="1"/>
          <p:nvPr/>
        </p:nvSpPr>
        <p:spPr>
          <a:xfrm>
            <a:off x="250920" y="3284640"/>
            <a:ext cx="47527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на Виргинских островах 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69" name="WordArt 8"/>
          <p:cNvSpPr txBox="1"/>
          <p:nvPr/>
        </p:nvSpPr>
        <p:spPr>
          <a:xfrm>
            <a:off x="250920" y="1916280"/>
            <a:ext cx="216036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 Индии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70" name="WordArt 9"/>
          <p:cNvSpPr txBox="1"/>
          <p:nvPr/>
        </p:nvSpPr>
        <p:spPr>
          <a:xfrm>
            <a:off x="395280" y="189000"/>
            <a:ext cx="122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в США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71" name="Picture 10" descr="Eye4"/>
          <p:cNvPicPr/>
          <p:nvPr/>
        </p:nvPicPr>
        <p:blipFill>
          <a:blip r:embed="rId1"/>
          <a:stretch/>
        </p:blipFill>
        <p:spPr>
          <a:xfrm>
            <a:off x="8317080" y="6093000"/>
            <a:ext cx="533160" cy="333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1825592"/>
          <p:cNvPicPr/>
          <p:nvPr/>
        </p:nvPicPr>
        <p:blipFill>
          <a:blip r:embed="rId1"/>
          <a:stretch/>
        </p:blipFill>
        <p:spPr>
          <a:xfrm>
            <a:off x="7180200" y="4581360"/>
            <a:ext cx="1963800" cy="22766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1821060"/>
          <p:cNvPicPr/>
          <p:nvPr/>
        </p:nvPicPr>
        <p:blipFill>
          <a:blip r:embed="rId2"/>
          <a:stretch/>
        </p:blipFill>
        <p:spPr>
          <a:xfrm>
            <a:off x="0" y="4084560"/>
            <a:ext cx="3132000" cy="2773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3284280"/>
            <a:ext cx="8362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200" spc="-1" strike="noStrike">
                <a:solidFill>
                  <a:srgbClr val="0000cc"/>
                </a:solidFill>
                <a:latin typeface="Monotype Corsiva"/>
              </a:rPr>
              <a:t>Пять профессий, </a:t>
            </a:r>
            <a:br>
              <a:rPr sz="6200"/>
            </a:br>
            <a:r>
              <a:rPr b="1" lang="ru-RU" sz="6200" spc="-1" strike="noStrike">
                <a:solidFill>
                  <a:srgbClr val="0000cc"/>
                </a:solidFill>
                <a:latin typeface="Monotype Corsiva"/>
              </a:rPr>
              <a:t>которые вытеснит </a:t>
            </a:r>
            <a:r>
              <a:rPr b="1" lang="ru-RU" sz="8200" spc="-1" strike="noStrike">
                <a:solidFill>
                  <a:srgbClr val="0000cc"/>
                </a:solidFill>
                <a:latin typeface="Monotype Corsiva"/>
              </a:rPr>
              <a:t>компьютер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man Old Style"/>
              </a:rPr>
              <a:t>Представителей некоторых профессий в скором будущем могут полностью заменить маш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Почтальон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Одна из вымирающих профессий в современном мире — это почтальон. Сейчас, когда есть возможность отправить письмо по электронной почте, необходимость в бумажных посланиях, а заодно и в тех, кто их разносит, практически отпала. Все меньше становится и тех, кто выписывает газеты и журналы, поэтому доставка прессы популярностью не пользу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Bookman Old Style"/>
              </a:rPr>
              <a:t>В России почтальоны также разносят и пенсии. Но нетрудно догадаться, что и эта функция отпадет, когда российские пенсионеры, подобно западным, будут получать переводы на банковские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5076720" y="4508640"/>
            <a:ext cx="153036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1"/>
          <p:cNvGrpSpPr/>
          <p:nvPr/>
        </p:nvGrpSpPr>
        <p:grpSpPr>
          <a:xfrm>
            <a:off x="1619280" y="2276640"/>
            <a:ext cx="4247640" cy="3310920"/>
            <a:chOff x="1619280" y="2276640"/>
            <a:chExt cx="4247640" cy="3310920"/>
          </a:xfrm>
        </p:grpSpPr>
        <p:grpSp>
          <p:nvGrpSpPr>
            <p:cNvPr id="104" name="Group 18"/>
            <p:cNvGrpSpPr/>
            <p:nvPr/>
          </p:nvGrpSpPr>
          <p:grpSpPr>
            <a:xfrm>
              <a:off x="1619280" y="2276640"/>
              <a:ext cx="2231640" cy="2232000"/>
              <a:chOff x="1619280" y="2276640"/>
              <a:chExt cx="2231640" cy="2232000"/>
            </a:xfrm>
          </p:grpSpPr>
          <p:sp>
            <p:nvSpPr>
              <p:cNvPr id="105" name="Oval 5"/>
              <p:cNvSpPr/>
              <p:nvPr/>
            </p:nvSpPr>
            <p:spPr>
              <a:xfrm>
                <a:off x="1619280" y="2276640"/>
                <a:ext cx="2231640" cy="2232000"/>
              </a:xfrm>
              <a:prstGeom prst="ellipse">
                <a:avLst/>
              </a:prstGeom>
              <a:noFill/>
              <a:ln w="76320">
                <a:solidFill>
                  <a:srgbClr val="99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WordArt 8"/>
              <p:cNvSpPr txBox="1"/>
              <p:nvPr/>
            </p:nvSpPr>
            <p:spPr>
              <a:xfrm>
                <a:off x="2052360" y="2636640"/>
                <a:ext cx="1296720" cy="86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5560">
                      <a:solidFill>
                        <a:srgbClr val="0000ff"/>
                      </a:solidFill>
                      <a:miter/>
                    </a:ln>
                    <a:solidFill>
                      <a:srgbClr val="9933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хочу</a:t>
                </a:r>
                <a:endParaRPr b="0" lang="en-US" sz="1800" spc="1" strike="noStrike">
                  <a:ln w="25560">
                    <a:solidFill>
                      <a:srgbClr val="0000ff"/>
                    </a:solidFill>
                    <a:miter/>
                  </a:ln>
                  <a:solidFill>
                    <a:srgbClr val="9933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07" name="Group 20"/>
            <p:cNvGrpSpPr/>
            <p:nvPr/>
          </p:nvGrpSpPr>
          <p:grpSpPr>
            <a:xfrm>
              <a:off x="3635280" y="2276640"/>
              <a:ext cx="2231640" cy="2232000"/>
              <a:chOff x="3635280" y="2276640"/>
              <a:chExt cx="2231640" cy="2232000"/>
            </a:xfrm>
          </p:grpSpPr>
          <p:sp>
            <p:nvSpPr>
              <p:cNvPr id="108" name="Oval 11"/>
              <p:cNvSpPr/>
              <p:nvPr/>
            </p:nvSpPr>
            <p:spPr>
              <a:xfrm>
                <a:off x="3635280" y="2276640"/>
                <a:ext cx="2231640" cy="2232000"/>
              </a:xfrm>
              <a:prstGeom prst="ellipse">
                <a:avLst/>
              </a:prstGeom>
              <a:noFill/>
              <a:ln w="7632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WordArt 12"/>
              <p:cNvSpPr txBox="1"/>
              <p:nvPr/>
            </p:nvSpPr>
            <p:spPr>
              <a:xfrm>
                <a:off x="4139640" y="2636640"/>
                <a:ext cx="1296720" cy="86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5560">
                      <a:solidFill>
                        <a:srgbClr val="0000ff"/>
                      </a:solidFill>
                      <a:miter/>
                    </a:ln>
                    <a:solidFill>
                      <a:srgbClr val="6767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могу</a:t>
                </a:r>
                <a:endParaRPr b="0" lang="en-US" sz="1800" spc="1" strike="noStrike">
                  <a:ln w="25560">
                    <a:solidFill>
                      <a:srgbClr val="0000ff"/>
                    </a:solidFill>
                    <a:miter/>
                  </a:ln>
                  <a:solidFill>
                    <a:srgbClr val="6767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grpSp>
          <p:nvGrpSpPr>
            <p:cNvPr id="110" name="Group 19"/>
            <p:cNvGrpSpPr/>
            <p:nvPr/>
          </p:nvGrpSpPr>
          <p:grpSpPr>
            <a:xfrm>
              <a:off x="2700000" y="3355920"/>
              <a:ext cx="2231640" cy="2231640"/>
              <a:chOff x="2700000" y="3355920"/>
              <a:chExt cx="2231640" cy="2231640"/>
            </a:xfrm>
          </p:grpSpPr>
          <p:sp>
            <p:nvSpPr>
              <p:cNvPr id="111" name="Oval 14"/>
              <p:cNvSpPr/>
              <p:nvPr/>
            </p:nvSpPr>
            <p:spPr>
              <a:xfrm>
                <a:off x="2700000" y="3355920"/>
                <a:ext cx="2231640" cy="2231640"/>
              </a:xfrm>
              <a:prstGeom prst="ellipse">
                <a:avLst/>
              </a:prstGeom>
              <a:noFill/>
              <a:ln w="7632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WordArt 15"/>
              <p:cNvSpPr txBox="1"/>
              <p:nvPr/>
            </p:nvSpPr>
            <p:spPr>
              <a:xfrm>
                <a:off x="3202920" y="4508280"/>
                <a:ext cx="1296720" cy="862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25560">
                      <a:solidFill>
                        <a:srgbClr val="0000ff"/>
                      </a:solidFill>
                      <a:miter/>
                    </a:ln>
                    <a:solidFill>
                      <a:srgbClr val="ff00ff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Impact"/>
                  </a:rPr>
                  <a:t>надо</a:t>
                </a:r>
                <a:endParaRPr b="0" lang="en-US" sz="1800" spc="1" strike="noStrike">
                  <a:ln w="25560">
                    <a:solidFill>
                      <a:srgbClr val="0000ff"/>
                    </a:solidFill>
                    <a:miter/>
                  </a:ln>
                  <a:solidFill>
                    <a:srgbClr val="ff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13" name="Rectangle 22"/>
          <p:cNvSpPr/>
          <p:nvPr/>
        </p:nvSpPr>
        <p:spPr>
          <a:xfrm>
            <a:off x="-495000" y="-1080"/>
            <a:ext cx="1035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Monotype Corsiva"/>
              </a:rPr>
              <a:t>Правила выбора профе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0" y="105084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Будущая рабо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должна быть в радос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 не в тяг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-468360" y="5227560"/>
            <a:ext cx="489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фессия должна пользоваться спрос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на рынке тру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5651640" y="1803960"/>
            <a:ext cx="34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ы должны обладать наб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профессиона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важных для этой работы  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7578720" y="4508640"/>
            <a:ext cx="1565280" cy="234936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Туристический агент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Несмотря на наплыв абитуриентов в туристические вузы страны, профессия туроператора в скором времени может превратиться в атавиз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ыпускники факультетов туризма рискуют остаться без перспектив к трудоустройству. Дело в том, что надобность в турагентах отпадает по той простой причине, что отдых стало проще организовывать через интернет, без посредников. Уже сейчас можно забронировать номер на сайте гостиницы, не прибегая к услугам туристических агент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ножество отпускников предпочитают также покупать билеты на самолет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нтер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2"/>
          <a:stretch/>
        </p:blipFill>
        <p:spPr>
          <a:xfrm>
            <a:off x="3419640" y="4869000"/>
            <a:ext cx="1873080" cy="18730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58560" y="69192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cc"/>
                </a:solidFill>
                <a:latin typeface="Monotype Corsiva"/>
              </a:rPr>
              <a:t>Типографский работник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скором времени типографские работники если и не исчезнут полностью, то их ряды значительно поредеют. В первую очередь пострадают полиграфические работники и печатники. Связано это с тем, что все больше людей предпочитают книги в электронном формате. Нет необходимости тратиться на дорогостоящие печатные издания и складывать дома многочисленные то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од угрозой вымирания также находятся и корректоры. Платить человеку за поиск ошибок в текстах становится все менее выгодным, поскольку сейчас этим могут заниматься программы-спеллеры. Единственное, что удерживает профессию на плаву, — это несовершенство подобных програм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6804000" y="5292720"/>
            <a:ext cx="2340000" cy="1565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0" y="5572080"/>
            <a:ext cx="176364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Продавец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же сейчас столь распространенная ранее профессия продавца считается исчезающей в Европе и Америке. Связано это в первую очередь с ростом популярности интернет-магаз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России отрасль интернет-торговли пока развита значительно слабее, однако аналитики пророчат сетевым «магазинам на диване» большое будущее. А значит, многим работникам торговли в скором будущем придется переквалифициров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3276720" y="4581360"/>
            <a:ext cx="2514600" cy="19116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7164360" y="4932360"/>
            <a:ext cx="1979640" cy="19256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cc"/>
                </a:solidFill>
                <a:latin typeface="Monotype Corsiva"/>
              </a:rPr>
              <a:t>Чертежник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сли раньше построением планов, графиков, схем, таблиц и чертежей занимались целые отделы, то сегодня с этой работой успешно справляются многочисленные компьютерные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Архитекторы, инженеры и дизайнеры теперь могут делать все необходимые расчеты с помощью компьютера. Необходимость рисовать линии карандашом на ватмане также отпала — теперь все линии нарисует профессиональная програм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1042920" y="-1931400"/>
            <a:ext cx="7688160" cy="10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Великая радость – работа,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В полях, за станком, за столом!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Работай до жаркого пота,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Работай без лишнего счета,-</a:t>
            </a:r>
            <a:br>
              <a:rPr sz="4800"/>
            </a:b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Все счастье земли – за трудом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r>
              <a:rPr b="0" i="1" lang="ru-RU" sz="4800" spc="-1" strike="noStrike">
                <a:solidFill>
                  <a:srgbClr val="000000"/>
                </a:solidFill>
                <a:latin typeface="Monotype Corsiva"/>
              </a:rPr>
              <a:t>В.Я. Брюс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64" descr=""/>
          <p:cNvPicPr/>
          <p:nvPr/>
        </p:nvPicPr>
        <p:blipFill>
          <a:blip r:embed="rId1"/>
          <a:stretch/>
        </p:blipFill>
        <p:spPr>
          <a:xfrm>
            <a:off x="0" y="3645000"/>
            <a:ext cx="1076400" cy="142848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79" descr=""/>
          <p:cNvPicPr/>
          <p:nvPr/>
        </p:nvPicPr>
        <p:blipFill>
          <a:blip r:embed="rId2"/>
          <a:stretch/>
        </p:blipFill>
        <p:spPr>
          <a:xfrm>
            <a:off x="0" y="54291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0" descr=""/>
          <p:cNvPicPr/>
          <p:nvPr/>
        </p:nvPicPr>
        <p:blipFill>
          <a:blip r:embed="rId3"/>
          <a:stretch/>
        </p:blipFill>
        <p:spPr>
          <a:xfrm>
            <a:off x="0" y="184464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89" descr=""/>
          <p:cNvPicPr/>
          <p:nvPr/>
        </p:nvPicPr>
        <p:blipFill>
          <a:blip r:embed="rId4"/>
          <a:stretch/>
        </p:blipFill>
        <p:spPr>
          <a:xfrm>
            <a:off x="0" y="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49" descr=""/>
          <p:cNvPicPr/>
          <p:nvPr/>
        </p:nvPicPr>
        <p:blipFill>
          <a:blip r:embed="rId5"/>
          <a:stretch/>
        </p:blipFill>
        <p:spPr>
          <a:xfrm>
            <a:off x="8077320" y="2565360"/>
            <a:ext cx="1066680" cy="14288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8" descr=""/>
          <p:cNvPicPr/>
          <p:nvPr/>
        </p:nvPicPr>
        <p:blipFill>
          <a:blip r:embed="rId6"/>
          <a:stretch/>
        </p:blipFill>
        <p:spPr>
          <a:xfrm>
            <a:off x="8058240" y="5429160"/>
            <a:ext cx="1085760" cy="142884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16" descr=""/>
          <p:cNvPicPr/>
          <p:nvPr/>
        </p:nvPicPr>
        <p:blipFill>
          <a:blip r:embed="rId7"/>
          <a:stretch/>
        </p:blipFill>
        <p:spPr>
          <a:xfrm>
            <a:off x="4067280" y="5495760"/>
            <a:ext cx="1009440" cy="13622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5" descr=""/>
          <p:cNvPicPr/>
          <p:nvPr/>
        </p:nvPicPr>
        <p:blipFill>
          <a:blip r:embed="rId8"/>
          <a:stretch/>
        </p:blipFill>
        <p:spPr>
          <a:xfrm>
            <a:off x="1908000" y="5429160"/>
            <a:ext cx="1133640" cy="142884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4"/>
          <p:cNvSpPr/>
          <p:nvPr/>
        </p:nvSpPr>
        <p:spPr>
          <a:xfrm>
            <a:off x="7848720" y="0"/>
            <a:ext cx="1295280" cy="865080"/>
          </a:xfrm>
          <a:custGeom>
            <a:avLst/>
            <a:gdLst>
              <a:gd name="textAreaLeft" fmla="*/ 55800 w 1295280"/>
              <a:gd name="textAreaRight" fmla="*/ 1239480 w 129528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2337" h="21600">
                <a:moveTo>
                  <a:pt x="0" y="0"/>
                </a:moveTo>
                <a:lnTo>
                  <a:pt x="32337" y="0"/>
                </a:lnTo>
                <a:lnTo>
                  <a:pt x="32337" y="21600"/>
                </a:lnTo>
                <a:lnTo>
                  <a:pt x="0" y="21600"/>
                </a:lnTo>
                <a:close/>
              </a:path>
              <a:path fill="lightenLess" w="32337" h="21600">
                <a:moveTo>
                  <a:pt x="0" y="0"/>
                </a:moveTo>
                <a:lnTo>
                  <a:pt x="32337" y="0"/>
                </a:lnTo>
                <a:lnTo>
                  <a:pt x="30937" y="1400"/>
                </a:lnTo>
                <a:lnTo>
                  <a:pt x="1400" y="1400"/>
                </a:lnTo>
                <a:close/>
              </a:path>
              <a:path fill="darken" w="32337" h="21600">
                <a:moveTo>
                  <a:pt x="32337" y="0"/>
                </a:moveTo>
                <a:lnTo>
                  <a:pt x="32337" y="21600"/>
                </a:lnTo>
                <a:lnTo>
                  <a:pt x="30937" y="20200"/>
                </a:lnTo>
                <a:lnTo>
                  <a:pt x="30937" y="1400"/>
                </a:lnTo>
                <a:close/>
              </a:path>
              <a:path fill="darkenLess" w="32337" h="21600">
                <a:moveTo>
                  <a:pt x="323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37" y="20200"/>
                </a:lnTo>
                <a:close/>
              </a:path>
              <a:path fill="lighten" w="323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37" h="21600">
                <a:moveTo>
                  <a:pt x="9162" y="7301"/>
                </a:moveTo>
                <a:lnTo>
                  <a:pt x="10076" y="7301"/>
                </a:lnTo>
                <a:lnTo>
                  <a:pt x="10459" y="7667"/>
                </a:lnTo>
                <a:lnTo>
                  <a:pt x="19667" y="7667"/>
                </a:lnTo>
                <a:lnTo>
                  <a:pt x="20224" y="8224"/>
                </a:lnTo>
                <a:lnTo>
                  <a:pt x="20224" y="8772"/>
                </a:lnTo>
                <a:lnTo>
                  <a:pt x="22070" y="8772"/>
                </a:lnTo>
                <a:lnTo>
                  <a:pt x="22435" y="8224"/>
                </a:lnTo>
                <a:lnTo>
                  <a:pt x="23175" y="8224"/>
                </a:lnTo>
                <a:lnTo>
                  <a:pt x="23175" y="13376"/>
                </a:lnTo>
                <a:lnTo>
                  <a:pt x="22435" y="13376"/>
                </a:lnTo>
                <a:lnTo>
                  <a:pt x="22070" y="12828"/>
                </a:lnTo>
                <a:lnTo>
                  <a:pt x="20224" y="12828"/>
                </a:lnTo>
                <a:lnTo>
                  <a:pt x="20224" y="14107"/>
                </a:lnTo>
                <a:lnTo>
                  <a:pt x="10642" y="14107"/>
                </a:lnTo>
                <a:lnTo>
                  <a:pt x="10642" y="9877"/>
                </a:lnTo>
                <a:lnTo>
                  <a:pt x="10459" y="9877"/>
                </a:lnTo>
                <a:lnTo>
                  <a:pt x="10076" y="10243"/>
                </a:lnTo>
                <a:lnTo>
                  <a:pt x="9162" y="10243"/>
                </a:lnTo>
                <a:close/>
              </a:path>
            </a:pathLst>
          </a:custGeom>
          <a:solidFill>
            <a:srgbClr val="00ccff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Необычные профессии"/>
          <p:cNvPicPr/>
          <p:nvPr/>
        </p:nvPicPr>
        <p:blipFill>
          <a:blip r:embed="rId1"/>
          <a:stretch/>
        </p:blipFill>
        <p:spPr>
          <a:xfrm>
            <a:off x="684360" y="836640"/>
            <a:ext cx="7632720" cy="574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826920" y="260280"/>
            <a:ext cx="777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Родео клоун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spd="slow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5"/>
          <p:cNvSpPr txBox="1"/>
          <p:nvPr/>
        </p:nvSpPr>
        <p:spPr>
          <a:xfrm>
            <a:off x="826920" y="260280"/>
            <a:ext cx="777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оздатель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неоновых вывесок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21" name="Picture 6" descr="av9"/>
          <p:cNvPicPr/>
          <p:nvPr/>
        </p:nvPicPr>
        <p:blipFill>
          <a:blip r:embed="rId1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2735280" cy="2055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3"/>
          <a:stretch/>
        </p:blipFill>
        <p:spPr>
          <a:xfrm>
            <a:off x="5003640" y="1844640"/>
            <a:ext cx="2794320" cy="2095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4"/>
          <a:stretch/>
        </p:blipFill>
        <p:spPr>
          <a:xfrm>
            <a:off x="5003640" y="422100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5"/>
          <a:stretch/>
        </p:blipFill>
        <p:spPr>
          <a:xfrm>
            <a:off x="1332000" y="4221000"/>
            <a:ext cx="2950920" cy="1890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3" descr="Необычные профессии"/>
          <p:cNvPicPr/>
          <p:nvPr/>
        </p:nvPicPr>
        <p:blipFill>
          <a:blip r:embed="rId1"/>
          <a:stretch/>
        </p:blipFill>
        <p:spPr>
          <a:xfrm>
            <a:off x="1258920" y="1901880"/>
            <a:ext cx="6408720" cy="4730760"/>
          </a:xfrm>
          <a:prstGeom prst="rect">
            <a:avLst/>
          </a:prstGeom>
          <a:ln w="0">
            <a:noFill/>
          </a:ln>
        </p:spPr>
      </p:pic>
      <p:sp>
        <p:nvSpPr>
          <p:cNvPr id="127" name="WordArt 5"/>
          <p:cNvSpPr txBox="1"/>
          <p:nvPr/>
        </p:nvSpPr>
        <p:spPr>
          <a:xfrm>
            <a:off x="826920" y="260280"/>
            <a:ext cx="777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Чистильщик акриловых панелей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ыставочного аквариума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28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5" descr="Необычные профессии"/>
          <p:cNvPicPr/>
          <p:nvPr/>
        </p:nvPicPr>
        <p:blipFill>
          <a:blip r:embed="rId1"/>
          <a:stretch/>
        </p:blipFill>
        <p:spPr>
          <a:xfrm>
            <a:off x="1187280" y="1628640"/>
            <a:ext cx="6624720" cy="442116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826920" y="260280"/>
            <a:ext cx="77774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мотритель слонов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 зоопарке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1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4" descr="Необычные профессии"/>
          <p:cNvPicPr/>
          <p:nvPr/>
        </p:nvPicPr>
        <p:blipFill>
          <a:blip r:embed="rId1"/>
          <a:stretch/>
        </p:blipFill>
        <p:spPr>
          <a:xfrm>
            <a:off x="1692360" y="2637000"/>
            <a:ext cx="5976720" cy="3956040"/>
          </a:xfrm>
          <a:prstGeom prst="rect">
            <a:avLst/>
          </a:prstGeom>
          <a:ln w="0">
            <a:noFill/>
          </a:ln>
        </p:spPr>
      </p:pic>
      <p:sp>
        <p:nvSpPr>
          <p:cNvPr id="133" name="WordArt 5"/>
          <p:cNvSpPr txBox="1"/>
          <p:nvPr/>
        </p:nvSpPr>
        <p:spPr>
          <a:xfrm>
            <a:off x="2195640" y="765000"/>
            <a:ext cx="5329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едущий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лотереи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4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8" descr="Необычные профессии"/>
          <p:cNvPicPr/>
          <p:nvPr/>
        </p:nvPicPr>
        <p:blipFill>
          <a:blip r:embed="rId1"/>
          <a:stretch/>
        </p:blipFill>
        <p:spPr>
          <a:xfrm>
            <a:off x="1476360" y="2133720"/>
            <a:ext cx="6192720" cy="4108320"/>
          </a:xfrm>
          <a:prstGeom prst="rect">
            <a:avLst/>
          </a:prstGeom>
          <a:ln w="0">
            <a:noFill/>
          </a:ln>
        </p:spPr>
      </p:pic>
      <p:sp>
        <p:nvSpPr>
          <p:cNvPr id="136" name="WordArt 5"/>
          <p:cNvSpPr txBox="1"/>
          <p:nvPr/>
        </p:nvSpPr>
        <p:spPr>
          <a:xfrm>
            <a:off x="826920" y="260280"/>
            <a:ext cx="777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Модель,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позирующая для художников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37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9" descr="Необычные профессии"/>
          <p:cNvPicPr/>
          <p:nvPr/>
        </p:nvPicPr>
        <p:blipFill>
          <a:blip r:embed="rId1"/>
          <a:stretch/>
        </p:blipFill>
        <p:spPr>
          <a:xfrm>
            <a:off x="971640" y="1989000"/>
            <a:ext cx="7451640" cy="436248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826920" y="260280"/>
            <a:ext cx="7777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Смотритель экспонатов 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Bookman Old Style"/>
              </a:rPr>
              <a:t>в музее естествознания</a:t>
            </a:r>
            <a:endParaRPr b="0" i="1" lang="en-US" sz="1800" spc="1" strike="noStrike">
              <a:ln w="28440">
                <a:solidFill>
                  <a:srgbClr val="0000ff"/>
                </a:solidFill>
                <a:miter/>
              </a:ln>
              <a:solidFill>
                <a:srgbClr val="3333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140" name="Picture 6" descr="av9"/>
          <p:cNvPicPr/>
          <p:nvPr/>
        </p:nvPicPr>
        <p:blipFill>
          <a:blip r:embed="rId2"/>
          <a:stretch/>
        </p:blipFill>
        <p:spPr>
          <a:xfrm>
            <a:off x="0" y="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1:47:12Z</dcterms:created>
  <dc:creator>Teacher_pc_15</dc:creator>
  <dc:description/>
  <dc:language>en-US</dc:language>
  <cp:lastModifiedBy>SONY</cp:lastModifiedBy>
  <dcterms:modified xsi:type="dcterms:W3CDTF">2016-02-05T13:30:39Z</dcterms:modified>
  <cp:revision>18</cp:revision>
  <dc:subject/>
  <dc:title>Необычные  и интересные профессии</dc:title>
</cp:coreProperties>
</file>