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20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FBF-8E30-420A-815A-9CD9AB4E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FB2-D8BA-43DD-A223-7F1C48F7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095-8630-4A35-ACE6-3336EC44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455-682B-4AC5-9DB4-520B9F35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7E3-6ACE-452F-9454-3096E83C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26F9-2723-4709-A047-E22AB786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84A0-F886-4733-993C-C2700F4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F809-3624-4E96-8F35-B03D993F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F04B-3A08-46D1-829C-137F4009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3B91-A057-465E-9D17-8CB970B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5DE6-82A4-4F72-9007-D5743C6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912-6657-40AA-8BBE-5B63EBB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9941-D031-4695-BE9E-4B74754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75BC-2AA0-4195-A72B-EC71988A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AA8-F06E-4B81-A2AC-463CEEC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FDA-8310-43BA-BE1A-7AEDD3F8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816E-20B7-4C76-AC13-A7142877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8D9-851F-44C8-B465-2431A666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645-A71F-4F6D-BEB0-CAC11998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4D3-F3DD-4886-92C1-F71F007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5CD-371B-4439-98F2-B458EFC2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ACD-8323-4839-AE7F-46A6C9A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5AC-3CC4-4C97-8B85-57466F2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088-3269-4ED5-895E-F46EA87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2C1-8C83-4AF3-9CEA-133F0178B5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4AF9-E493-4BA4-8D9F-B96E1450A0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43653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Самые необычные </a:t>
            </a:r>
            <a:br>
              <a:rPr sz="8000"/>
            </a:b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и интересные профессии</a:t>
            </a:r>
            <a:br>
              <a:rPr sz="8000"/>
            </a:b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ми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7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0" descr="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3" descr=""/>
          <p:cNvPicPr/>
          <p:nvPr/>
        </p:nvPicPr>
        <p:blipFill>
          <a:blip r:embed="rId3"/>
          <a:stretch/>
        </p:blipFill>
        <p:spPr>
          <a:xfrm>
            <a:off x="0" y="2781360"/>
            <a:ext cx="1243080" cy="1468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6" descr=""/>
          <p:cNvPicPr/>
          <p:nvPr/>
        </p:nvPicPr>
        <p:blipFill>
          <a:blip r:embed="rId4"/>
          <a:stretch/>
        </p:blipFill>
        <p:spPr>
          <a:xfrm>
            <a:off x="3635280" y="0"/>
            <a:ext cx="1631880" cy="1203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7" descr=""/>
          <p:cNvPicPr/>
          <p:nvPr/>
        </p:nvPicPr>
        <p:blipFill>
          <a:blip r:embed="rId5"/>
          <a:stretch/>
        </p:blipFill>
        <p:spPr>
          <a:xfrm>
            <a:off x="7451640" y="5402160"/>
            <a:ext cx="1692360" cy="1455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3" descr=""/>
          <p:cNvPicPr/>
          <p:nvPr/>
        </p:nvPicPr>
        <p:blipFill>
          <a:blip r:embed="rId6"/>
          <a:stretch/>
        </p:blipFill>
        <p:spPr>
          <a:xfrm>
            <a:off x="7885080" y="2852640"/>
            <a:ext cx="1258920" cy="1193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1" descr=""/>
          <p:cNvPicPr/>
          <p:nvPr/>
        </p:nvPicPr>
        <p:blipFill>
          <a:blip r:embed="rId7"/>
          <a:stretch/>
        </p:blipFill>
        <p:spPr>
          <a:xfrm>
            <a:off x="0" y="5157720"/>
            <a:ext cx="1349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826920" y="260280"/>
            <a:ext cx="777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амая редкая на земле специальность –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ереворачиватель пингвин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2" name="Picture 6" descr="%D0%BF%D0%B8%D0%BD%D0%B3%D0%B2%D0%B8%D0%BD"/>
          <p:cNvPicPr/>
          <p:nvPr/>
        </p:nvPicPr>
        <p:blipFill>
          <a:blip r:embed="rId1"/>
          <a:stretch/>
        </p:blipFill>
        <p:spPr>
          <a:xfrm>
            <a:off x="1187280" y="2492280"/>
            <a:ext cx="6624720" cy="3902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 "/>
          <p:cNvPicPr/>
          <p:nvPr/>
        </p:nvPicPr>
        <p:blipFill>
          <a:blip r:embed="rId1"/>
          <a:stretch/>
        </p:blipFill>
        <p:spPr>
          <a:xfrm>
            <a:off x="1386000" y="2060640"/>
            <a:ext cx="6372000" cy="4255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258920" y="47628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овец крабов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6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 "/>
          <p:cNvPicPr/>
          <p:nvPr/>
        </p:nvPicPr>
        <p:blipFill>
          <a:blip r:embed="rId1"/>
          <a:stretch/>
        </p:blipFill>
        <p:spPr>
          <a:xfrm>
            <a:off x="1332000" y="1700280"/>
            <a:ext cx="6767280" cy="45162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1258920" y="47628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ётчик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амолёта-опылителя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9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 "/>
          <p:cNvPicPr/>
          <p:nvPr/>
        </p:nvPicPr>
        <p:blipFill>
          <a:blip r:embed="rId1"/>
          <a:stretch/>
        </p:blipFill>
        <p:spPr>
          <a:xfrm>
            <a:off x="1979640" y="191628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2124000" y="90792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усорщи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2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 "/>
          <p:cNvPicPr/>
          <p:nvPr/>
        </p:nvPicPr>
        <p:blipFill>
          <a:blip r:embed="rId1"/>
          <a:stretch/>
        </p:blipFill>
        <p:spPr>
          <a:xfrm>
            <a:off x="1979640" y="1989000"/>
            <a:ext cx="4952880" cy="43722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1476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портивный агент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5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 "/>
          <p:cNvPicPr/>
          <p:nvPr/>
        </p:nvPicPr>
        <p:blipFill>
          <a:blip r:embed="rId1"/>
          <a:stretch/>
        </p:blipFill>
        <p:spPr>
          <a:xfrm>
            <a:off x="1835280" y="242100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476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ыгульщик соба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8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2124000" y="69228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Гондольер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6877080" y="6453360"/>
            <a:ext cx="22669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енец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1" name="Picture 7" descr="av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2087640" cy="15685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"/>
          <p:cNvPicPr/>
          <p:nvPr/>
        </p:nvPicPr>
        <p:blipFill>
          <a:blip r:embed="rId3"/>
          <a:stretch/>
        </p:blipFill>
        <p:spPr>
          <a:xfrm>
            <a:off x="4427640" y="2133720"/>
            <a:ext cx="2232000" cy="19634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4"/>
          <a:stretch/>
        </p:blipFill>
        <p:spPr>
          <a:xfrm>
            <a:off x="2179800" y="1413000"/>
            <a:ext cx="169992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1042920" y="5877000"/>
            <a:ext cx="70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И многое, многое другое!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596160"/>
            <a:ext cx="90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телефонный экстрасенс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специалист по украшению новогодней елк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ловец черных медвед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тгонщики обез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окосовые смотр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шоперы», которые покупают одежду для чрезмерно занятых VIP-клиентов и клиен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395280" y="4437000"/>
            <a:ext cx="2376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а в Москве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3284640"/>
            <a:ext cx="47527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 Виргинских островах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50920" y="1916280"/>
            <a:ext cx="2160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 Индии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395280" y="189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 СШ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1" name="Picture 10" descr="Eye4"/>
          <p:cNvPicPr/>
          <p:nvPr/>
        </p:nvPicPr>
        <p:blipFill>
          <a:blip r:embed="rId1"/>
          <a:stretch/>
        </p:blipFill>
        <p:spPr>
          <a:xfrm>
            <a:off x="8317080" y="6093000"/>
            <a:ext cx="53316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1825592"/>
          <p:cNvPicPr/>
          <p:nvPr/>
        </p:nvPicPr>
        <p:blipFill>
          <a:blip r:embed="rId1"/>
          <a:stretch/>
        </p:blipFill>
        <p:spPr>
          <a:xfrm>
            <a:off x="7180200" y="4581360"/>
            <a:ext cx="1963800" cy="227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821060"/>
          <p:cNvPicPr/>
          <p:nvPr/>
        </p:nvPicPr>
        <p:blipFill>
          <a:blip r:embed="rId2"/>
          <a:stretch/>
        </p:blipFill>
        <p:spPr>
          <a:xfrm>
            <a:off x="0" y="4084560"/>
            <a:ext cx="3132000" cy="2773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328428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cc"/>
                </a:solidFill>
                <a:latin typeface="Monotype Corsiva"/>
              </a:rPr>
              <a:t>Пять профессий, </a:t>
            </a:r>
            <a:br>
              <a:rPr sz="6200"/>
            </a:br>
            <a:r>
              <a:rPr b="1" lang="ru-RU" sz="6200" spc="-1" strike="noStrike">
                <a:solidFill>
                  <a:srgbClr val="0000cc"/>
                </a:solidFill>
                <a:latin typeface="Monotype Corsiva"/>
              </a:rPr>
              <a:t>которые вытеснит </a:t>
            </a:r>
            <a:r>
              <a:rPr b="1" lang="ru-RU" sz="8200" spc="-1" strike="noStrike">
                <a:solidFill>
                  <a:srgbClr val="0000cc"/>
                </a:solidFill>
                <a:latin typeface="Monotype Corsiva"/>
              </a:rPr>
              <a:t>компьютер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редставителей некоторых профессий в скором будущем могут полностью заменить маш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Почтальон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дна из вымирающих профессий в современном мире — это почтальон. Сейчас, когда есть возможность отправить письмо по электронной почте, необходимость в бумажных посланиях, а заодно и в тех, кто их разносит, практически отпала. Все меньше становится и тех, кто выписывает газеты и журналы, поэтому доставка прессы популярностью не пользу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 России почтальоны также разносят и пенсии. Но нетрудно догадаться, что и эта функция отпадет, когда российские пенсионеры, подобно западным, будут получать переводы на банковск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5076720" y="4508640"/>
            <a:ext cx="153036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1"/>
          <p:cNvGrpSpPr/>
          <p:nvPr/>
        </p:nvGrpSpPr>
        <p:grpSpPr>
          <a:xfrm>
            <a:off x="1619280" y="2276640"/>
            <a:ext cx="4247640" cy="3310920"/>
            <a:chOff x="1619280" y="2276640"/>
            <a:chExt cx="4247640" cy="3310920"/>
          </a:xfrm>
        </p:grpSpPr>
        <p:grpSp>
          <p:nvGrpSpPr>
            <p:cNvPr id="104" name="Group 18"/>
            <p:cNvGrpSpPr/>
            <p:nvPr/>
          </p:nvGrpSpPr>
          <p:grpSpPr>
            <a:xfrm>
              <a:off x="1619280" y="2276640"/>
              <a:ext cx="2231640" cy="2232000"/>
              <a:chOff x="1619280" y="2276640"/>
              <a:chExt cx="2231640" cy="2232000"/>
            </a:xfrm>
          </p:grpSpPr>
          <p:sp>
            <p:nvSpPr>
              <p:cNvPr id="105" name="Oval 5"/>
              <p:cNvSpPr/>
              <p:nvPr/>
            </p:nvSpPr>
            <p:spPr>
              <a:xfrm>
                <a:off x="1619280" y="2276640"/>
                <a:ext cx="2231640" cy="2232000"/>
              </a:xfrm>
              <a:prstGeom prst="ellipse">
                <a:avLst/>
              </a:prstGeom>
              <a:noFill/>
              <a:ln w="7632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WordArt 8"/>
              <p:cNvSpPr txBox="1"/>
              <p:nvPr/>
            </p:nvSpPr>
            <p:spPr>
              <a:xfrm>
                <a:off x="2052360" y="2636640"/>
                <a:ext cx="1296720" cy="86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9933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хочу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9933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07" name="Group 20"/>
            <p:cNvGrpSpPr/>
            <p:nvPr/>
          </p:nvGrpSpPr>
          <p:grpSpPr>
            <a:xfrm>
              <a:off x="3635280" y="2276640"/>
              <a:ext cx="2231640" cy="2232000"/>
              <a:chOff x="3635280" y="2276640"/>
              <a:chExt cx="2231640" cy="223200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3635280" y="2276640"/>
                <a:ext cx="2231640" cy="2232000"/>
              </a:xfrm>
              <a:prstGeom prst="ellipse">
                <a:avLst/>
              </a:prstGeom>
              <a:noFill/>
              <a:ln w="7632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WordArt 12"/>
              <p:cNvSpPr txBox="1"/>
              <p:nvPr/>
            </p:nvSpPr>
            <p:spPr>
              <a:xfrm>
                <a:off x="4139640" y="2636640"/>
                <a:ext cx="1296720" cy="86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6767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могу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6767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10" name="Group 19"/>
            <p:cNvGrpSpPr/>
            <p:nvPr/>
          </p:nvGrpSpPr>
          <p:grpSpPr>
            <a:xfrm>
              <a:off x="2700000" y="3355920"/>
              <a:ext cx="2231640" cy="2231640"/>
              <a:chOff x="2700000" y="3355920"/>
              <a:chExt cx="2231640" cy="2231640"/>
            </a:xfrm>
          </p:grpSpPr>
          <p:sp>
            <p:nvSpPr>
              <p:cNvPr id="111" name="Oval 14"/>
              <p:cNvSpPr/>
              <p:nvPr/>
            </p:nvSpPr>
            <p:spPr>
              <a:xfrm>
                <a:off x="2700000" y="3355920"/>
                <a:ext cx="2231640" cy="2231640"/>
              </a:xfrm>
              <a:prstGeom prst="ellipse">
                <a:avLst/>
              </a:prstGeom>
              <a:noFill/>
              <a:ln w="7632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WordArt 15"/>
              <p:cNvSpPr txBox="1"/>
              <p:nvPr/>
            </p:nvSpPr>
            <p:spPr>
              <a:xfrm>
                <a:off x="3202920" y="4508280"/>
                <a:ext cx="1296720" cy="86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ff00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надо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13" name="Rectangle 22"/>
          <p:cNvSpPr/>
          <p:nvPr/>
        </p:nvSpPr>
        <p:spPr>
          <a:xfrm>
            <a:off x="-495000" y="-1080"/>
            <a:ext cx="103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Правила выбора проф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0" y="105084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удущ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олжна быть в рад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 не в тя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-468360" y="52275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я должна пользоваться спро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 рынке тру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651640" y="180396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ы должны обладать наб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он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ажных для этой работы  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7578720" y="4508640"/>
            <a:ext cx="1565280" cy="2349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Туристический агент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смотря на наплыв абитуриентов в туристические вузы страны, профессия туроператора в скором времени может превратиться в атав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ыпускники факультетов туризма рискуют остаться без перспектив к трудоустройству. Дело в том, что надобность в турагентах отпадает по той простой причине, что отдых стало проще организовывать через интернет, без посредников. Уже сейчас можно забронировать номер на сайте гостиницы, не прибегая к услугам туристических агент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ножество отпускников предпочитают также покупать билеты на самолет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3419640" y="4869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cc"/>
                </a:solidFill>
                <a:latin typeface="Monotype Corsiva"/>
              </a:rPr>
              <a:t>Типографский работник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скором времени типографские работники если и не исчезнут полностью, то их ряды значительно поредеют. В первую очередь пострадают полиграфические работники и печатники. Связано это с тем, что все больше людей предпочитают книги в электронном формате. Нет необходимости тратиться на дорогостоящие печатные издания и складывать дома многочисленные т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од угрозой вымирания также находятся и корректоры. Платить человеку за поиск ошибок в текстах становится все менее выгодным, поскольку сейчас этим могут заниматься программы-спеллеры. Единственное, что удерживает профессию на плаву, — это несовершенство подоб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6804000" y="5292720"/>
            <a:ext cx="2340000" cy="15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0" y="5572080"/>
            <a:ext cx="17636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Продавец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же сейчас столь распространенная ранее профессия продавца считается исчезающей в Европе и Америке. Связано это в первую очередь с ростом популярности интернет-магаз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России отрасль интернет-торговли пока развита значительно слабее, однако аналитики пророчат сетевым «магазинам на диване» большое будущее. А значит, многим работникам торговли в скором будущем придется переквалифиц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2514600" cy="1911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64360" y="4932360"/>
            <a:ext cx="1979640" cy="1925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Чертежник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сли раньше построением планов, графиков, схем, таблиц и чертежей занимались целые отделы, то сегодня с этой работой успешно справляются многочисленные компьютер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Архитекторы, инженеры и дизайнеры теперь могут делать все необходимые расчеты с помощью компьютера. Необходимость рисовать линии карандашом на ватмане также отпала — теперь все линии нарисует профессиональная пр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1042920" y="-1931400"/>
            <a:ext cx="768816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еликая радость – работа,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 полях, за станком, за столом!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Работай до жаркого пота,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Работай без лишнего счета,-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се счастье земли – за трудом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Monotype Corsiva"/>
              </a:rPr>
              <a:t>В.Я. Брю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64" descr=""/>
          <p:cNvPicPr/>
          <p:nvPr/>
        </p:nvPicPr>
        <p:blipFill>
          <a:blip r:embed="rId1"/>
          <a:stretch/>
        </p:blipFill>
        <p:spPr>
          <a:xfrm>
            <a:off x="0" y="364500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9" descr=""/>
          <p:cNvPicPr/>
          <p:nvPr/>
        </p:nvPicPr>
        <p:blipFill>
          <a:blip r:embed="rId2"/>
          <a:stretch/>
        </p:blipFill>
        <p:spPr>
          <a:xfrm>
            <a:off x="0" y="54291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0" descr=""/>
          <p:cNvPicPr/>
          <p:nvPr/>
        </p:nvPicPr>
        <p:blipFill>
          <a:blip r:embed="rId3"/>
          <a:stretch/>
        </p:blipFill>
        <p:spPr>
          <a:xfrm>
            <a:off x="0" y="184464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9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9" descr=""/>
          <p:cNvPicPr/>
          <p:nvPr/>
        </p:nvPicPr>
        <p:blipFill>
          <a:blip r:embed="rId5"/>
          <a:stretch/>
        </p:blipFill>
        <p:spPr>
          <a:xfrm>
            <a:off x="8077320" y="2565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8" descr=""/>
          <p:cNvPicPr/>
          <p:nvPr/>
        </p:nvPicPr>
        <p:blipFill>
          <a:blip r:embed="rId6"/>
          <a:stretch/>
        </p:blipFill>
        <p:spPr>
          <a:xfrm>
            <a:off x="8058240" y="54291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6" descr=""/>
          <p:cNvPicPr/>
          <p:nvPr/>
        </p:nvPicPr>
        <p:blipFill>
          <a:blip r:embed="rId7"/>
          <a:stretch/>
        </p:blipFill>
        <p:spPr>
          <a:xfrm>
            <a:off x="4067280" y="5495760"/>
            <a:ext cx="1009440" cy="13622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5" descr=""/>
          <p:cNvPicPr/>
          <p:nvPr/>
        </p:nvPicPr>
        <p:blipFill>
          <a:blip r:embed="rId8"/>
          <a:stretch/>
        </p:blipFill>
        <p:spPr>
          <a:xfrm>
            <a:off x="1908000" y="5429160"/>
            <a:ext cx="1133640" cy="14288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7848720" y="0"/>
            <a:ext cx="1295280" cy="865080"/>
          </a:xfrm>
          <a:custGeom>
            <a:avLst/>
            <a:gdLst>
              <a:gd name="textAreaLeft" fmla="*/ 55800 w 1295280"/>
              <a:gd name="textAreaRight" fmla="*/ 1239480 w 129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2337" h="21600">
                <a:moveTo>
                  <a:pt x="0" y="0"/>
                </a:moveTo>
                <a:lnTo>
                  <a:pt x="32337" y="0"/>
                </a:lnTo>
                <a:lnTo>
                  <a:pt x="32337" y="21600"/>
                </a:lnTo>
                <a:lnTo>
                  <a:pt x="0" y="21600"/>
                </a:lnTo>
                <a:close/>
              </a:path>
              <a:path fill="lightenLess" w="32337" h="21600">
                <a:moveTo>
                  <a:pt x="0" y="0"/>
                </a:moveTo>
                <a:lnTo>
                  <a:pt x="32337" y="0"/>
                </a:lnTo>
                <a:lnTo>
                  <a:pt x="30937" y="1400"/>
                </a:lnTo>
                <a:lnTo>
                  <a:pt x="1400" y="1400"/>
                </a:lnTo>
                <a:close/>
              </a:path>
              <a:path fill="darken" w="32337" h="21600">
                <a:moveTo>
                  <a:pt x="32337" y="0"/>
                </a:moveTo>
                <a:lnTo>
                  <a:pt x="32337" y="21600"/>
                </a:lnTo>
                <a:lnTo>
                  <a:pt x="30937" y="20200"/>
                </a:lnTo>
                <a:lnTo>
                  <a:pt x="30937" y="1400"/>
                </a:lnTo>
                <a:close/>
              </a:path>
              <a:path fill="darkenLess" w="32337" h="21600">
                <a:moveTo>
                  <a:pt x="32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7" y="20200"/>
                </a:lnTo>
                <a:close/>
              </a:path>
              <a:path fill="lighten" w="32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7" h="21600">
                <a:moveTo>
                  <a:pt x="9162" y="7301"/>
                </a:moveTo>
                <a:lnTo>
                  <a:pt x="10076" y="7301"/>
                </a:lnTo>
                <a:lnTo>
                  <a:pt x="10459" y="7667"/>
                </a:lnTo>
                <a:lnTo>
                  <a:pt x="19667" y="7667"/>
                </a:lnTo>
                <a:lnTo>
                  <a:pt x="20224" y="8224"/>
                </a:lnTo>
                <a:lnTo>
                  <a:pt x="20224" y="8772"/>
                </a:lnTo>
                <a:lnTo>
                  <a:pt x="22070" y="8772"/>
                </a:lnTo>
                <a:lnTo>
                  <a:pt x="22435" y="8224"/>
                </a:lnTo>
                <a:lnTo>
                  <a:pt x="23175" y="8224"/>
                </a:lnTo>
                <a:lnTo>
                  <a:pt x="23175" y="13376"/>
                </a:lnTo>
                <a:lnTo>
                  <a:pt x="22435" y="13376"/>
                </a:lnTo>
                <a:lnTo>
                  <a:pt x="22070" y="12828"/>
                </a:lnTo>
                <a:lnTo>
                  <a:pt x="20224" y="12828"/>
                </a:lnTo>
                <a:lnTo>
                  <a:pt x="20224" y="14107"/>
                </a:lnTo>
                <a:lnTo>
                  <a:pt x="10642" y="14107"/>
                </a:lnTo>
                <a:lnTo>
                  <a:pt x="10642" y="9877"/>
                </a:lnTo>
                <a:lnTo>
                  <a:pt x="10459" y="9877"/>
                </a:lnTo>
                <a:lnTo>
                  <a:pt x="10076" y="10243"/>
                </a:lnTo>
                <a:lnTo>
                  <a:pt x="9162" y="1024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Необычные профессии"/>
          <p:cNvPicPr/>
          <p:nvPr/>
        </p:nvPicPr>
        <p:blipFill>
          <a:blip r:embed="rId1"/>
          <a:stretch/>
        </p:blipFill>
        <p:spPr>
          <a:xfrm>
            <a:off x="684360" y="836640"/>
            <a:ext cx="7632720" cy="574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826920" y="260280"/>
            <a:ext cx="777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Родео клоун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826920" y="260280"/>
            <a:ext cx="777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здатель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неоновых вывесо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1" name="Picture 6" descr="av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2794320" cy="209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95092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Необычные профессии"/>
          <p:cNvPicPr/>
          <p:nvPr/>
        </p:nvPicPr>
        <p:blipFill>
          <a:blip r:embed="rId1"/>
          <a:stretch/>
        </p:blipFill>
        <p:spPr>
          <a:xfrm>
            <a:off x="1258920" y="1901880"/>
            <a:ext cx="6408720" cy="47307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826920" y="26028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Чистильщик акриловых панелей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ыставочного аквариума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8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5" descr="Необычные профессии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4211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826920" y="260280"/>
            <a:ext cx="777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мотритель слон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зоопарке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1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Необычные профессии"/>
          <p:cNvPicPr/>
          <p:nvPr/>
        </p:nvPicPr>
        <p:blipFill>
          <a:blip r:embed="rId1"/>
          <a:stretch/>
        </p:blipFill>
        <p:spPr>
          <a:xfrm>
            <a:off x="1692360" y="2637000"/>
            <a:ext cx="5976720" cy="39560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2195640" y="76500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едущий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отереи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4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8" descr="Необычные профессии"/>
          <p:cNvPicPr/>
          <p:nvPr/>
        </p:nvPicPr>
        <p:blipFill>
          <a:blip r:embed="rId1"/>
          <a:stretch/>
        </p:blipFill>
        <p:spPr>
          <a:xfrm>
            <a:off x="1476360" y="2133720"/>
            <a:ext cx="6192720" cy="410832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826920" y="260280"/>
            <a:ext cx="777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дель,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озирующая для художников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7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9" descr="Необычные профессии"/>
          <p:cNvPicPr/>
          <p:nvPr/>
        </p:nvPicPr>
        <p:blipFill>
          <a:blip r:embed="rId1"/>
          <a:stretch/>
        </p:blipFill>
        <p:spPr>
          <a:xfrm>
            <a:off x="971640" y="1989000"/>
            <a:ext cx="7451640" cy="43624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826920" y="260280"/>
            <a:ext cx="777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мотритель экспонат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музее естествознания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0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47:12Z</dcterms:created>
  <dc:creator>Teacher_pc_15</dc:creator>
  <dc:description/>
  <dc:language>en-US</dc:language>
  <cp:lastModifiedBy>SONY</cp:lastModifiedBy>
  <dcterms:modified xsi:type="dcterms:W3CDTF">2016-02-05T13:30:39Z</dcterms:modified>
  <cp:revision>18</cp:revision>
  <dc:subject/>
  <dc:title>Необычные  и интересные профессии</dc:title>
</cp:coreProperties>
</file>