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dt" idx="1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3F17E-8C18-4642-9566-FA953A4ADB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8C7FB-0767-4ADE-817B-775CE60049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35AA-E434-4EC3-A917-EF591FAB1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66E9-5208-421B-82F8-9CCDA049AA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4D342-C609-4165-9B23-2C71C02CF0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355C7-52EE-4135-95D9-0068AC668E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691BD-97C6-474B-A64C-E0C782EAE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3124080" y="6356520"/>
            <a:ext cx="289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Oval 1"/>
          <p:cNvSpPr/>
          <p:nvPr/>
        </p:nvSpPr>
        <p:spPr>
          <a:xfrm>
            <a:off x="3786120" y="2571840"/>
            <a:ext cx="1855800" cy="18558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2"/>
          <p:cNvSpPr/>
          <p:nvPr/>
        </p:nvSpPr>
        <p:spPr>
          <a:xfrm>
            <a:off x="1643040" y="1500120"/>
            <a:ext cx="1141560" cy="114156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6072120" y="1285920"/>
            <a:ext cx="114156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"/>
          <p:cNvSpPr/>
          <p:nvPr/>
        </p:nvSpPr>
        <p:spPr>
          <a:xfrm>
            <a:off x="6286680" y="4714920"/>
            <a:ext cx="114120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1857240" y="4714920"/>
            <a:ext cx="1141560" cy="114120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643200" y="3071880"/>
            <a:ext cx="20703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Ы БЕЗРАБО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41280" y="1619280"/>
            <a:ext cx="19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менение потребительского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5940360" y="1427040"/>
            <a:ext cx="1297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жи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9"/>
          <p:cNvSpPr/>
          <p:nvPr/>
        </p:nvSpPr>
        <p:spPr>
          <a:xfrm>
            <a:off x="571680" y="64296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214200" y="714240"/>
            <a:ext cx="149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таре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фе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11"/>
          <p:cNvSpPr/>
          <p:nvPr/>
        </p:nvSpPr>
        <p:spPr>
          <a:xfrm>
            <a:off x="2500200" y="357120"/>
            <a:ext cx="78444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2000160" y="428760"/>
            <a:ext cx="18558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обход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3"/>
          <p:cNvSpPr/>
          <p:nvPr/>
        </p:nvSpPr>
        <p:spPr>
          <a:xfrm>
            <a:off x="4857840" y="114300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6000840" y="214200"/>
            <a:ext cx="78408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5"/>
          <p:cNvSpPr/>
          <p:nvPr/>
        </p:nvSpPr>
        <p:spPr>
          <a:xfrm>
            <a:off x="7715160" y="571680"/>
            <a:ext cx="78444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6"/>
          <p:cNvSpPr/>
          <p:nvPr/>
        </p:nvSpPr>
        <p:spPr>
          <a:xfrm>
            <a:off x="7786800" y="207180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4429080" y="1357200"/>
            <a:ext cx="1498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уск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5572080" y="285840"/>
            <a:ext cx="171288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х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словия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7358040" y="642960"/>
            <a:ext cx="1498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зкая з/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7143840" y="2143080"/>
            <a:ext cx="1998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ста ж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1"/>
          <p:cNvSpPr/>
          <p:nvPr/>
        </p:nvSpPr>
        <p:spPr>
          <a:xfrm>
            <a:off x="1428840" y="4857840"/>
            <a:ext cx="19987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ад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1143000" y="3714840"/>
            <a:ext cx="784080" cy="78408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3"/>
          <p:cNvSpPr/>
          <p:nvPr/>
        </p:nvSpPr>
        <p:spPr>
          <a:xfrm>
            <a:off x="642960" y="5429160"/>
            <a:ext cx="784080" cy="784440"/>
          </a:xfrm>
          <a:prstGeom prst="ellipse">
            <a:avLst/>
          </a:prstGeom>
          <a:solidFill>
            <a:srgbClr val="c6d9f1"/>
          </a:solidFill>
          <a:ln w="25560">
            <a:solidFill>
              <a:srgbClr val="3a5f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785880" y="3929040"/>
            <a:ext cx="149868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кращ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0" y="5481720"/>
            <a:ext cx="16416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ытие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6"/>
          <p:cNvSpPr/>
          <p:nvPr/>
        </p:nvSpPr>
        <p:spPr>
          <a:xfrm>
            <a:off x="6143760" y="5000760"/>
            <a:ext cx="1498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езонная безрабо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27"/>
          <p:cNvSpPr/>
          <p:nvPr/>
        </p:nvSpPr>
        <p:spPr>
          <a:xfrm>
            <a:off x="0" y="0"/>
            <a:ext cx="1440" cy="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28"/>
          <p:cNvCxnSpPr/>
          <p:nvPr/>
        </p:nvCxnSpPr>
        <p:spPr>
          <a:xfrm>
            <a:off x="0" y="0"/>
            <a:ext cx="2160" cy="216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113" name="Прямая со стрелкой 30"/>
          <p:cNvCxnSpPr>
            <a:stCxn id="85" idx="1"/>
          </p:cNvCxnSpPr>
          <p:nvPr/>
        </p:nvCxnSpPr>
        <p:spPr>
          <a:xfrm flipH="1" flipV="1">
            <a:off x="2786040" y="2285640"/>
            <a:ext cx="1272240" cy="55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32"/>
          <p:cNvCxnSpPr>
            <a:stCxn id="86" idx="7"/>
            <a:endCxn id="95" idx="4"/>
          </p:cNvCxnSpPr>
          <p:nvPr/>
        </p:nvCxnSpPr>
        <p:spPr>
          <a:xfrm flipV="1">
            <a:off x="2617560" y="1141560"/>
            <a:ext cx="275400" cy="52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Прямая со стрелкой 34"/>
          <p:cNvCxnSpPr/>
          <p:nvPr/>
        </p:nvCxnSpPr>
        <p:spPr>
          <a:xfrm flipH="1" flipV="1">
            <a:off x="1356480" y="1285560"/>
            <a:ext cx="5007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6" name="Прямая со стрелкой 36"/>
          <p:cNvCxnSpPr>
            <a:stCxn id="85" idx="7"/>
          </p:cNvCxnSpPr>
          <p:nvPr/>
        </p:nvCxnSpPr>
        <p:spPr>
          <a:xfrm flipV="1">
            <a:off x="5370120" y="2214360"/>
            <a:ext cx="845640" cy="629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38"/>
          <p:cNvCxnSpPr/>
          <p:nvPr/>
        </p:nvCxnSpPr>
        <p:spPr>
          <a:xfrm flipH="1" flipV="1">
            <a:off x="5643360" y="1714320"/>
            <a:ext cx="4291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Прямая со стрелкой 40"/>
          <p:cNvCxnSpPr>
            <a:stCxn id="87" idx="0"/>
          </p:cNvCxnSpPr>
          <p:nvPr/>
        </p:nvCxnSpPr>
        <p:spPr>
          <a:xfrm flipH="1" flipV="1">
            <a:off x="6571440" y="999720"/>
            <a:ext cx="7200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Прямая со стрелкой 42"/>
          <p:cNvCxnSpPr/>
          <p:nvPr/>
        </p:nvCxnSpPr>
        <p:spPr>
          <a:xfrm flipV="1">
            <a:off x="7143480" y="1213920"/>
            <a:ext cx="57204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Прямая со стрелкой 44"/>
          <p:cNvCxnSpPr/>
          <p:nvPr/>
        </p:nvCxnSpPr>
        <p:spPr>
          <a:xfrm>
            <a:off x="7143840" y="2143080"/>
            <a:ext cx="64332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1" name="Прямая со стрелкой 47"/>
          <p:cNvCxnSpPr>
            <a:stCxn id="85" idx="5"/>
            <a:endCxn id="88" idx="1"/>
          </p:cNvCxnSpPr>
          <p:nvPr/>
        </p:nvCxnSpPr>
        <p:spPr>
          <a:xfrm>
            <a:off x="5370120" y="4155840"/>
            <a:ext cx="108396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49"/>
          <p:cNvCxnSpPr>
            <a:stCxn id="85" idx="3"/>
          </p:cNvCxnSpPr>
          <p:nvPr/>
        </p:nvCxnSpPr>
        <p:spPr>
          <a:xfrm flipH="1">
            <a:off x="2928240" y="4155840"/>
            <a:ext cx="1130040" cy="77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Прямая со стрелкой 51"/>
          <p:cNvCxnSpPr>
            <a:endCxn id="106" idx="5"/>
          </p:cNvCxnSpPr>
          <p:nvPr/>
        </p:nvCxnSpPr>
        <p:spPr>
          <a:xfrm flipH="1" flipV="1">
            <a:off x="1812240" y="4384080"/>
            <a:ext cx="259560" cy="47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Прямая со стрелкой 54"/>
          <p:cNvCxnSpPr>
            <a:stCxn id="89" idx="3"/>
          </p:cNvCxnSpPr>
          <p:nvPr/>
        </p:nvCxnSpPr>
        <p:spPr>
          <a:xfrm flipH="1">
            <a:off x="1428120" y="5689080"/>
            <a:ext cx="596520" cy="9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108000" y="1214280"/>
            <a:ext cx="88948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571680" y="428760"/>
            <a:ext cx="807084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3»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ксимальный уровень безработицы приходится на молодых людей от 15 до 19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й уровень безработицы в сельской местности почти в 2 раза больше чем в го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езработной молодежи от 15 до 19 лет в городах почти в 2 раза больше чем в сельской мес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вень безработицы среди молодежи (до 30 лет) в городе в 5 раз больше чем среди людей зрелого возраста, а в селе больше лишь в 2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143000" y="142920"/>
            <a:ext cx="7324560" cy="671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131760" y="714240"/>
            <a:ext cx="891684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8160" y="142920"/>
            <a:ext cx="8697960" cy="671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иЛ</cp:lastModifiedBy>
  <dcterms:modified xsi:type="dcterms:W3CDTF">2016-04-17T19:13:51Z</dcterms:modified>
  <cp:revision>2</cp:revision>
  <dc:subject/>
  <dc:title>Слайд 1</dc:title>
</cp:coreProperties>
</file>