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6D4F5-BD8E-4D45-8A2E-2265E6F6A3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80A39-D305-45B9-BCC8-C7D1C94529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4875B-9BA2-48F2-90B2-BA66EE7DB8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FF9C7-5F74-4FBA-A920-29B742D3E4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6F924-5C44-4BB3-ACD4-E2917A6BEA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4DB85-748F-4E98-8F60-6B287795F8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1364D-762D-4C2F-8649-B400283E2D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1"/>
          <p:cNvSpPr/>
          <p:nvPr/>
        </p:nvSpPr>
        <p:spPr>
          <a:xfrm>
            <a:off x="3786120" y="2571840"/>
            <a:ext cx="1855800" cy="18558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"/>
          <p:cNvSpPr/>
          <p:nvPr/>
        </p:nvSpPr>
        <p:spPr>
          <a:xfrm>
            <a:off x="1643040" y="1500120"/>
            <a:ext cx="1141560" cy="114156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6072120" y="1285920"/>
            <a:ext cx="1141560" cy="11412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6286680" y="4714920"/>
            <a:ext cx="1141200" cy="11412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1857240" y="4714920"/>
            <a:ext cx="1141560" cy="11412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643200" y="3071880"/>
            <a:ext cx="20703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Ы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241280" y="1619280"/>
            <a:ext cx="19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менение потребительского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940360" y="1427040"/>
            <a:ext cx="129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жи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571680" y="642960"/>
            <a:ext cx="78408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4200" y="714240"/>
            <a:ext cx="149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а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500200" y="357120"/>
            <a:ext cx="784440" cy="78444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2000160" y="428760"/>
            <a:ext cx="18558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обход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4857840" y="1143000"/>
            <a:ext cx="78408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6000840" y="214200"/>
            <a:ext cx="784080" cy="78444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7715160" y="571680"/>
            <a:ext cx="78444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7786800" y="2071800"/>
            <a:ext cx="78408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4429080" y="1357200"/>
            <a:ext cx="1498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уск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5572080" y="285840"/>
            <a:ext cx="1712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ов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7358040" y="642960"/>
            <a:ext cx="149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изкая з/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7143840" y="2143080"/>
            <a:ext cx="199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а ж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1428840" y="4857840"/>
            <a:ext cx="19987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ад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1143000" y="3714840"/>
            <a:ext cx="78408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3"/>
          <p:cNvSpPr/>
          <p:nvPr/>
        </p:nvSpPr>
        <p:spPr>
          <a:xfrm>
            <a:off x="642960" y="5429160"/>
            <a:ext cx="784080" cy="78444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785880" y="3929040"/>
            <a:ext cx="1498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к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0" y="5481720"/>
            <a:ext cx="1641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ытие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6143760" y="5000760"/>
            <a:ext cx="14983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зонная безрабо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7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28"/>
          <p:cNvCxnSpPr/>
          <p:nvPr/>
        </p:nvCxnSpPr>
        <p:spPr>
          <a:xfrm>
            <a:off x="0" y="0"/>
            <a:ext cx="2160" cy="216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113" name="Прямая со стрелкой 30"/>
          <p:cNvCxnSpPr>
            <a:stCxn id="85" idx="1"/>
          </p:cNvCxnSpPr>
          <p:nvPr/>
        </p:nvCxnSpPr>
        <p:spPr>
          <a:xfrm flipH="1" flipV="1">
            <a:off x="2786040" y="2285640"/>
            <a:ext cx="1272240" cy="55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32"/>
          <p:cNvCxnSpPr>
            <a:stCxn id="86" idx="7"/>
            <a:endCxn id="95" idx="4"/>
          </p:cNvCxnSpPr>
          <p:nvPr/>
        </p:nvCxnSpPr>
        <p:spPr>
          <a:xfrm flipV="1">
            <a:off x="2617560" y="1141560"/>
            <a:ext cx="275400" cy="52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H="1" flipV="1">
            <a:off x="1356480" y="1285560"/>
            <a:ext cx="5007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36"/>
          <p:cNvCxnSpPr>
            <a:stCxn id="85" idx="7"/>
          </p:cNvCxnSpPr>
          <p:nvPr/>
        </p:nvCxnSpPr>
        <p:spPr>
          <a:xfrm flipV="1">
            <a:off x="5370120" y="2214360"/>
            <a:ext cx="84564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38"/>
          <p:cNvCxnSpPr/>
          <p:nvPr/>
        </p:nvCxnSpPr>
        <p:spPr>
          <a:xfrm flipH="1" flipV="1">
            <a:off x="5643360" y="1714320"/>
            <a:ext cx="42912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40"/>
          <p:cNvCxnSpPr>
            <a:stCxn id="87" idx="0"/>
          </p:cNvCxnSpPr>
          <p:nvPr/>
        </p:nvCxnSpPr>
        <p:spPr>
          <a:xfrm flipH="1" flipV="1">
            <a:off x="6571440" y="999720"/>
            <a:ext cx="720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42"/>
          <p:cNvCxnSpPr/>
          <p:nvPr/>
        </p:nvCxnSpPr>
        <p:spPr>
          <a:xfrm flipV="1">
            <a:off x="7143480" y="1213920"/>
            <a:ext cx="5720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44"/>
          <p:cNvCxnSpPr/>
          <p:nvPr/>
        </p:nvCxnSpPr>
        <p:spPr>
          <a:xfrm>
            <a:off x="7143840" y="2143080"/>
            <a:ext cx="643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Прямая со стрелкой 47"/>
          <p:cNvCxnSpPr>
            <a:stCxn id="85" idx="5"/>
            <a:endCxn id="88" idx="1"/>
          </p:cNvCxnSpPr>
          <p:nvPr/>
        </p:nvCxnSpPr>
        <p:spPr>
          <a:xfrm>
            <a:off x="5370120" y="4155840"/>
            <a:ext cx="1083960" cy="72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49"/>
          <p:cNvCxnSpPr>
            <a:stCxn id="85" idx="3"/>
          </p:cNvCxnSpPr>
          <p:nvPr/>
        </p:nvCxnSpPr>
        <p:spPr>
          <a:xfrm flipH="1">
            <a:off x="2928240" y="4155840"/>
            <a:ext cx="113004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51"/>
          <p:cNvCxnSpPr>
            <a:endCxn id="106" idx="5"/>
          </p:cNvCxnSpPr>
          <p:nvPr/>
        </p:nvCxnSpPr>
        <p:spPr>
          <a:xfrm flipH="1" flipV="1">
            <a:off x="1812240" y="4384080"/>
            <a:ext cx="259560" cy="47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54"/>
          <p:cNvCxnSpPr>
            <a:stCxn id="89" idx="3"/>
          </p:cNvCxnSpPr>
          <p:nvPr/>
        </p:nvCxnSpPr>
        <p:spPr>
          <a:xfrm flipH="1">
            <a:off x="1428120" y="5689080"/>
            <a:ext cx="59652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08000" y="1214280"/>
            <a:ext cx="88948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571680" y="428760"/>
            <a:ext cx="8070840" cy="60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3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симальный уровень безработицы приходится на молодых людей от 15 до 19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й уровень безработицы в сельской местности почти в 2 раза больше чем в го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зработной молодежи от 15 до 19 лет в городах почти в 2 раза больше чем в сельской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вень безработицы среди молодежи (до 30 лет) в городе в 5 раз больше чем среди людей зрелого возраста, а в селе больше лишь в 2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7324560" cy="67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131760" y="714240"/>
            <a:ext cx="891684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38160" y="142920"/>
            <a:ext cx="8697960" cy="671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иЛ</cp:lastModifiedBy>
  <dcterms:modified xsi:type="dcterms:W3CDTF">2016-04-17T19:13:51Z</dcterms:modified>
  <cp:revision>2</cp:revision>
  <dc:subject/>
  <dc:title>Слайд 1</dc:title>
</cp:coreProperties>
</file>