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4.png" ContentType="image/png"/>
  <Override PartName="/ppt/media/image11.jpeg" ContentType="image/jpeg"/>
  <Override PartName="/ppt/media/image21.png" ContentType="image/png"/>
  <Override PartName="/ppt/media/image8.jpeg" ContentType="image/jpeg"/>
  <Override PartName="/ppt/media/image29.jpeg" ContentType="image/jpeg"/>
  <Override PartName="/ppt/media/image13.jpeg" ContentType="image/jpeg"/>
  <Override PartName="/ppt/media/image23.png" ContentType="image/pn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20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3682-6AB7-4C62-B809-7C449590C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CF8B-C296-4C01-969E-E7E4A2F3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0C16-FE8C-4BA2-863F-31BF87DCC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C3F9-0483-4879-9CDC-3B6BC04D3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CAAC-612A-42BD-8DF0-C032AC0D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EC73-EF67-4BCD-9616-6D92BE0E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64E9-6686-405B-9838-9D65C3E7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6786-19CD-4008-A944-D089E34A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8FA8-EDF2-4881-B5EA-6E1DB881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A58D-6A20-49C8-88DA-FC6C6D2B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2D1D-AC1D-41B3-A69A-5A229599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0523-FC4D-4BA9-91C6-E7BE6D6D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504C-229A-4652-8026-7E9D61867A2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1472400" y="181080"/>
            <a:ext cx="668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дошкольное бюджетное образовательное учрежд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й сад №49 «Веселые нотки, 4 корпус (д/с «Олеся»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9"/>
          <p:cNvSpPr/>
          <p:nvPr/>
        </p:nvSpPr>
        <p:spPr>
          <a:xfrm>
            <a:off x="4729320" y="5334120"/>
            <a:ext cx="427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- Тришина Юлия Юрьев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1"/>
          <p:cNvSpPr/>
          <p:nvPr/>
        </p:nvSpPr>
        <p:spPr>
          <a:xfrm>
            <a:off x="4495680" y="3243240"/>
            <a:ext cx="41324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Calibri"/>
              </a:rPr>
              <a:t>Девиз проекта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"/>
                <a:ea typeface="Calibri"/>
              </a:rPr>
              <a:t>«Сбереги, дай вырасти — и ты станешь богаче не только лесами, лугами, но и душой». 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4" descr=""/>
          <p:cNvPicPr/>
          <p:nvPr/>
        </p:nvPicPr>
        <p:blipFill>
          <a:blip r:embed="rId1"/>
          <a:stretch/>
        </p:blipFill>
        <p:spPr>
          <a:xfrm>
            <a:off x="7254720" y="620640"/>
            <a:ext cx="1752840" cy="119232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9"/>
          <p:cNvSpPr/>
          <p:nvPr/>
        </p:nvSpPr>
        <p:spPr>
          <a:xfrm>
            <a:off x="4986360" y="6172200"/>
            <a:ext cx="18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ятти, 2016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11"/>
          <p:cNvSpPr txBox="1"/>
          <p:nvPr/>
        </p:nvSpPr>
        <p:spPr>
          <a:xfrm>
            <a:off x="1009800" y="1849320"/>
            <a:ext cx="6781680" cy="114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«Первоцветы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Прямоугольник 4"/>
          <p:cNvSpPr/>
          <p:nvPr/>
        </p:nvSpPr>
        <p:spPr>
          <a:xfrm>
            <a:off x="1029960" y="765000"/>
            <a:ext cx="538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участии в городской а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ах экологического проекта «Экомарафон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14" descr=""/>
          <p:cNvPicPr/>
          <p:nvPr/>
        </p:nvPicPr>
        <p:blipFill>
          <a:blip r:embed="rId2"/>
          <a:srcRect l="5678" t="22225" r="1089" b="14446"/>
          <a:stretch/>
        </p:blipFill>
        <p:spPr>
          <a:xfrm>
            <a:off x="533520" y="3105000"/>
            <a:ext cx="373356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5943600" cy="525780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2"/>
          <p:cNvSpPr/>
          <p:nvPr/>
        </p:nvSpPr>
        <p:spPr>
          <a:xfrm>
            <a:off x="533520" y="30492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вместно с родителями провели акцию  на входе на территорию детского са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2"/>
          <a:stretch/>
        </p:blipFill>
        <p:spPr>
          <a:xfrm rot="322200">
            <a:off x="7113240" y="3855960"/>
            <a:ext cx="1754280" cy="278928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4" descr=""/>
          <p:cNvPicPr/>
          <p:nvPr/>
        </p:nvPicPr>
        <p:blipFill>
          <a:blip r:embed="rId3"/>
          <a:stretch/>
        </p:blipFill>
        <p:spPr>
          <a:xfrm rot="10195200">
            <a:off x="358560" y="672480"/>
            <a:ext cx="198252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228600" y="152280"/>
            <a:ext cx="868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оследний день акции по дороге домой родители с детьми расклеивали запрещающие знаки «Нельзя рвать первоцветы» на столбах близко расположенных остановок, рассказывали прохожим о том, что нельзя рвать первоцветы, раздавали запрещающие знаки в социально значимых местах по улице Мира города Тольятти (у сберегательного банка, на остановках, у торговых центров и магазинов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3" descr=""/>
          <p:cNvPicPr/>
          <p:nvPr/>
        </p:nvPicPr>
        <p:blipFill>
          <a:blip r:embed="rId1"/>
          <a:stretch/>
        </p:blipFill>
        <p:spPr>
          <a:xfrm>
            <a:off x="2076480" y="1603440"/>
            <a:ext cx="2116080" cy="26366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"/>
          <p:cNvPicPr/>
          <p:nvPr/>
        </p:nvPicPr>
        <p:blipFill>
          <a:blip r:embed="rId2"/>
          <a:stretch/>
        </p:blipFill>
        <p:spPr>
          <a:xfrm>
            <a:off x="173160" y="4343400"/>
            <a:ext cx="2568600" cy="24382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2" descr=""/>
          <p:cNvPicPr/>
          <p:nvPr/>
        </p:nvPicPr>
        <p:blipFill>
          <a:blip r:embed="rId3"/>
          <a:stretch/>
        </p:blipFill>
        <p:spPr>
          <a:xfrm>
            <a:off x="3068640" y="4343400"/>
            <a:ext cx="2984400" cy="24382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5" descr=""/>
          <p:cNvPicPr/>
          <p:nvPr/>
        </p:nvPicPr>
        <p:blipFill>
          <a:blip r:embed="rId4"/>
          <a:srcRect l="38147" t="1113" r="0" b="0"/>
          <a:stretch/>
        </p:blipFill>
        <p:spPr>
          <a:xfrm>
            <a:off x="457200" y="1606680"/>
            <a:ext cx="1384200" cy="25873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6" descr=""/>
          <p:cNvPicPr/>
          <p:nvPr/>
        </p:nvPicPr>
        <p:blipFill>
          <a:blip r:embed="rId5"/>
          <a:stretch/>
        </p:blipFill>
        <p:spPr>
          <a:xfrm>
            <a:off x="4560840" y="1612800"/>
            <a:ext cx="1515960" cy="261324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7"/>
          <p:cNvSpPr/>
          <p:nvPr/>
        </p:nvSpPr>
        <p:spPr>
          <a:xfrm>
            <a:off x="6313320" y="2111400"/>
            <a:ext cx="2752920" cy="16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рожане с интересом отнеслись к нашей акции и многие приклеивали наши знаки на стекло своих маш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8" descr=""/>
          <p:cNvPicPr/>
          <p:nvPr/>
        </p:nvPicPr>
        <p:blipFill>
          <a:blip r:embed="rId6"/>
          <a:srcRect l="0" t="10490" r="1801" b="0"/>
          <a:stretch/>
        </p:blipFill>
        <p:spPr>
          <a:xfrm>
            <a:off x="6269040" y="3827520"/>
            <a:ext cx="279072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3"/>
          <p:cNvSpPr/>
          <p:nvPr/>
        </p:nvSpPr>
        <p:spPr>
          <a:xfrm>
            <a:off x="76320" y="457200"/>
            <a:ext cx="60958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ия получилась познавательным для всех его участников, в том числе для педагогов. Знания, умения, навыки, которые дети получили в ходе акции, станут основой для формирования у них экологического грамотного поведения, бережного и эмоционального отношения к природе, желания сохранить природу. Дошкольники, участвуя в акции, почувствовали, что к их мнению и инициативам взрослые относятся серьёзно и с пониманием. Благодаря акции   у всех участников появилось много новых идей. А самое главное дети и взрослые поняли, что сберечь природу можно только общими усилиями всех горожан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3"/>
          <p:cNvSpPr/>
          <p:nvPr/>
        </p:nvSpPr>
        <p:spPr>
          <a:xfrm>
            <a:off x="2752200" y="0"/>
            <a:ext cx="320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вод по ак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6"/>
          <p:cNvSpPr/>
          <p:nvPr/>
        </p:nvSpPr>
        <p:spPr>
          <a:xfrm>
            <a:off x="4114800" y="3129120"/>
            <a:ext cx="5181480" cy="37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«...Вот букет, он брошен вместе с сор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ирают, сжавшись, лепест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о мы срываем без разбо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жные, тугие стебель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чем мы рвали их – не знаю?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Быстро вянет первоцв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усто, скучно стало на полян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стников весны там больше н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чень просто губить жив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дь не могут же цветы сказа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«Наслаждайтесь нашей красотою,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лько очень просим нас не рвать…»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7" descr=""/>
          <p:cNvPicPr/>
          <p:nvPr/>
        </p:nvPicPr>
        <p:blipFill>
          <a:blip r:embed="rId1"/>
          <a:srcRect l="3045" t="7500" r="25333" b="-2492"/>
          <a:stretch/>
        </p:blipFill>
        <p:spPr>
          <a:xfrm>
            <a:off x="723960" y="3129120"/>
            <a:ext cx="4038480" cy="33526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8" descr=""/>
          <p:cNvPicPr/>
          <p:nvPr/>
        </p:nvPicPr>
        <p:blipFill>
          <a:blip r:embed="rId2"/>
          <a:stretch/>
        </p:blipFill>
        <p:spPr>
          <a:xfrm>
            <a:off x="6140520" y="152280"/>
            <a:ext cx="289548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1143000" y="685800"/>
            <a:ext cx="7010280" cy="15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Impact"/>
              <a:ea typeface="Impact"/>
            </a:endParaRPr>
          </a:p>
        </p:txBody>
      </p:sp>
      <p:pic>
        <p:nvPicPr>
          <p:cNvPr id="109" name="Рисунок 6" descr=""/>
          <p:cNvPicPr/>
          <p:nvPr/>
        </p:nvPicPr>
        <p:blipFill>
          <a:blip r:embed="rId1"/>
          <a:stretch/>
        </p:blipFill>
        <p:spPr>
          <a:xfrm>
            <a:off x="2971800" y="2284560"/>
            <a:ext cx="3124080" cy="43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3"/>
          <p:cNvSpPr/>
          <p:nvPr/>
        </p:nvSpPr>
        <p:spPr>
          <a:xfrm>
            <a:off x="1676520" y="77760"/>
            <a:ext cx="513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зитная карточка а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217440" y="1190520"/>
            <a:ext cx="79218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ворческое  название акции :  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воцвет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  <a:ea typeface="Calibri"/>
              </a:rPr>
              <a:t>Девиз проекта : </a:t>
            </a:r>
            <a:r>
              <a:rPr b="1" i="1" lang="ru-RU" sz="1800" spc="-1" strike="noStrike">
                <a:solidFill>
                  <a:srgbClr val="002060"/>
                </a:solidFill>
                <a:latin typeface="Calibri"/>
                <a:ea typeface="Calibri"/>
              </a:rPr>
              <a:t>«Сбереги, дай вырасти — и ты станешь богаче не только лесами, лугами, но и душой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"/>
          <p:cNvSpPr/>
          <p:nvPr/>
        </p:nvSpPr>
        <p:spPr>
          <a:xfrm>
            <a:off x="2954160" y="2118960"/>
            <a:ext cx="58928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Тип акции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зовательная, практико- информационная, ориентирован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д 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краткосроч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ъект исследова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: первоцве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мет проекта 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овместная деятельность родителей  с детьми и воспитателями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матическое поле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«Экологическое воспитани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Методы  :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бор информации из книг, ресурсов Интерне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ализ, сравнение, обобщение и наблюд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Длительность работы над исследованием: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рт- апрел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ники проекта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питанники средней группы «Б» «Почемучки», родители, воспитател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0"/>
          <p:cNvSpPr/>
          <p:nvPr/>
        </p:nvSpPr>
        <p:spPr>
          <a:xfrm>
            <a:off x="217440" y="793800"/>
            <a:ext cx="840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ая тема городского проекта   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Экомарафон 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0"/>
          <p:cNvSpPr/>
          <p:nvPr/>
        </p:nvSpPr>
        <p:spPr>
          <a:xfrm>
            <a:off x="1092240" y="6014880"/>
            <a:ext cx="775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проведения(заказчик)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арская область, город Тольятт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У детский сад №49 «Веселые нотки», 4 ,корпу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351000" y="2521080"/>
            <a:ext cx="239688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3"/>
          <p:cNvSpPr/>
          <p:nvPr/>
        </p:nvSpPr>
        <p:spPr>
          <a:xfrm>
            <a:off x="3817800" y="3276720"/>
            <a:ext cx="5160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 акции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влечение воспитанников и родителей в общественно значимую природоохранную деятельность, способствующую формированию активной гражданской позиции подрастающего покол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380880" y="228600"/>
            <a:ext cx="815364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туальность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временная экологическая ситуация указывает нам всем на результаты неразумной, безответственной деятельности людей по отношению к природе, поэтому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ует научить детей беречь природу, не срывать первых цветов и объяснить детям, что не следует нести из леса букеты подснежников, ландышей, так как срывая их мы нарушаем экологическую цепочку природы, губим целые естественные плант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7" descr=""/>
          <p:cNvPicPr/>
          <p:nvPr/>
        </p:nvPicPr>
        <p:blipFill>
          <a:blip r:embed="rId1"/>
          <a:stretch/>
        </p:blipFill>
        <p:spPr>
          <a:xfrm>
            <a:off x="398520" y="2743200"/>
            <a:ext cx="33782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4"/>
          <p:cNvSpPr/>
          <p:nvPr/>
        </p:nvSpPr>
        <p:spPr>
          <a:xfrm>
            <a:off x="457200" y="1143000"/>
            <a:ext cx="28195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я сорву цветок,                                                                                                          Если ты сорвешь цветок,                                                                                                         Если все: и я, и ты,                                                                                                        Если мы сорвем цветы,                                                                                                         Опустеют все поляны                                                                                                       И не будет крас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5" descr=""/>
          <p:cNvPicPr/>
          <p:nvPr/>
        </p:nvPicPr>
        <p:blipFill>
          <a:blip r:embed="rId1"/>
          <a:srcRect l="10742" t="0" r="0" b="0"/>
          <a:stretch/>
        </p:blipFill>
        <p:spPr>
          <a:xfrm>
            <a:off x="3429000" y="152280"/>
            <a:ext cx="5443560" cy="445788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9"/>
          <p:cNvSpPr/>
          <p:nvPr/>
        </p:nvSpPr>
        <p:spPr>
          <a:xfrm>
            <a:off x="762120" y="5105520"/>
            <a:ext cx="811044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«Потомки никогда не простят нам опустошения земли, надругательства над тем, что по праву принадлежит не только нам, но и им…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.И. Чайков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304920" y="152280"/>
            <a:ext cx="8683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рамках акции мы провели ряд бесед на тему «Первоцветы». Прочитали детям художественную литературу , познакомились с устным народным творчеством (загадки, поговорки, пословицы) о весне и первоцвет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3" descr=""/>
          <p:cNvPicPr/>
          <p:nvPr/>
        </p:nvPicPr>
        <p:blipFill>
          <a:blip r:embed="rId1"/>
          <a:stretch/>
        </p:blipFill>
        <p:spPr>
          <a:xfrm>
            <a:off x="4952880" y="1063800"/>
            <a:ext cx="3900600" cy="289548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" descr=""/>
          <p:cNvPicPr/>
          <p:nvPr/>
        </p:nvPicPr>
        <p:blipFill>
          <a:blip r:embed="rId2"/>
          <a:stretch/>
        </p:blipFill>
        <p:spPr>
          <a:xfrm>
            <a:off x="328680" y="1063800"/>
            <a:ext cx="3900600" cy="28936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6" descr=""/>
          <p:cNvPicPr/>
          <p:nvPr/>
        </p:nvPicPr>
        <p:blipFill>
          <a:blip r:embed="rId3"/>
          <a:stretch/>
        </p:blipFill>
        <p:spPr>
          <a:xfrm>
            <a:off x="533520" y="4267080"/>
            <a:ext cx="2400120" cy="235296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7"/>
          <p:cNvSpPr/>
          <p:nvPr/>
        </p:nvSpPr>
        <p:spPr>
          <a:xfrm>
            <a:off x="3154320" y="48690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знакомили детей с   Красной книгой, где записано: «</a:t>
            </a: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Не истреби, не сорви, не затопчи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8"/>
          <p:cNvSpPr/>
          <p:nvPr/>
        </p:nvSpPr>
        <p:spPr>
          <a:xfrm>
            <a:off x="3154320" y="5695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и слова звучат, словно наказ людя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«Сбереги, дай вырасти — и ты станешь богаче не только лесами, лугами, но и душ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1910160" y="27000"/>
            <a:ext cx="28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Пословицы и погово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345960" y="426960"/>
            <a:ext cx="64008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рт – водой, апрель — с травой, а май — с цвет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природу губит, тот свой народ не люб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г природы тот, кто лес не бережё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3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3708360" cy="533412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4"/>
          <p:cNvSpPr/>
          <p:nvPr/>
        </p:nvSpPr>
        <p:spPr>
          <a:xfrm>
            <a:off x="6099120" y="195732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Загад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6"/>
          <p:cNvSpPr/>
          <p:nvPr/>
        </p:nvSpPr>
        <p:spPr>
          <a:xfrm>
            <a:off x="5638680" y="2362320"/>
            <a:ext cx="281952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лесной проталинк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рос цветик маленьк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ячется в валежни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ленький …(подснежник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8"/>
          <p:cNvSpPr/>
          <p:nvPr/>
        </p:nvSpPr>
        <p:spPr>
          <a:xfrm>
            <a:off x="5659560" y="4191120"/>
            <a:ext cx="2819160" cy="17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тропинке, словно лъдинк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лоснежные цве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А от взглядов у тропи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крывают их листки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ландыш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9" descr=""/>
          <p:cNvPicPr/>
          <p:nvPr/>
        </p:nvPicPr>
        <p:blipFill>
          <a:blip r:embed="rId2"/>
          <a:stretch/>
        </p:blipFill>
        <p:spPr>
          <a:xfrm>
            <a:off x="7161120" y="345960"/>
            <a:ext cx="154476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2" descr=""/>
          <p:cNvPicPr/>
          <p:nvPr/>
        </p:nvPicPr>
        <p:blipFill>
          <a:blip r:embed="rId1"/>
          <a:stretch/>
        </p:blipFill>
        <p:spPr>
          <a:xfrm>
            <a:off x="304920" y="612720"/>
            <a:ext cx="3151080" cy="36576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3"/>
          <p:cNvSpPr/>
          <p:nvPr/>
        </p:nvSpPr>
        <p:spPr>
          <a:xfrm>
            <a:off x="685800" y="2286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лись с запрещающим знаком «Нельзя рвать первоцвет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4" descr=""/>
          <p:cNvPicPr/>
          <p:nvPr/>
        </p:nvPicPr>
        <p:blipFill>
          <a:blip r:embed="rId2"/>
          <a:stretch/>
        </p:blipFill>
        <p:spPr>
          <a:xfrm>
            <a:off x="3962520" y="612720"/>
            <a:ext cx="4722840" cy="36576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"/>
          <p:cNvPicPr/>
          <p:nvPr/>
        </p:nvPicPr>
        <p:blipFill>
          <a:blip r:embed="rId3"/>
          <a:stretch/>
        </p:blipFill>
        <p:spPr>
          <a:xfrm>
            <a:off x="685800" y="4441680"/>
            <a:ext cx="3429000" cy="23400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6" descr=""/>
          <p:cNvPicPr/>
          <p:nvPr/>
        </p:nvPicPr>
        <p:blipFill>
          <a:blip r:embed="rId4"/>
          <a:stretch/>
        </p:blipFill>
        <p:spPr>
          <a:xfrm>
            <a:off x="4591080" y="4441680"/>
            <a:ext cx="342900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3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"/>
          <p:cNvPicPr/>
          <p:nvPr/>
        </p:nvPicPr>
        <p:blipFill>
          <a:blip r:embed="rId2"/>
          <a:stretch/>
        </p:blipFill>
        <p:spPr>
          <a:xfrm>
            <a:off x="4572000" y="3443400"/>
            <a:ext cx="4495680" cy="337176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5"/>
          <p:cNvSpPr/>
          <p:nvPr/>
        </p:nvSpPr>
        <p:spPr>
          <a:xfrm>
            <a:off x="4800600" y="412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ли ОД по изобразительной деятельности «Весенние цветочки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228600" y="3962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ли акцию «Берегите природ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 детьми в групп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7" descr=""/>
          <p:cNvPicPr/>
          <p:nvPr/>
        </p:nvPicPr>
        <p:blipFill>
          <a:blip r:embed="rId3"/>
          <a:stretch/>
        </p:blipFill>
        <p:spPr>
          <a:xfrm rot="1312800">
            <a:off x="5916240" y="1550880"/>
            <a:ext cx="1650960" cy="14004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8" descr=""/>
          <p:cNvPicPr/>
          <p:nvPr/>
        </p:nvPicPr>
        <p:blipFill>
          <a:blip r:embed="rId4"/>
          <a:stretch/>
        </p:blipFill>
        <p:spPr>
          <a:xfrm rot="18619200">
            <a:off x="1539720" y="4859280"/>
            <a:ext cx="165096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2" descr=""/>
          <p:cNvPicPr/>
          <p:nvPr/>
        </p:nvPicPr>
        <p:blipFill>
          <a:blip r:embed="rId1"/>
          <a:stretch/>
        </p:blipFill>
        <p:spPr>
          <a:xfrm>
            <a:off x="4403880" y="3395520"/>
            <a:ext cx="4467240" cy="333396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4"/>
          <p:cNvSpPr/>
          <p:nvPr/>
        </p:nvSpPr>
        <p:spPr>
          <a:xfrm>
            <a:off x="4640400" y="1143000"/>
            <a:ext cx="3954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рамках кружковой работы по дополнительной образовательной деятельности художественной эстетической направленности провели ОД, изготовили листов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аппликация «Береги природу»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1" descr=""/>
          <p:cNvPicPr/>
          <p:nvPr/>
        </p:nvPicPr>
        <p:blipFill>
          <a:blip r:embed="rId2"/>
          <a:stretch/>
        </p:blipFill>
        <p:spPr>
          <a:xfrm>
            <a:off x="149400" y="152280"/>
            <a:ext cx="4254480" cy="324324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5"/>
          <p:cNvSpPr/>
          <p:nvPr/>
        </p:nvSpPr>
        <p:spPr>
          <a:xfrm>
            <a:off x="263520" y="3852720"/>
            <a:ext cx="41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ли акцию «Берегите природ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 детьми в рамках кружковой рабо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6" descr=""/>
          <p:cNvPicPr/>
          <p:nvPr/>
        </p:nvPicPr>
        <p:blipFill>
          <a:blip r:embed="rId3"/>
          <a:srcRect l="-101" t="3909" r="46720" b="-6928"/>
          <a:stretch/>
        </p:blipFill>
        <p:spPr>
          <a:xfrm>
            <a:off x="1322280" y="4657680"/>
            <a:ext cx="1908360" cy="20066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7" descr=""/>
          <p:cNvPicPr/>
          <p:nvPr/>
        </p:nvPicPr>
        <p:blipFill>
          <a:blip r:embed="rId4"/>
          <a:srcRect l="50307" t="13695" r="0" b="0"/>
          <a:stretch/>
        </p:blipFill>
        <p:spPr>
          <a:xfrm>
            <a:off x="7162920" y="-304920"/>
            <a:ext cx="177624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6-04-17T06:33:58Z</dcterms:modified>
  <cp:revision>2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