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png" ContentType="image/png"/>
  <Override PartName="/ppt/media/image11.jpeg" ContentType="image/jpeg"/>
  <Override PartName="/ppt/media/image21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A25-1CF1-485F-8110-3F6387E1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1C2-ACB1-4237-BAB2-F36EE1D3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F4E-21E0-4F20-BD80-4000C13AE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BFF-FA38-4202-8C47-95FED244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F3E-9EB2-46EA-927C-54341DA9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E332-7CF3-41F7-BC7E-9F0012F2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6B27-1176-4E05-B5B8-C9FE86BB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185-8792-425F-8035-D9156607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4309-1B1C-4843-A67B-1CD3635D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176-1FFD-4B18-9EE6-D0D34E39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4E5-BDFF-4E08-847C-93CDE969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9FB-892E-481A-AD49-E60BCB35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51E7-C216-47DA-B372-17A5504549B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4"/>
          <p:cNvSpPr/>
          <p:nvPr/>
        </p:nvSpPr>
        <p:spPr>
          <a:xfrm>
            <a:off x="1472400" y="181080"/>
            <a:ext cx="66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дошкольное бюджет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№49 «Веселые нотки, 4 корпус (д/с «Олеся»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9"/>
          <p:cNvSpPr/>
          <p:nvPr/>
        </p:nvSpPr>
        <p:spPr>
          <a:xfrm>
            <a:off x="4729320" y="5334120"/>
            <a:ext cx="42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- Тришина Юлия Юрье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4495680" y="3243240"/>
            <a:ext cx="41324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Calibri"/>
              </a:rPr>
              <a:t>Девиз проекта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«Сбереги, дай вырасти — и ты станешь богаче не только лесами, лугами, но и душой».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"/>
          <p:cNvPicPr/>
          <p:nvPr/>
        </p:nvPicPr>
        <p:blipFill>
          <a:blip r:embed="rId1"/>
          <a:stretch/>
        </p:blipFill>
        <p:spPr>
          <a:xfrm>
            <a:off x="7254720" y="620640"/>
            <a:ext cx="1752840" cy="11923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9"/>
          <p:cNvSpPr/>
          <p:nvPr/>
        </p:nvSpPr>
        <p:spPr>
          <a:xfrm>
            <a:off x="4986360" y="6172200"/>
            <a:ext cx="18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ятти, 201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11"/>
          <p:cNvSpPr txBox="1"/>
          <p:nvPr/>
        </p:nvSpPr>
        <p:spPr>
          <a:xfrm>
            <a:off x="1009800" y="1849320"/>
            <a:ext cx="6781680" cy="114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«Первоцветы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7" name="Прямоугольник 4"/>
          <p:cNvSpPr/>
          <p:nvPr/>
        </p:nvSpPr>
        <p:spPr>
          <a:xfrm>
            <a:off x="1029960" y="765000"/>
            <a:ext cx="538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частии в городской 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экологического проекта «Экомарафон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4" descr=""/>
          <p:cNvPicPr/>
          <p:nvPr/>
        </p:nvPicPr>
        <p:blipFill>
          <a:blip r:embed="rId2"/>
          <a:srcRect l="5678" t="22225" r="1089" b="14446"/>
          <a:stretch/>
        </p:blipFill>
        <p:spPr>
          <a:xfrm>
            <a:off x="533520" y="3105000"/>
            <a:ext cx="373356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43600" cy="5257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2"/>
          <p:cNvSpPr/>
          <p:nvPr/>
        </p:nvSpPr>
        <p:spPr>
          <a:xfrm>
            <a:off x="533520" y="30492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местно с родителями провели акцию  на входе на территорию детского са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2"/>
          <a:stretch/>
        </p:blipFill>
        <p:spPr>
          <a:xfrm rot="322200">
            <a:off x="7113240" y="3855960"/>
            <a:ext cx="1754280" cy="27892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"/>
          <p:cNvPicPr/>
          <p:nvPr/>
        </p:nvPicPr>
        <p:blipFill>
          <a:blip r:embed="rId3"/>
          <a:stretch/>
        </p:blipFill>
        <p:spPr>
          <a:xfrm rot="10195200">
            <a:off x="358560" y="672480"/>
            <a:ext cx="19825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28600" y="152280"/>
            <a:ext cx="868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последний день акции по дороге домой родители с детьми расклеивали запрещающие знаки «Нельзя рвать первоцветы» на столбах близко расположенных остановок, рассказывали прохожим о том, что нельзя рвать первоцветы, раздавали запрещающие знаки в социально значимых местах по улице Мира города Тольятти (у сберегательного банка, на остановках, у торговых центров и магазинов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1"/>
          <a:stretch/>
        </p:blipFill>
        <p:spPr>
          <a:xfrm>
            <a:off x="2076480" y="1603440"/>
            <a:ext cx="2116080" cy="2636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2"/>
          <a:stretch/>
        </p:blipFill>
        <p:spPr>
          <a:xfrm>
            <a:off x="173160" y="4343400"/>
            <a:ext cx="2568600" cy="24382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"/>
          <p:cNvPicPr/>
          <p:nvPr/>
        </p:nvPicPr>
        <p:blipFill>
          <a:blip r:embed="rId3"/>
          <a:stretch/>
        </p:blipFill>
        <p:spPr>
          <a:xfrm>
            <a:off x="3068640" y="4343400"/>
            <a:ext cx="298440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5" descr=""/>
          <p:cNvPicPr/>
          <p:nvPr/>
        </p:nvPicPr>
        <p:blipFill>
          <a:blip r:embed="rId4"/>
          <a:srcRect l="38147" t="1113" r="0" b="0"/>
          <a:stretch/>
        </p:blipFill>
        <p:spPr>
          <a:xfrm>
            <a:off x="457200" y="1606680"/>
            <a:ext cx="1384200" cy="25873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5"/>
          <a:stretch/>
        </p:blipFill>
        <p:spPr>
          <a:xfrm>
            <a:off x="4560840" y="1612800"/>
            <a:ext cx="1515960" cy="26132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7"/>
          <p:cNvSpPr/>
          <p:nvPr/>
        </p:nvSpPr>
        <p:spPr>
          <a:xfrm>
            <a:off x="6313320" y="2111400"/>
            <a:ext cx="275292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рожане с интересом отнеслись к нашей акции и многие приклеивали наши знаки на стекло своих ма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Рисунок 8" descr=""/>
          <p:cNvPicPr/>
          <p:nvPr/>
        </p:nvPicPr>
        <p:blipFill>
          <a:blip r:embed="rId6"/>
          <a:srcRect l="0" t="10490" r="1801" b="0"/>
          <a:stretch/>
        </p:blipFill>
        <p:spPr>
          <a:xfrm>
            <a:off x="6269040" y="3827520"/>
            <a:ext cx="279072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76320" y="457200"/>
            <a:ext cx="60958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я получилась познавательным для всех его участников, в том числе для педагогов. Знания, умения, навыки, которые дети получили в ходе акции, станут основой для формирования у них экологического грамотного поведения, бережного и эмоционального отношения к природе, желания сохранить природу. Дошкольники, участвуя в акции, почувствовали, что к их мнению и инициативам взрослые относятся серьёзно и с пониманием. Благодаря акции   у всех участников появилось много новых идей. А самое главное дети и взрослые поняли, что сберечь природу можно только общими усилиями всех горожан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2752200" y="0"/>
            <a:ext cx="320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 по ак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4114800" y="3129120"/>
            <a:ext cx="518148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...Вот букет, он брошен вместе с сор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ирают, сжавшись, лепест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о мы срываем без разбор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жные, тугие стебель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чем мы рвали их – не знаю?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стро вянет первоцв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о, скучно стало на поляне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стников весны там больше не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чень просто губить жив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едь не могут же цветы сказа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«Наслаждайтесь нашей красотою,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лько очень просим нас не рвать…»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7" descr=""/>
          <p:cNvPicPr/>
          <p:nvPr/>
        </p:nvPicPr>
        <p:blipFill>
          <a:blip r:embed="rId1"/>
          <a:srcRect l="3045" t="7500" r="25333" b="-2492"/>
          <a:stretch/>
        </p:blipFill>
        <p:spPr>
          <a:xfrm>
            <a:off x="723960" y="3129120"/>
            <a:ext cx="4038480" cy="33526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8" descr=""/>
          <p:cNvPicPr/>
          <p:nvPr/>
        </p:nvPicPr>
        <p:blipFill>
          <a:blip r:embed="rId2"/>
          <a:stretch/>
        </p:blipFill>
        <p:spPr>
          <a:xfrm>
            <a:off x="6140520" y="152280"/>
            <a:ext cx="289548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43000" y="685800"/>
            <a:ext cx="7010280" cy="15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Impact"/>
              <a:ea typeface="Impact"/>
            </a:endParaRPr>
          </a:p>
        </p:txBody>
      </p:sp>
      <p:pic>
        <p:nvPicPr>
          <p:cNvPr id="109" name="Рисунок 6" descr=""/>
          <p:cNvPicPr/>
          <p:nvPr/>
        </p:nvPicPr>
        <p:blipFill>
          <a:blip r:embed="rId1"/>
          <a:stretch/>
        </p:blipFill>
        <p:spPr>
          <a:xfrm>
            <a:off x="2971800" y="2284560"/>
            <a:ext cx="312408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1676520" y="77760"/>
            <a:ext cx="513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зитная карточка а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4"/>
          <p:cNvSpPr/>
          <p:nvPr/>
        </p:nvSpPr>
        <p:spPr>
          <a:xfrm>
            <a:off x="217440" y="1190520"/>
            <a:ext cx="79218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кое  название акции : 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цве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26"/>
                </a:solidFill>
                <a:latin typeface="Times New Roman"/>
                <a:ea typeface="Calibri"/>
              </a:rPr>
              <a:t>Девиз проекта : </a:t>
            </a:r>
            <a:r>
              <a:rPr b="1" i="1" lang="ru-RU" sz="1800" spc="-1" strike="noStrike">
                <a:solidFill>
                  <a:srgbClr val="002060"/>
                </a:solidFill>
                <a:latin typeface="Calibri"/>
                <a:ea typeface="Calibri"/>
              </a:rPr>
              <a:t>«Сбереги, дай вырасти — и ты станешь богаче не только лесами, лугами, но и душ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2954160" y="2118960"/>
            <a:ext cx="58928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ип акци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разовательная, практико- информационная, ориентирован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ид 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краткосроч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ъект исследов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: первоцв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мет проекта 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овместная деятельность родителей  с детьми и воспитателям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ематическое поле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«Экологическое воспитани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тоды  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бор информации из книг, ресурсов Интерн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лиз, сравнение, обобщение и наблю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Длительность работы над исследованием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рт- апр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 проекта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питанники средней группы «Б» «Почемучки», родители, воспит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217440" y="793800"/>
            <a:ext cx="84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тема городского проекта   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омарафон 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0"/>
          <p:cNvSpPr/>
          <p:nvPr/>
        </p:nvSpPr>
        <p:spPr>
          <a:xfrm>
            <a:off x="1092240" y="6014880"/>
            <a:ext cx="775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(заказчик)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рская область, город Тольят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 детский сад №49 «Веселые нотки», 4 ,корпу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351000" y="2521080"/>
            <a:ext cx="239688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3817800" y="3276720"/>
            <a:ext cx="5160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акци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влечение воспитанников и родителей в общественно значимую природоохранную деятельность, способствующую формированию активной гражданской позиции подрастающего поко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380880" y="228600"/>
            <a:ext cx="81536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временная экологическая ситуация указывает нам всем на результаты неразумной, безответственной деятельности людей по отношению к природе, поэтом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ет научить детей беречь природу, не срывать первых цветов и объяснить детям, что не следует нести из леса букеты подснежников, ландышей, так как срывая их мы нарушаем экологическую цепочку природы, губим целые естественные плант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"/>
          <p:cNvPicPr/>
          <p:nvPr/>
        </p:nvPicPr>
        <p:blipFill>
          <a:blip r:embed="rId1"/>
          <a:stretch/>
        </p:blipFill>
        <p:spPr>
          <a:xfrm>
            <a:off x="398520" y="2743200"/>
            <a:ext cx="33782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4"/>
          <p:cNvSpPr/>
          <p:nvPr/>
        </p:nvSpPr>
        <p:spPr>
          <a:xfrm>
            <a:off x="457200" y="1143000"/>
            <a:ext cx="2819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я сорву цветок,                                                                                                          Если ты сорвешь цветок,                                                                                                         Если все: и я, и ты,                                                                                                        Если мы сорвем цветы,                                                                                                         Опустеют все поляны                                                                                                       И не будет крас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5" descr=""/>
          <p:cNvPicPr/>
          <p:nvPr/>
        </p:nvPicPr>
        <p:blipFill>
          <a:blip r:embed="rId1"/>
          <a:srcRect l="10742" t="0" r="0" b="0"/>
          <a:stretch/>
        </p:blipFill>
        <p:spPr>
          <a:xfrm>
            <a:off x="3429000" y="152280"/>
            <a:ext cx="5443560" cy="445788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9"/>
          <p:cNvSpPr/>
          <p:nvPr/>
        </p:nvSpPr>
        <p:spPr>
          <a:xfrm>
            <a:off x="762120" y="5105520"/>
            <a:ext cx="811044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Times New Roman"/>
                <a:ea typeface="Calibri"/>
              </a:rPr>
              <a:t>«Потомки никогда не простят нам опустошения земли, надругательства над тем, что по праву принадлежит не только нам, но и им…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.И. Чайков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304920" y="152280"/>
            <a:ext cx="8683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 акции мы провели ряд бесед на тему «Первоцветы». Прочитали детям художественную литературу , познакомились с устным народным творчеством (загадки, поговорки, пословицы) о весне и первоцвета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4952880" y="1063800"/>
            <a:ext cx="390060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"/>
          <p:cNvPicPr/>
          <p:nvPr/>
        </p:nvPicPr>
        <p:blipFill>
          <a:blip r:embed="rId2"/>
          <a:stretch/>
        </p:blipFill>
        <p:spPr>
          <a:xfrm>
            <a:off x="328680" y="1063800"/>
            <a:ext cx="3900600" cy="28936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6" descr=""/>
          <p:cNvPicPr/>
          <p:nvPr/>
        </p:nvPicPr>
        <p:blipFill>
          <a:blip r:embed="rId3"/>
          <a:stretch/>
        </p:blipFill>
        <p:spPr>
          <a:xfrm>
            <a:off x="533520" y="4267080"/>
            <a:ext cx="2400120" cy="235296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7"/>
          <p:cNvSpPr/>
          <p:nvPr/>
        </p:nvSpPr>
        <p:spPr>
          <a:xfrm>
            <a:off x="3154320" y="48690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накомили детей с   Красной книгой, где записано: «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Не истреби, не сорви, не затопч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3154320" y="5695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Эти слова звучат, словно наказ людя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7030a0"/>
                </a:solidFill>
                <a:latin typeface="Times New Roman"/>
                <a:ea typeface="Calibri"/>
              </a:rPr>
              <a:t>«Сбереги, дай вырасти — и ты станешь богаче не только лесами, лугами, но и душ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910160" y="27000"/>
            <a:ext cx="285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словицы и поговор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345960" y="426960"/>
            <a:ext cx="640080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рт – водой, апрель — с травой, а май — с цве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природу губит, тот свой народ не люб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г природы тот, кто лес не береж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708360" cy="53341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4"/>
          <p:cNvSpPr/>
          <p:nvPr/>
        </p:nvSpPr>
        <p:spPr>
          <a:xfrm>
            <a:off x="6099120" y="195732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Calibri"/>
              </a:rPr>
              <a:t>Зага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5638680" y="2362320"/>
            <a:ext cx="28195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лесной проталин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рос цветик малень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ячется в валежн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енький …(подснежник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5659560" y="4191120"/>
            <a:ext cx="281916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тропинке, словно лъдинк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оснежные цвет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 от взглядов у тропи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крывают их листки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ландыш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9" descr=""/>
          <p:cNvPicPr/>
          <p:nvPr/>
        </p:nvPicPr>
        <p:blipFill>
          <a:blip r:embed="rId2"/>
          <a:stretch/>
        </p:blipFill>
        <p:spPr>
          <a:xfrm>
            <a:off x="7161120" y="345960"/>
            <a:ext cx="154476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304920" y="612720"/>
            <a:ext cx="3151080" cy="36576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685800" y="2286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лись с запрещающим знаком «Нельзя рвать первоцве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4" descr=""/>
          <p:cNvPicPr/>
          <p:nvPr/>
        </p:nvPicPr>
        <p:blipFill>
          <a:blip r:embed="rId2"/>
          <a:stretch/>
        </p:blipFill>
        <p:spPr>
          <a:xfrm>
            <a:off x="3962520" y="612720"/>
            <a:ext cx="4722840" cy="36576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/>
          <p:cNvPicPr/>
          <p:nvPr/>
        </p:nvPicPr>
        <p:blipFill>
          <a:blip r:embed="rId3"/>
          <a:stretch/>
        </p:blipFill>
        <p:spPr>
          <a:xfrm>
            <a:off x="685800" y="4441680"/>
            <a:ext cx="3429000" cy="2340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6" descr=""/>
          <p:cNvPicPr/>
          <p:nvPr/>
        </p:nvPicPr>
        <p:blipFill>
          <a:blip r:embed="rId4"/>
          <a:stretch/>
        </p:blipFill>
        <p:spPr>
          <a:xfrm>
            <a:off x="4591080" y="4441680"/>
            <a:ext cx="342900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3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"/>
          <p:cNvPicPr/>
          <p:nvPr/>
        </p:nvPicPr>
        <p:blipFill>
          <a:blip r:embed="rId2"/>
          <a:stretch/>
        </p:blipFill>
        <p:spPr>
          <a:xfrm>
            <a:off x="4572000" y="344340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5"/>
          <p:cNvSpPr/>
          <p:nvPr/>
        </p:nvSpPr>
        <p:spPr>
          <a:xfrm>
            <a:off x="4800600" y="412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ли ОД по изобразительной деятельности «Весенние цветочк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228600" y="39625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ли акцию «Берегите приро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детьми в групп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7" descr=""/>
          <p:cNvPicPr/>
          <p:nvPr/>
        </p:nvPicPr>
        <p:blipFill>
          <a:blip r:embed="rId3"/>
          <a:stretch/>
        </p:blipFill>
        <p:spPr>
          <a:xfrm rot="1312800">
            <a:off x="5916240" y="1550880"/>
            <a:ext cx="1650960" cy="14004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8" descr=""/>
          <p:cNvPicPr/>
          <p:nvPr/>
        </p:nvPicPr>
        <p:blipFill>
          <a:blip r:embed="rId4"/>
          <a:stretch/>
        </p:blipFill>
        <p:spPr>
          <a:xfrm rot="18619200">
            <a:off x="1539720" y="4859280"/>
            <a:ext cx="165096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4403880" y="3395520"/>
            <a:ext cx="4467240" cy="333396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4"/>
          <p:cNvSpPr/>
          <p:nvPr/>
        </p:nvSpPr>
        <p:spPr>
          <a:xfrm>
            <a:off x="4640400" y="1143000"/>
            <a:ext cx="3954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рамках кружковой работы по дополнительной образовательной деятельности художественной эстетической направленности провели ОД, изготовили лист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аппликация «Береги природу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" descr=""/>
          <p:cNvPicPr/>
          <p:nvPr/>
        </p:nvPicPr>
        <p:blipFill>
          <a:blip r:embed="rId2"/>
          <a:stretch/>
        </p:blipFill>
        <p:spPr>
          <a:xfrm>
            <a:off x="149400" y="152280"/>
            <a:ext cx="4254480" cy="32432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5"/>
          <p:cNvSpPr/>
          <p:nvPr/>
        </p:nvSpPr>
        <p:spPr>
          <a:xfrm>
            <a:off x="263520" y="385272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ли акцию «Берегите природ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 детьми в рамках кружковой рабо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6" descr=""/>
          <p:cNvPicPr/>
          <p:nvPr/>
        </p:nvPicPr>
        <p:blipFill>
          <a:blip r:embed="rId3"/>
          <a:srcRect l="-101" t="3909" r="46720" b="-6928"/>
          <a:stretch/>
        </p:blipFill>
        <p:spPr>
          <a:xfrm>
            <a:off x="1322280" y="4657680"/>
            <a:ext cx="1908360" cy="2006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"/>
          <p:cNvPicPr/>
          <p:nvPr/>
        </p:nvPicPr>
        <p:blipFill>
          <a:blip r:embed="rId4"/>
          <a:srcRect l="50307" t="13695" r="0" b="0"/>
          <a:stretch/>
        </p:blipFill>
        <p:spPr>
          <a:xfrm>
            <a:off x="7162920" y="-304920"/>
            <a:ext cx="177624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6-04-17T06:33:58Z</dcterms:modified>
  <cp:revision>2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