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B5BD-564B-4E3B-B6C8-F427F0154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C6E5-65C5-4818-A407-1DDCB6E7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8E34-D2A3-4446-8EAD-6F0938AB4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CA9E-CDEE-481E-8C4D-6312DE136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ED98-9BE9-4E3C-AF76-47F24BD1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776F-1C7A-4EA5-9AC6-EA93A4A8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CCE9-688B-4850-8DB3-18F82300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89D2-DB69-47AE-86BB-ECD7C12D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AC80-5FFA-447F-BBDE-7432636C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6F4B-BFEC-4E04-9494-BC9C04ED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E58C-86EF-4001-B041-2E494667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2C34-2FED-4926-A4A8-95A833FD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8F78-55B3-42C8-A8DC-61273C60B1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07280" cy="3097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0dba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Подготовка к ЕГЭ по обществознанию.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етодические рекомендации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о выполнению задания: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оставление плана по заданной тем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4292280"/>
            <a:ext cx="5184720" cy="1081080"/>
          </a:xfrm>
          <a:prstGeom prst="rect">
            <a:avLst/>
          </a:prstGeom>
          <a:gradFill rotWithShape="0">
            <a:gsLst>
              <a:gs pos="0">
                <a:srgbClr val="b0dba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66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alibri"/>
              </a:rPr>
              <a:t>Учитель:</a:t>
            </a:r>
            <a:r>
              <a:rPr b="1" lang="en-US" sz="20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Calibri"/>
              </a:rPr>
              <a:t>Галемская Н.В., учитель истории и обществознания МБОУ гимназии №1  города  Белово Кемеров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ЕГЭ"/>
          <p:cNvPicPr/>
          <p:nvPr/>
        </p:nvPicPr>
        <p:blipFill>
          <a:blip r:embed="rId1"/>
          <a:stretch/>
        </p:blipFill>
        <p:spPr>
          <a:xfrm>
            <a:off x="6156360" y="4724280"/>
            <a:ext cx="2590920" cy="17290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143000"/>
          </a:xfrm>
          <a:prstGeom prst="rect">
            <a:avLst/>
          </a:prstGeom>
          <a:gradFill rotWithShape="0">
            <a:gsLst>
              <a:gs pos="0">
                <a:srgbClr val="e1f1db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5.2. Типологизация и классификация. Основные подходы (критерии)</a:t>
            </a: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31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Если дано некое  объемное понятия и соответствующее ему множество объектов, то применяются  методы научного познания, направленные на разбивку некоторой изучаемой совокупности объек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Именно для этого предназначен вид деления, называемый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mbria"/>
              </a:rPr>
              <a:t>типологизацией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mbria"/>
              </a:rPr>
              <a:t>классификацией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. Можно сказать, что т.о. решают задач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mbria"/>
              </a:rPr>
              <a:t>Упорядочить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это множеств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сделать ег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mbria"/>
              </a:rPr>
              <a:t>хорошо обозримым,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облегчив доступ в памяти к любому виду объектов данного множеств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mbria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mbria"/>
              </a:rPr>
              <a:t>Типологизация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– разделение на обладающие определенными свойствами, упорядоченные и систематизированные группы с помощью идеализированной модели или тип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mbria"/>
              </a:rPr>
              <a:t>Классификация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- логическая операция, которая состоит в распределении элементов данного множества по классам, видам, формам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8207280" cy="922320"/>
          </a:xfrm>
          <a:prstGeom prst="rect">
            <a:avLst/>
          </a:prstGeom>
          <a:gradFill rotWithShape="0">
            <a:gsLst>
              <a:gs pos="0">
                <a:srgbClr val="e1f1db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5.3. Типы, виды, формы</a:t>
            </a:r>
            <a:r>
              <a:rPr b="1" lang="ru-RU" sz="4400" spc="-1" strike="noStrike">
                <a:solidFill>
                  <a:srgbClr val="006600"/>
                </a:solidFill>
                <a:latin typeface="Calibri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7993080" cy="424980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Типы, виды, формы собствен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Типы, виды, формы инфля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Типы, виды, формы культу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Типы, виды, формы вл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И т.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кретизируем разнообразие рассматриваемого понят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1138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0dba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5. Современные тенденции развит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НДЕНЦИ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(от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ранц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правление, стремление к чему- то) - наблюдаемые устойчивые изменения, присущие на новом этапе развития свойства, особенности тех или иных явлений, а также их возможность развиваться в данном направле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ледний пункт нашего плана предусматривает этот момент: современные тенденции развития мировой экономики, банковской системы, рынка ценных бумаг, производства, государственной власти, государства и права, политического лидерства, социальных процессов, института семьи, культуры, образования, науки и техники,  СМИ и т.д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351640" cy="136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0dba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 основе актуализированных в ходе нашей работы знаний можно составить план по конкретной теме: «Культура как социальное явление»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7632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Понятие культу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 Структурные элементы куль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. Функции культур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.1. Функция социализаци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.2.Интегрирующая функц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.3. Коммуникативная функц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.4. Информационная функц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.5. Познавательная функция (гносеологическая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.6. Адаптационная функц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.7. Регулятивная функц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.8. Другие функции куль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. Многообразие куль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.1. Элитарная культу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.2. Народная культу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.3. Массовая культур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.4. Субкуль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. Современные тенденции развития культу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351640" cy="164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0dba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и составлении сложного плана воспользуйтесь следующими рекомендациям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42920" y="2204640"/>
            <a:ext cx="74995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7928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Мысленно представьте весь изученный материал, раскрывающий содержание  предложенной  те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7928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Разделите его на  части по смыслу и  озаглавьте  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7928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Мысленно обоснуйте для себя логическую последовательность изложения материала по данной проблем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7928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 Проанализируйте полученный план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7928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Все  ли аспекты проблемы были отражены в не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7928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Корректны ли  формулировки  пунктов плана с точки зрения их соответствия заданной теме и четкости выражения мысл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7280" y="2205000"/>
            <a:ext cx="6769440" cy="20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0dba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Calibri"/>
              </a:rPr>
              <a:t>Спасибо за внимание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0dba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Calibri"/>
              </a:rPr>
              <a:t>Рекомендаци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07280" cy="417672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6600"/>
            </a:solidFill>
            <a:miter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подготовке и написании плана можно использова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ниверсальный формально-логический подход, который нацеливает на общие моменты при раскрытии той или иной т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ё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ное структурирование знаний по предложенной теме поможет выполнить это зада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этом следует учитывать общие моменты, о которых речь пойдет дальш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922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0dba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Важные аспекты  раскрытия темы</a:t>
            </a:r>
            <a:r>
              <a:rPr b="1" lang="ru-RU" sz="4400" spc="-1" strike="noStrike">
                <a:solidFill>
                  <a:srgbClr val="006600"/>
                </a:solidFill>
                <a:latin typeface="Calibri"/>
              </a:rPr>
              <a:t>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нятийный аспе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стемно-структур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ункциональ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спект типологии и классифик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торический экскур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временное состояние пробл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0dba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1. </a:t>
            </a: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Понятие предлагаемой т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онят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логически оформленная общая мысль о предмет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бъекте-объект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явлен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чале  плана любой темы (за редким исключением) можем записать: «понятие ...», указав то, что подлежит рассмотрению (Например: понятие государства, семьи, юридической ответственности, права, рынка и т.д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0dba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Arial"/>
              </a:rPr>
              <a:t>2. </a:t>
            </a:r>
            <a:r>
              <a:rPr b="1" i="1" lang="ru-RU" sz="4400" spc="-1" strike="noStrike">
                <a:solidFill>
                  <a:srgbClr val="006600"/>
                </a:solidFill>
                <a:latin typeface="Calibri"/>
              </a:rPr>
              <a:t>Признак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mbria"/>
              </a:rPr>
              <a:t>Признаки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– это основные черты, которые и  формируют понятие, характеризуют его как специфическую организацию. Это та сторона в предмете или явлении, по которой его можно выделить и  определить. Особенности, характерные черты,</a:t>
            </a: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которых проявляется специфик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2 пунктом в ряде тем мы можем записать в план: «Признаки …» (признаки государства, права, рынк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Этот пункт плана можно детализирова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снове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истемно-структурного подход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лежит рассмотрение объекта как целостного множества элементов в совокупности отношений и связей между ними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руктур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воляет анализировать элементы рассматриваемых объектов и их взаимосвяз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250920" y="260280"/>
            <a:ext cx="8713800" cy="122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0dba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3. </a:t>
            </a:r>
            <a:r>
              <a:rPr b="1" lang="ru-RU" sz="3600" spc="-1" strike="noStrike">
                <a:solidFill>
                  <a:srgbClr val="006600"/>
                </a:solidFill>
                <a:latin typeface="Calibri"/>
              </a:rPr>
              <a:t>Структур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вокупность  элементов и связей (отношений) между ни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2075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0dba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4. </a:t>
            </a:r>
            <a:r>
              <a:rPr b="1" lang="ru-RU" sz="4400" spc="-1" strike="noStrike">
                <a:solidFill>
                  <a:srgbClr val="006600"/>
                </a:solidFill>
                <a:latin typeface="Calibri"/>
              </a:rPr>
              <a:t>Функции</a:t>
            </a:r>
            <a:br>
              <a:rPr sz="4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от лат. – исполняю, совершаю)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руг деятельности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изводимая работа, рол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3628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чти все рассматриваемые общественные явления (субъекты-объекты) выполняют в обществе различные и определённые для них  функции. Поэтому 3  пунктом в плане можем записать: «функции … (государства, семьи, юридической ответственности, права, рынка и т.д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пункт плана следует детализировать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0dba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спомним:</a:t>
            </a: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 Функции культу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689800"/>
          </a:xfrm>
          <a:prstGeom prst="rect">
            <a:avLst/>
          </a:prstGeom>
          <a:solidFill>
            <a:srgbClr val="d3ebcb"/>
          </a:solidFill>
          <a:ln w="9360">
            <a:solidFill>
              <a:srgbClr val="006600"/>
            </a:solidFill>
            <a:miter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Функция социализаци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остоит в том, что культура является важнейшим средством включения индивидов в социальную жизнь, усвоения ими социального опыта, знаний, ценностей, норм поведения, соответствующих данному обществу, социальной группе и социальной роли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Интегрирующая функц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культуры состоит в том, что культура является важным фактором, обеспечивающим устойчивость и целостность обществ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Коммуникативная функц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культуры заключается в том, что культура формирует условия и средства человеческого общ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Информационная функц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является функцией трансляции (передачи и обмена) знаниями, ценностями и опытом предшествующих покол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ознавательная функция (гносеологическая) функция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культуры состоит в том, что культура обеспечивается получение новых знаний о мир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Адаптационная функц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заключается в том, что культура обеспечивает приспособление человека к окружающей среде.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Регулятивная (нормативная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функция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культуры связана, прежде всего, с определением (регулированием) различных сторон, видов общественной и личной деятельности люд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136000" cy="1138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0dba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5. Многомерность</a:t>
            </a:r>
            <a:r>
              <a:rPr b="1" lang="en-US" sz="40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понятия. </a:t>
            </a: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 этом можно выделит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71280" y="2924280"/>
            <a:ext cx="7869240" cy="28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уществующие и предлагаемые   нам к  рассмотрению социальные явления  выступают не как нечто однородное, а как богатое многообразие, множество, предполагают многовариантность самобытных уникальных единиц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ногообразие типов, видов и фор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ожных социальных объектов и явле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ногомерн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нят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широкий диапазон составляющих элементов, предполагают классификацию и типологизацию, на основе самых разнообразных критериев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ногообрази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критериев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ипологизаци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культур как отражение ее многоаспектнос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755640" y="1773360"/>
            <a:ext cx="7416720" cy="936360"/>
          </a:xfrm>
          <a:prstGeom prst="rect">
            <a:avLst/>
          </a:prstGeom>
          <a:gradFill rotWithShape="0">
            <a:gsLst>
              <a:gs pos="0">
                <a:srgbClr val="d3ebcb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5. 1. Многообразие (…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7T06:24:24Z</dcterms:created>
  <dc:creator>www.PHILka.RU</dc:creator>
  <dc:description/>
  <dc:language>en-US</dc:language>
  <cp:lastModifiedBy>User_And</cp:lastModifiedBy>
  <dcterms:modified xsi:type="dcterms:W3CDTF">2016-04-17T09:13:38Z</dcterms:modified>
  <cp:revision>35</cp:revision>
  <dc:subject/>
  <dc:title>Подготовка к ЕГЭ по обществознанию. Методические рекомендации по выполнению задания С8. Составление плана по заданной теме</dc:title>
</cp:coreProperties>
</file>