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951-6A8F-4621-85C7-ABA3D0CB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A83-DB23-4D0B-8854-98B99E31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F27-C27A-4687-8E99-455AD003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A29-A019-43C2-B064-B5E437E8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6FD-F6FE-422D-9DBB-741C58C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FBB-908F-4620-B307-54947D82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E60-E9B6-46F7-9A36-7FE9696C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3DA-90EA-4BD7-84EA-3DFA2F7D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AF5-4E28-4E33-8733-D7C52971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6C5-0CBD-4821-AEF1-0C58F8BB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101-5894-4EA2-8E7E-91CC3A7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E7F-DC52-47AC-80FA-C99B853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1B92-BA19-4E13-8D0C-5AE651490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07280" cy="30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дготовка к ЕГЭ по обществознанию.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ические рекомендац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 выполнению задания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ставление плана по заданной те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292280"/>
            <a:ext cx="5184720" cy="1081080"/>
          </a:xfrm>
          <a:prstGeom prst="rect">
            <a:avLst/>
          </a:prstGeom>
          <a:gradFill rotWithShape="0">
            <a:gsLst>
              <a:gs pos="0">
                <a:srgbClr val="b0db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Учитель: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Галемская Н.В., учитель истории и обществознания МБОУ гимназии №1  города  Белово Кемер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ЕГЭ"/>
          <p:cNvPicPr/>
          <p:nvPr/>
        </p:nvPicPr>
        <p:blipFill>
          <a:blip r:embed="rId1"/>
          <a:stretch/>
        </p:blipFill>
        <p:spPr>
          <a:xfrm>
            <a:off x="6156360" y="4724280"/>
            <a:ext cx="2590920" cy="1729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gradFill rotWithShape="0">
            <a:gsLst>
              <a:gs pos="0">
                <a:srgbClr val="e1f1db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2. Типологизация и классификация. Основные подходы (критерии)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сли дано некое  объемное понятия и соответствующее ему множество объектов, то применяются  методы научного познания, направленные на разбивку некоторой изучаемой совокупности объ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менно для этого предназначен вид деления, называем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типологизацией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классификацией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Можно сказать, что т.о. решают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Упорядочит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это множеств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делать 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хорошо обозримым,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блегчив доступ в памяти к любому виду объектов данного множ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Типологизаци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– разделение на обладающие определенными свойствами, упорядоченные и систематизированные группы с помощью идеализированной модели или ти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Классификаци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- логическая операция, которая состоит в распределении элементов данного множества по классам, видам, формам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922320"/>
          </a:xfrm>
          <a:prstGeom prst="rect">
            <a:avLst/>
          </a:prstGeom>
          <a:gradFill rotWithShape="0">
            <a:gsLst>
              <a:gs pos="0">
                <a:srgbClr val="e1f1db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.3. Типы, виды, формы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993080" cy="4249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собств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инфля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куль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в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кретизируем разнообразие рассматриваемого по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13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5. Современные тенденции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НДЕНЦ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(о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вление, стремление к чему- то) - наблюдаемые устойчивые изменения, присущие на новом этапе развития свойства, особенности тех или иных явлений, а также их возможность развиваться в данном направ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ний пункт нашего плана предусматривает этот момент: современные тенденции развития мировой экономики, банковской системы, рынка ценных бумаг, производства, государственной власти, государства и права, политического лидерства, социальных процессов, института семьи, культуры, образования, науки и техники,  СМИ и т.д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актуализированных в ходе нашей работы знаний можно составить план по конкретной теме: «Культура как социальное явлени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63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Понятие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Структурные элементы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Функции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1. Функция социализ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2.Интегрирующая функц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3. Коммуникативная фун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4. Информационная функ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5. Познавательная функция (гносеологическая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6. Адаптационная фун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7. Регулятивная фун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8. Другие функции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Многообразие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1. Элитар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2. Народ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3. Массов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4. Суб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Современные тенденции развития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351640" cy="16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 составлении сложного плана воспользуйтесь следующими рекомендация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Мысленно представьте весь изученный материал, раскрывающий содержание  предложенной 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азделите его на  части по смыслу и  озаглавьте 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Мысленно обоснуйте для себя логическую последовательность изложения материала по данной пробле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Проанализируйте полученный 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Все  ли аспекты проблемы были отражены в н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Корректны ли  формулировки  пунктов плана с точки зрения их соответствия заданной теме и четкости выражения мысл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676944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Рекоменд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176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дготовке и написании плана можно использов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версальный формально-логический подход, который нацеливает на общие моменты при раскрытии той или иной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ное структурирование знаний по предложенной теме поможет выполнить это за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этом следует учитывать общие моменты, о которых речь пойдет да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92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ажные аспекты  раскрытия темы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йный асп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но-структу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он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пект типологии и класс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й экску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ое состояние пробл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нятие предлагаемой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логически оформленная общая мысль о предме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бъекте-объек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явлен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чале  плана любой темы (за редким исключением) можем записать: «понятие ...», указав то, что подлежит рассмотрению (Например: понятие государства, семьи, юридической ответственности, права, рынка и т.д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Призна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Признак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это основные черты, которые и  формируют понятие, характеризуют его как специфическую организацию. Это та сторона в предмете или явлении, по которой его можно выделить и  определить. Особенности, характерные черты,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ых проявляется специф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 пунктом в ряде тем мы можем записать в план: «Признаки …» (признаки государства, права, рынк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т пункт плана можно детализиро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истемно-структурного подх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ежит рассмотрение объекта как целостного множества элементов в совокупности отношений и связей между ними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анализировать элементы рассматриваемых объектов и их взаимосвяз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0920" y="260280"/>
            <a:ext cx="871380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труктур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окупность  элементов и связей (отношений)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207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Функции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т лат. – исполняю, совершаю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уг деятельност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одимая работа, ро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362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ти все рассматриваемые общественные явления (субъекты-объекты) выполняют в обществе различные и определённые для них  функции. Поэтому 3  пунктом в плане можем записать: «функции … (государства, семьи, юридической ответственности, права, рынка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пункт плана следует детализиров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спомним: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Функции куль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d3ebcb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ункция со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стоит в том, что культура является важнейшим средством включения индивидов в социальную жизнь, усвоения ими социального опыта, знаний, ценностей, норм поведения, соответствующих данному обществу, социальной группе и социальной рол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тегрирующ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состоит в том, что культура является важным фактором, обеспечивающим устойчивость и целостность общ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заключается в том, что культура формирует условия и средства человеческого об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функцией трансляции (передачи и обмена) знаниями, ценностями и опытом предшествующих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ая функция (гносеологическая) функц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состоит в том, что культура обеспечивается получение новых знаний о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даптацион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ключается в том, что культура обеспечивает приспособление человека к окружающей среде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ая (нормативная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унк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связана, прежде всего, с определением (регулированием) различных сторон, видов общественной и личной деятельности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113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5. Многомерность</a:t>
            </a:r>
            <a:r>
              <a:rPr b="1" lang="en-US" sz="4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нятия.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этом можно выдел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786924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ющие и предлагаемые   нам к  рассмотрению социальные явления  выступают не как нечто однородное, а как богатое многообразие, множество, предполагают многовариантность самобытных уникальных единиц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образие типов, видов и фор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ых социальных объектов и яв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широкий диапазон составляющих элементов, предполагают классификацию и типологизацию, на основе самых разнообразных критерие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образ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ритерие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ологиз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 как отражение ее многоаспект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773360"/>
            <a:ext cx="7416720" cy="936360"/>
          </a:xfrm>
          <a:prstGeom prst="rect">
            <a:avLst/>
          </a:prstGeom>
          <a:gradFill rotWithShape="0">
            <a:gsLst>
              <a:gs pos="0">
                <a:srgbClr val="d3ebcb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1. Многообразие (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6:24:24Z</dcterms:created>
  <dc:creator>www.PHILka.RU</dc:creator>
  <dc:description/>
  <dc:language>en-US</dc:language>
  <cp:lastModifiedBy>User_And</cp:lastModifiedBy>
  <dcterms:modified xsi:type="dcterms:W3CDTF">2016-04-17T09:13:38Z</dcterms:modified>
  <cp:revision>35</cp:revision>
  <dc:subject/>
  <dc:title>Подготовка к ЕГЭ по обществознанию. Методические рекомендации по выполнению задания С8. Составление плана по заданной теме</dc:title>
</cp:coreProperties>
</file>