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6E8A-F282-451A-92DF-5E0FE0BF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85C3-F965-4C42-B729-C5235ED3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BA40-95D4-4BA0-A9A0-1AEAF2F2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CFD7-5789-486B-A6E1-2E502366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35BE-1EBD-4E17-BC83-06502C00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207-789C-4DFA-81E5-05367A4E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FC7C-8C7E-4E33-B02E-DA0458E0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881-F4FB-454F-A455-13073811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0839-82E4-4754-BB72-747BD51C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9DD2-BFBE-4D7C-889A-A63A518E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7218-E529-4732-B03E-5EB2AD59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151F-90AF-4C3C-8A34-A1BE7A3D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63C2-730B-4E5A-B53F-2535E6B3F9B3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Математика 4 класс\12\учитель указка доска [преобразованный].png"/>
          <p:cNvPicPr/>
          <p:nvPr/>
        </p:nvPicPr>
        <p:blipFill>
          <a:blip r:embed="rId1"/>
          <a:stretch/>
        </p:blipFill>
        <p:spPr>
          <a:xfrm>
            <a:off x="-612720" y="81000"/>
            <a:ext cx="9756720" cy="53499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9"/>
          <p:cNvSpPr/>
          <p:nvPr/>
        </p:nvSpPr>
        <p:spPr>
          <a:xfrm>
            <a:off x="3581280" y="23875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3995640" y="741240"/>
            <a:ext cx="468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Прозвенел уже звоно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Начинаем наш ур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Предлагаю подружи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Плодотворно потрудиться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250920" y="1405080"/>
            <a:ext cx="85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68   1=68       1   45=4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0   380=0       66   1=6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46   0=46       352  1=35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250920" y="170964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68   1=68               0   380=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:\Математика 2 класс\1. Десяток. Счёт с десятками до ста\доска.png"/>
          <p:cNvPicPr/>
          <p:nvPr/>
        </p:nvPicPr>
        <p:blipFill>
          <a:blip r:embed="rId1"/>
          <a:stretch/>
        </p:blipFill>
        <p:spPr>
          <a:xfrm>
            <a:off x="-36360" y="-236520"/>
            <a:ext cx="9324720" cy="6480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9"/>
          <p:cNvSpPr/>
          <p:nvPr/>
        </p:nvSpPr>
        <p:spPr>
          <a:xfrm>
            <a:off x="3581280" y="23875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755640" y="700200"/>
            <a:ext cx="7632720" cy="29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rebuchet MS"/>
              </a:rPr>
              <a:t>«Деление с 0 и 1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Познакомиться с правилами деления с 0 и 1 и научиться их применя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:\Математика 2 класс\плакат 2.png"/>
          <p:cNvPicPr/>
          <p:nvPr/>
        </p:nvPicPr>
        <p:blipFill>
          <a:blip r:embed="rId1"/>
          <a:stretch/>
        </p:blipFill>
        <p:spPr>
          <a:xfrm>
            <a:off x="0" y="268200"/>
            <a:ext cx="9144000" cy="4680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1332000" y="2328840"/>
            <a:ext cx="51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ЖЕЛТЫЙ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ли у вас не все получилось, что-то было непонятно, но вы постараетесь на следующем занят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1332000" y="1203480"/>
            <a:ext cx="56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  <a:ea typeface="Calibri"/>
              </a:rPr>
              <a:t>ЗЕЛЕН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карандаш, если вы довольны собой, у вас все получилось, во время урока не возникало трудност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332000" y="3448080"/>
            <a:ext cx="52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И КРАСН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вам ничего не понятно и вы не довольны своей работой на уро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Математика 2 класс\9\доска.pn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184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D:\Математика 2 класс\13-2\сова.png"/>
          <p:cNvPicPr/>
          <p:nvPr/>
        </p:nvPicPr>
        <p:blipFill>
          <a:blip r:embed="rId2"/>
          <a:stretch/>
        </p:blipFill>
        <p:spPr>
          <a:xfrm>
            <a:off x="195120" y="3292560"/>
            <a:ext cx="1784520" cy="152388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3"/>
          <p:cNvSpPr/>
          <p:nvPr/>
        </p:nvSpPr>
        <p:spPr>
          <a:xfrm>
            <a:off x="108000" y="339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611280" y="7542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считайт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1. 100-20-4-25+9+4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2. 50+50-25-55-2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3. 90-40+20-6-34+70=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Математика 2 класс\9\доска.pn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18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D:\Математика 2 класс\13-2\сова.png"/>
          <p:cNvPicPr/>
          <p:nvPr/>
        </p:nvPicPr>
        <p:blipFill>
          <a:blip r:embed="rId2"/>
          <a:stretch/>
        </p:blipFill>
        <p:spPr>
          <a:xfrm>
            <a:off x="195120" y="3292560"/>
            <a:ext cx="178452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108000" y="339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11280" y="7542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считайт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1. 100-20-4-25+9+40=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2. 50+50-25-55-2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3. 90-40+20-6-34+70=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Математика 2 класс\9\доска.pn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18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D:\Математика 2 класс\13-2\сова.png"/>
          <p:cNvPicPr/>
          <p:nvPr/>
        </p:nvPicPr>
        <p:blipFill>
          <a:blip r:embed="rId2"/>
          <a:stretch/>
        </p:blipFill>
        <p:spPr>
          <a:xfrm>
            <a:off x="195120" y="3292560"/>
            <a:ext cx="1784520" cy="152388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108000" y="339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11280" y="7542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считайт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1. 100-20-4-25+9+40=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2. 50+50-25-55-20=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3. 90-40+20-6-34+70=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Математика 2 класс\9\доска.pn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18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D:\Математика 2 класс\13-2\сова.png"/>
          <p:cNvPicPr/>
          <p:nvPr/>
        </p:nvPicPr>
        <p:blipFill>
          <a:blip r:embed="rId2"/>
          <a:stretch/>
        </p:blipFill>
        <p:spPr>
          <a:xfrm>
            <a:off x="195120" y="3292560"/>
            <a:ext cx="178452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108000" y="339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611280" y="7542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считайт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1. 100-20-4-25+9+40=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2. 50+50-25-55-20=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3. 90-40+20-6-34+70=100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Математика 2 класс\9\доска.pn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108000" y="339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79280" y="81540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-</a:t>
            </a: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 Нуф-Нуф упитаннее Наф-Нафа, а Ниф-Ниф самый худосочный. Кто из поросят самый упитанный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- Мальвина старше Буратино на 2 года, а Пьеро старше Мальвины на 4 года. На сколько лет Пьеро старше Буратино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- Незнайка, Шпунтик и Винтик учатся в трех разных школах города. Незнайка учится не в первой, Винтик - не в первой и не в третьей. Кто в какой школе учится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Математика 2 класс\9\доска.pn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108000" y="339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08000" y="85176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- Нуф-Нуф упитаннее Наф-Нафа, а Ниф-Ниф самый худосочный. Кто из поросят самый упитанный?</a:t>
            </a: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(Нуф-Нуф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-</a:t>
            </a: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 Мальвина старше Буратино на 2 года, а Пьеро старше Мальвины на 4 года. На сколько лет Пьеро старше Буратино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- Незнайка, Шпунтик и Винтик учатся в трех разных школах города. Незнайка учится не в первой, Винтик - не в первой и не в третьей. Кто в какой школе учится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Математика 2 класс\9\доска.pn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108000" y="339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108000" y="85176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- Нуф-Нуф упитаннее Наф-Нафа, а Ниф-Ниф самый худосочный. Кто из поросят самый упитанный?</a:t>
            </a: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i="1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(Нуф-Нуф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- Мальвина старше Буратино на 2 года, а Пьеро старше Мальвины на 4 года. На сколько лет Пьеро старше Буратино? </a:t>
            </a: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(На 6)</a:t>
            </a: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- Незнайка, Шпунтик и Винтик учатся в трех разных школах города. Незнайка учится не в первой, Винтик - не в первой и не в третьей. Кто в какой школе учится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:\Математика 2 класс\9\доска.pn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108000" y="339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44360" y="367920"/>
            <a:ext cx="896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- Нуф-Нуф упитаннее Наф-Нафа, а Ниф-Ниф самый худосочный. Кто из поросят самый упитанный?</a:t>
            </a: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i="1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(Нуф-Нуф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- Мальвина старше Буратино на 2 года, а Пьеро старше Мальвины на 4 года. На сколько лет Пьеро старше Буратино? </a:t>
            </a:r>
            <a:r>
              <a:rPr b="0" i="1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(На 6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- Незнайка, Шпунтик и Винтик учатся в трех разных школах города. Незнайка учится не в первой, Винтик - не в первой и не в третьей. Кто в какой школе учится? </a:t>
            </a: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(Шпунтик учится в первой школе, Винтик - во второй, Незнайка - в третьей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09:26:28Z</dcterms:created>
  <dc:creator>Пользователь</dc:creator>
  <dc:description/>
  <dc:language>en-US</dc:language>
  <cp:lastModifiedBy>Настя</cp:lastModifiedBy>
  <dcterms:modified xsi:type="dcterms:W3CDTF">2016-02-29T12:14:30Z</dcterms:modified>
  <cp:revision>805</cp:revision>
  <dc:subject/>
  <dc:title>Презентация PowerPoint</dc:title>
</cp:coreProperties>
</file>