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008-DD0D-44BB-BEA7-283FA0EC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B510-D2F4-4FFB-B254-17F89FB7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9F93-540D-41B0-9E23-A2A8FE0FA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6638-04A6-48D1-B28C-BEEC6F4E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CA0-A3E5-4A85-A57E-5AD10EBA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D3F-6A81-46E9-8AB5-4DB0244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DBA-B83F-45AC-9740-2DE276E1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9373-E9B8-4246-8B62-5A385DF8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14BA-0E5C-4B22-86D4-408DEFFB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4772-2D6A-4757-AB46-0350219B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D6DA-166B-42DC-AE3F-F05F7B6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DEC-E831-4DCD-8EB5-99B95B60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3A7E-CA31-43D3-8874-41879BB80728}" type="slidenum">
              <a:rPr b="0" lang="ru-RU" sz="12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D:\Математика 4 класс\12\учитель указка доска [преобразованный].png"/>
          <p:cNvPicPr/>
          <p:nvPr/>
        </p:nvPicPr>
        <p:blipFill>
          <a:blip r:embed="rId1"/>
          <a:stretch/>
        </p:blipFill>
        <p:spPr>
          <a:xfrm>
            <a:off x="-612720" y="81000"/>
            <a:ext cx="9756720" cy="53499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9"/>
          <p:cNvSpPr/>
          <p:nvPr/>
        </p:nvSpPr>
        <p:spPr>
          <a:xfrm>
            <a:off x="3581280" y="2387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3995640" y="741240"/>
            <a:ext cx="46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озвенел уже звоно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Начинаем наш уро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редлагаю подружить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rebuchet MS"/>
              </a:rPr>
              <a:t>Плодотворно потрудить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50920" y="140508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8   1=68       1   45=4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0   380=0       66   1=6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46   0=46       352  1=35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"/>
          <p:cNvSpPr/>
          <p:nvPr/>
        </p:nvSpPr>
        <p:spPr>
          <a:xfrm>
            <a:off x="250920" y="170964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68   1=68               0   380=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Математика 2 класс\1. Десяток. Счёт с десятками до ста\доска.png"/>
          <p:cNvPicPr/>
          <p:nvPr/>
        </p:nvPicPr>
        <p:blipFill>
          <a:blip r:embed="rId1"/>
          <a:stretch/>
        </p:blipFill>
        <p:spPr>
          <a:xfrm>
            <a:off x="-36360" y="-236520"/>
            <a:ext cx="9324720" cy="6480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9"/>
          <p:cNvSpPr/>
          <p:nvPr/>
        </p:nvSpPr>
        <p:spPr>
          <a:xfrm>
            <a:off x="3581280" y="23875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755640" y="700200"/>
            <a:ext cx="7632720" cy="29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rebuchet MS"/>
              </a:rPr>
              <a:t>«Деление с 0 и 1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Познакомиться с правилами деления с 0 и 1 и научиться их применя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Математика 2 класс\плакат 2.png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332000" y="232884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ЖЕЛТ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у вас не все получилось, что-то было непонятно, но вы постараетесь на следующем занят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1332000" y="120348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  <a:ea typeface="Calibri"/>
              </a:rPr>
              <a:t>ЗЕЛЕ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арандаш, если вы довольны собой, у вас все получилось, во время урока не возникало труднос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1332000" y="3448080"/>
            <a:ext cx="52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И КРАС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вам ничего не понятно и вы не довольны своей работой на уро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D:\Математика 2 класс\13-2\сова.png"/>
          <p:cNvPicPr/>
          <p:nvPr/>
        </p:nvPicPr>
        <p:blipFill>
          <a:blip r:embed="rId2"/>
          <a:stretch/>
        </p:blipFill>
        <p:spPr>
          <a:xfrm>
            <a:off x="195120" y="3292560"/>
            <a:ext cx="1784520" cy="1523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11280" y="7542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считайте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1. 100-20-4-25+9+40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2. 50+50-25-55-20=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3. 90-40+20-6-34+70=100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179280" y="815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Нуф-Нуф упитаннее Наф-Нафа, а Ниф-Ниф самый худосочный. Кто из поросят самый упитанный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8000" y="8517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альвина старше Буратино на 2 года, а Пьеро старше Мальвины на 4 года. На сколько лет Пьеро старше Буратино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108000" y="85176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а 6)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D:\Математика 2 класс\9\доска.pn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108000" y="3398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44360" y="367920"/>
            <a:ext cx="89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уф-Нуф упитаннее Наф-Нафа, а Ниф-Ниф самый худосочный. Кто из поросят самый упитанный?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уф-Нуф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Мальвина старше Буратино на 2 года, а Пьеро старше Мальвины на 4 года. На сколько лет Пьеро старше Буратино? </a:t>
            </a:r>
            <a:r>
              <a:rPr b="0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На 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- Незнайка, Шпунтик и Винтик учатся в трех разных школах города. Незнайка учится не в первой, Винтик - не в первой и не в третьей. Кто в какой школе учится?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Calibri"/>
              </a:rPr>
              <a:t>(Шпунтик учится в первой школе, Винтик - во второй, Незнайка - в третьей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9:26:28Z</dcterms:created>
  <dc:creator>Пользователь</dc:creator>
  <dc:description/>
  <dc:language>en-US</dc:language>
  <cp:lastModifiedBy>Настя</cp:lastModifiedBy>
  <dcterms:modified xsi:type="dcterms:W3CDTF">2016-02-29T12:14:30Z</dcterms:modified>
  <cp:revision>805</cp:revision>
  <dc:subject/>
  <dc:title>Презентация PowerPoint</dc:title>
</cp:coreProperties>
</file>