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43ED-A295-4A2F-99B8-B843B7A1A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8A81-54B5-4402-A08C-F6D02249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F50-1E61-4C36-9820-55A287A3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88DC-8A8C-4790-BE32-4C401EB1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8C8-9101-4860-B49E-E838656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6FF3-C29E-4FD6-83DB-5A19A097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F492-6FCC-449F-A169-6F7CCEE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884-A161-4F88-BC6E-E3164689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02E-0573-41E9-BB1D-05F5DFD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042A-ED05-4F65-B99A-383EB879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8737-48C1-4156-88BE-FA555A86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FA4-02A6-4DBA-AFD3-643987FD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FBAD-7D1E-4455-B071-E00DA1BE99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2200" y="3573000"/>
            <a:ext cx="7777080" cy="27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cc"/>
                </a:solidFill>
                <a:latin typeface="Arial"/>
              </a:rPr>
              <a:t>«Нужно ли воспитывать в детях патриотизм?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5" descr="1"/>
          <p:cNvPicPr/>
          <p:nvPr/>
        </p:nvPicPr>
        <p:blipFill>
          <a:blip r:embed="rId1"/>
          <a:stretch/>
        </p:blipFill>
        <p:spPr>
          <a:xfrm>
            <a:off x="5148360" y="260280"/>
            <a:ext cx="3584520" cy="20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2"/>
          <p:cNvSpPr/>
          <p:nvPr/>
        </p:nvSpPr>
        <p:spPr>
          <a:xfrm>
            <a:off x="179280" y="189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5"/>
          <p:cNvSpPr/>
          <p:nvPr/>
        </p:nvSpPr>
        <p:spPr>
          <a:xfrm>
            <a:off x="157320" y="225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"/>
          <p:cNvSpPr/>
          <p:nvPr/>
        </p:nvSpPr>
        <p:spPr>
          <a:xfrm>
            <a:off x="185760" y="247680"/>
            <a:ext cx="864072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атриотизм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любовь к Родине, преданность к ней, ответственность и гордость за неё, желание трудиться на её благо, беречь и умножать её богатств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2" descr=""/>
          <p:cNvPicPr/>
          <p:nvPr/>
        </p:nvPicPr>
        <p:blipFill>
          <a:blip r:embed="rId1"/>
          <a:stretch/>
        </p:blipFill>
        <p:spPr>
          <a:xfrm>
            <a:off x="1332000" y="4498920"/>
            <a:ext cx="1871640" cy="1582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5580000" y="4498920"/>
            <a:ext cx="1932120" cy="145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>
            <a:off x="324000" y="225360"/>
            <a:ext cx="8618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ческие чувства нужно начинать с дошкольного возраста. Крылатая фраза говорит: «Всё начинается с детства». С младенчества ребёнок слышит родную речь. Песни матери, сказки которые волнуют, увлекают, ребёнка, заставляют его плакать и смеяться, показывают ему, что народ считает самым важным богатством трудолюбие, дружбу, взаимопомощь. Слушая сказки, ребёнок начинает любить то, что любит его народ, и ненавидеть то, что ненавидит народ. Пословицы, поговорки формируют начало любви к своему народу, к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2987640" y="4246560"/>
            <a:ext cx="2521080" cy="1424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539640" y="333360"/>
            <a:ext cx="8604360" cy="20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овь маленького ребёнка-дошкольника к Родине начинается с отношения к самым близким людям - матери, отцу, бабушке, дедушке с любви к своему дому, улице, на которой живёт, детсад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2700360" y="4695840"/>
            <a:ext cx="35272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2"/>
          <p:cNvSpPr/>
          <p:nvPr/>
        </p:nvSpPr>
        <p:spPr>
          <a:xfrm>
            <a:off x="157320" y="225360"/>
            <a:ext cx="87850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 рано в мир ребёнка входит природа родного края. Река, лес, поле, от первого общего восприятия ребёнок переходит к конкретизации- у него появляются любимые уголки для игры, любимые деревья, тропинки в лесу. Это всё у ребёнка остаётся родным в памяти на всю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5"/>
          <p:cNvCxnSpPr/>
          <p:nvPr/>
        </p:nvCxnSpPr>
        <p:spPr>
          <a:xfrm>
            <a:off x="3470040" y="2111040"/>
            <a:ext cx="1080" cy="1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pic>
        <p:nvPicPr>
          <p:cNvPr id="54" name="Рисунок 3" descr=""/>
          <p:cNvPicPr/>
          <p:nvPr/>
        </p:nvPicPr>
        <p:blipFill>
          <a:blip r:embed="rId1"/>
          <a:stretch/>
        </p:blipFill>
        <p:spPr>
          <a:xfrm>
            <a:off x="3564000" y="3855960"/>
            <a:ext cx="2160360" cy="1542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157320" y="225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"/>
          <p:cNvSpPr/>
          <p:nvPr/>
        </p:nvSpPr>
        <p:spPr>
          <a:xfrm>
            <a:off x="457200" y="225360"/>
            <a:ext cx="84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539640" y="225360"/>
            <a:ext cx="8402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внимание на детей оказывают конкретные проявления патриотических чувств родителей в повседнев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пример: отец, придя с работы, увлеченно рассказывает о своих делах на производстве, об успех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ли: мать, листая семейный альбом, рассказывает детям о членах семьи, о бабушках и дедушках, которые воевали за родную землю, имеют награды за свой труд, вспоминает истории из жизни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3635280" y="5214960"/>
            <a:ext cx="2030400" cy="135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461880" y="404640"/>
            <a:ext cx="842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79280" y="0"/>
            <a:ext cx="8964720" cy="222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 семье ценят искусство, показывают детям шедевры народного творчества, уважительно относятся к искусству всех народов нашей страны – все это воспитывает в детях чувство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бовь к родине проявляется в постоянном стремлении человека делать жизнь лучше – хорошо учиться в школе, хорошо работать, помогать тому, кому нужна наша помощь. Поддержать хорошее дело, выступить против зла и насилия – это тоже патриотиз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58760" y="5533920"/>
            <a:ext cx="1533600" cy="114948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"/>
          <p:cNvPicPr/>
          <p:nvPr/>
        </p:nvPicPr>
        <p:blipFill>
          <a:blip r:embed="rId2"/>
          <a:stretch/>
        </p:blipFill>
        <p:spPr>
          <a:xfrm>
            <a:off x="3419640" y="4303800"/>
            <a:ext cx="1944360" cy="12970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"/>
          <p:cNvPicPr/>
          <p:nvPr/>
        </p:nvPicPr>
        <p:blipFill>
          <a:blip r:embed="rId3"/>
          <a:stretch/>
        </p:blipFill>
        <p:spPr>
          <a:xfrm>
            <a:off x="7122960" y="5770440"/>
            <a:ext cx="1764000" cy="117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4000" y="0"/>
            <a:ext cx="800244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едостатков семейного воспитания вырастают различные пороки. Вырастают молодые люди, у которых нет ничего святого: ни семьи, ни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но в семье закладывается фундамент патриотизма, зарождается чувство любви к матери, к своей семье, своему родному городу, к человечеству в ц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1" descr=""/>
          <p:cNvPicPr/>
          <p:nvPr/>
        </p:nvPicPr>
        <p:blipFill>
          <a:blip r:embed="rId1"/>
          <a:stretch/>
        </p:blipFill>
        <p:spPr>
          <a:xfrm>
            <a:off x="2916360" y="1809720"/>
            <a:ext cx="2016000" cy="12272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2"/>
          <a:stretch/>
        </p:blipFill>
        <p:spPr>
          <a:xfrm>
            <a:off x="2916360" y="5313240"/>
            <a:ext cx="230328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250920" y="333360"/>
            <a:ext cx="871380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пеха в патриотическом воспитании можно достигнуть только если сами родители буду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нать и любить историю своей страны, своего наро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какие знания не дадут положительного результата, если родители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и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е будут восторгаться своей страной, своим городом, своим се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826920" y="3522600"/>
            <a:ext cx="1800360" cy="10130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"/>
          <p:cNvPicPr/>
          <p:nvPr/>
        </p:nvPicPr>
        <p:blipFill>
          <a:blip r:embed="rId2"/>
          <a:stretch/>
        </p:blipFill>
        <p:spPr>
          <a:xfrm>
            <a:off x="2927520" y="4521240"/>
            <a:ext cx="1860480" cy="1241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" descr=""/>
          <p:cNvPicPr/>
          <p:nvPr/>
        </p:nvPicPr>
        <p:blipFill>
          <a:blip r:embed="rId3"/>
          <a:stretch/>
        </p:blipFill>
        <p:spPr>
          <a:xfrm>
            <a:off x="5580000" y="5411880"/>
            <a:ext cx="171756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14:41:12Z</dcterms:created>
  <dc:creator>рцдо</dc:creator>
  <dc:description/>
  <dc:language>en-US</dc:language>
  <cp:lastModifiedBy>PC</cp:lastModifiedBy>
  <dcterms:modified xsi:type="dcterms:W3CDTF">2016-04-17T11:16:51Z</dcterms:modified>
  <cp:revision>55</cp:revision>
  <dc:subject/>
  <dc:title>Слайд 1</dc:title>
</cp:coreProperties>
</file>