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F60-FC61-4F9A-B47A-67036E90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FEE-0F52-4CEF-AB12-C69D3DDE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5FC-5AA8-4823-836A-FA341B15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8FD-7204-4599-B6A1-8C6A58EF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8B8-A913-408B-AC3B-81A8B4A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257-CB60-4667-BAF6-209CADD9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052-62BD-4E82-B0F6-6307C50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2AC-8739-4CD3-A694-27B3841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0B3-136D-472E-AAB7-2AB3DB7F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095-BD1E-4F20-BB90-C0D35B6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AA2-0496-4EE7-9535-D014476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410-7567-408C-AA87-092DEFC4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787-BE95-4BFD-A5D8-A71D079563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2200" y="3573000"/>
            <a:ext cx="7777080" cy="27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«Нужно ли воспитывать в детях патриотизм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5" descr="1"/>
          <p:cNvPicPr/>
          <p:nvPr/>
        </p:nvPicPr>
        <p:blipFill>
          <a:blip r:embed="rId1"/>
          <a:stretch/>
        </p:blipFill>
        <p:spPr>
          <a:xfrm>
            <a:off x="5148360" y="260280"/>
            <a:ext cx="358452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179280" y="189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157320" y="225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185760" y="247680"/>
            <a:ext cx="86407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триотизм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любовь к Родине, преданность к ней, ответственность и гордость за неё, желание трудиться на её благо, беречь и умножать её богат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332000" y="4498920"/>
            <a:ext cx="1871640" cy="1582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2"/>
          <a:stretch/>
        </p:blipFill>
        <p:spPr>
          <a:xfrm>
            <a:off x="5580000" y="4498920"/>
            <a:ext cx="193212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225360"/>
            <a:ext cx="861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ие чувства нужно начинать с дошкольного возраста. Крылатая фраза говорит: «Всё начинается с детства». С младенчества ребёнок слышит родную речь. Песни матери, сказки которые волнуют, увлекают, ребёнка, заставляют его плакать и смеяться, показывают ему, что народ считает самым важным богатством трудолюбие, дружбу, взаимопомощь. Слушая сказки, ребёнок начинает любить то, что любит его народ, и ненавидеть то, что ненавидит народ. Пословицы, поговорки формируют начало любви к своему народу, к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987640" y="4246560"/>
            <a:ext cx="2521080" cy="142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39640" y="333360"/>
            <a:ext cx="86043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маленького ребёнка-дошкольника к Родине начинается с отношения к самым близким людям - матери, отцу, бабушке, дедушке с любви к своему дому, улице, на которой живёт, детса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2700360" y="4695840"/>
            <a:ext cx="3527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57320" y="225360"/>
            <a:ext cx="87850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но в мир ребёнка входит природа родного края. Река, лес, поле, от первого общего восприятия ребёнок переходит к конкретизации- у него появляются любимые уголки для игры, любимые деревья, тропинки в лесу. Это всё у ребёнка остаётся родным в памяти на вс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5"/>
          <p:cNvCxnSpPr/>
          <p:nvPr/>
        </p:nvCxnSpPr>
        <p:spPr>
          <a:xfrm>
            <a:off x="3470040" y="211104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564000" y="3855960"/>
            <a:ext cx="216036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57320" y="225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457200" y="225360"/>
            <a:ext cx="84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539640" y="225360"/>
            <a:ext cx="840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внимание на детей оказывают конкретные проявления патриотических чувств родителей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ример: отец, придя с работы, увлеченно рассказывает о своих делах на производстве, об успех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ли: мать, листая семейный альбом, рассказывает детям о членах семьи, о бабушках и дедушках, которые воевали за родную землю, имеют награды за свой труд, вспоминает истории из жизни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3635280" y="5214960"/>
            <a:ext cx="2030400" cy="135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461880" y="40464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79280" y="0"/>
            <a:ext cx="89647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емье ценят искусство, показывают детям шедевры народного творчества, уважительно относятся к искусству всех народов нашей страны – все это воспитывает в детях чувство патриот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бовь к родине проявляется в постоянном стремлении человека делать жизнь лучше – хорошо учиться в школе, хорошо работать, помогать тому, кому нужна наша помощь. Поддержать хорошее дело, выступить против зла и насилия – это тоже патриот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58760" y="5533920"/>
            <a:ext cx="1533600" cy="1149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3419640" y="4303800"/>
            <a:ext cx="194436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7122960" y="5770440"/>
            <a:ext cx="176400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000" y="0"/>
            <a:ext cx="80024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достатков семейного воспитания вырастают различные пороки. Вырастают молодые люди, у которых нет ничего святого: ни семьи, ни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семье закладывается фундамент патриотизма, зарождается чувство любви к матери, к своей семье, своему родному городу, к человечеству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916360" y="1809720"/>
            <a:ext cx="2016000" cy="1227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2916360" y="5313240"/>
            <a:ext cx="23032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50920" y="333360"/>
            <a:ext cx="87138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ха в патриотическом воспитании можно достигнуть только если сами родители буду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нать и любить историю своей страны, своего на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акие знания не дадут положительного результата, если родител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е будут восторгаться своей страной, своим городом, своим с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826920" y="3522600"/>
            <a:ext cx="180036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2927520" y="4521240"/>
            <a:ext cx="1860480" cy="1241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3"/>
          <a:stretch/>
        </p:blipFill>
        <p:spPr>
          <a:xfrm>
            <a:off x="5580000" y="5411880"/>
            <a:ext cx="171756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41:12Z</dcterms:created>
  <dc:creator>рцдо</dc:creator>
  <dc:description/>
  <dc:language>en-US</dc:language>
  <cp:lastModifiedBy>PC</cp:lastModifiedBy>
  <dcterms:modified xsi:type="dcterms:W3CDTF">2016-04-17T11:16:51Z</dcterms:modified>
  <cp:revision>55</cp:revision>
  <dc:subject/>
  <dc:title>Слайд 1</dc:title>
</cp:coreProperties>
</file>