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28D0-5815-45F4-BFE4-BD803B7E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EE4C-E3E8-4F90-BE7D-2195927C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7575-71AB-4796-8668-F4D412A9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30D-C828-4E29-A382-FC0DEF9F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FA67-0211-4FB3-B8C5-3C3EDA665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3AEF-CBAC-414C-A9E9-69BBCD0C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92CB-3E85-4E54-B907-2AABACB6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84EC-CBCC-4F51-A424-0017EBB41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3136-65C6-45DA-8682-E14945D4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227F-0CAD-4311-8C90-36454363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80D9-573A-4607-B0DF-BD1886FE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E8E-9957-429D-B524-E62BDB01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3516-2742-4194-A5E2-F00E55DA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7476-94DF-4E86-807E-B6BEAF61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86E4-DD7F-41AD-9A0E-29DE5595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ACB8-21AD-4CFD-A1EE-C22254D0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1149-3565-4A1C-8701-D0741CEC6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6F3E-C58C-4042-BFE4-D3BAE0DE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D9EF-7108-4746-8939-DE881A24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415-3AF0-47C0-B6D2-E9D30A09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8935-FEED-4C20-B123-F9B05094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EC58-B275-4B31-ADE4-D091E795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693-3F80-4DF0-92AC-BEFC67DB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BE1-2FCF-4368-AB60-6287DF59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878C-4C8E-4992-B460-6A370A5C26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56F8-334D-4AB1-B308-C2529C818F1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733560" y="304560"/>
            <a:ext cx="5257800" cy="2819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а Осиповна Ишимова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1804-1881)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2819520"/>
            <a:ext cx="395604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История России в рассказах для детей"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3808440" cy="3733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4876920" y="1828800"/>
            <a:ext cx="3543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 rot="660000">
            <a:off x="6248160" y="3962160"/>
            <a:ext cx="2361960" cy="2476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 rot="20541600">
            <a:off x="4419360" y="4495680"/>
            <a:ext cx="2133360" cy="2019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части книги были выпущены в свет в начале 1837 года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, шестая часть, опубликована в Санкт-Петербурге спустя три год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е труд писательнице была присуждена Демидовская прем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слугу Ишимовой ставились увлекательность изложения и простота языка, умелое использование "основоположительных" источнико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135252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1840-х создала детский литературно-художественный журна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3вездочка"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334120" y="1905120"/>
            <a:ext cx="2819160" cy="309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676520" y="2514600"/>
            <a:ext cx="2819160" cy="327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урнал издавался Ишимовой в двух видах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детей младшего возраста;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о для отрочат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0 году возник детский журнал — "Луч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19720" y="2590920"/>
            <a:ext cx="4114800" cy="32097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37335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Священная история в рассказах для маленьких детей" (1841), "Чтение для детей первого возраста" (1845), "Каникулы 1844 года, или Поездка и Москву" (1840), "Исторические рассказы Ишимовой" (1849), "Маменькины уроки, или Всеобщая история в рассказах для детей" (1858–1863), "Сокращенная русская история" (1867), "Рассказы для детей из естественной истории" (1877), "Рассказы из Священной истории для крестьянских детей" (1877), "О молитве Господней для маленьких детей" (1881).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8T21:36:19Z</dcterms:created>
  <dc:creator>Natalia)))</dc:creator>
  <dc:description/>
  <dc:language>en-US</dc:language>
  <cp:lastModifiedBy>user</cp:lastModifiedBy>
  <dcterms:modified xsi:type="dcterms:W3CDTF">2014-10-28T22:40:3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