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89B-3B99-48BF-A69A-513E346D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8C98-D768-44A5-9A00-5E927D23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2D6E-922D-40A0-8641-B001B052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139-2615-41BD-BADA-8E57821B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32B1-4780-4878-A7D8-4DE0D663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B08B-6CCA-4A4D-894C-EAC9F710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629C-8A8D-4504-BB1B-9D6600AE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B5A9-70F6-40D8-B291-2BBA55AC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4FC1-687C-4D2A-80E6-55F46AEF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7CBB-4E03-487C-B686-C7835D98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FE44-DC5E-4A8C-AEF8-C09F8B8E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717-71AD-4B66-AF06-0C02D5F2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D221-7759-4DA5-9391-77D2E0AE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0B72-E311-4FAE-9069-3E2AC286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A05E-0C53-467D-81EF-9E005936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A1FC-44A0-4CE6-940F-B17E2DC7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E37F-B3C9-4F9D-BA8B-49D12311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83E-7B32-4DD3-8652-E292189C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3A13-8180-4D1B-B3D5-152A9BE8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6C1-9AD2-433E-BEC8-A32FAD1A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C112-89B3-44F3-A400-333DF5C4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C8A-1D76-4B74-B167-C2DCAA31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473-B551-4775-B977-6F8E4EBA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B03E-A170-45B5-9D42-37F0EC3E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F0B1-3310-42BF-A237-2749E056A50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7932-79DF-4EE1-8DDC-DE1EC34914C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733560" y="304560"/>
            <a:ext cx="5257800" cy="2819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а Осиповна Ишимова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804-1881)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9560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История России в рассказах для детей"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3808440" cy="3733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876920" y="1828800"/>
            <a:ext cx="3543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 rot="660000">
            <a:off x="6248160" y="3962160"/>
            <a:ext cx="2361960" cy="2476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 rot="20541600">
            <a:off x="4419360" y="4495680"/>
            <a:ext cx="2133360" cy="2019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части книги были выпущены в свет в начале 1837 года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, шестая часть, опубликована в Санкт-Петербурге спустя три год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ее труд писательнице была присуждена Демидовская прем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слугу Ишимовой ставились увлекательность изложения и простота языка, умелое использование "основоположительных" источников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1352520" cy="1371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1840-х создала детский литературно-художественный журна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3вездочка"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34120" y="1905120"/>
            <a:ext cx="2819160" cy="309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676520" y="2514600"/>
            <a:ext cx="2819160" cy="3276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урнал издавался Ишимовой в двух видах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етей младшего возраста;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о для отрочат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50 году возник детский журнал — "Луч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4114800" cy="3209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37335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вященная история в рассказах для маленьких детей" (1841), "Чтение для детей первого возраста" (1845), "Каникулы 1844 года, или Поездка и Москву" (1840), "Исторические рассказы Ишимовой" (1849), "Маменькины уроки, или Всеобщая история в рассказах для детей" (1858–1863), "Сокращенная русская история" (1867), "Рассказы для детей из естественной истории" (1877), "Рассказы из Священной истории для крестьянских детей" (1877), "О молитве Господней для маленьких детей" (1881)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1:36:19Z</dcterms:created>
  <dc:creator>Natalia)))</dc:creator>
  <dc:description/>
  <dc:language>en-US</dc:language>
  <cp:lastModifiedBy>user</cp:lastModifiedBy>
  <dcterms:modified xsi:type="dcterms:W3CDTF">2014-10-28T22:40:3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