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A0A3-0A17-42C1-BE93-4BF7CA13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F22-D179-4C56-A54C-0E29D05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7CF-6300-45E8-9FFC-43E2870E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0A9-F203-4A1E-8513-707D5741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E12-9B05-4F72-B049-07E7466B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2E40-5640-4CC1-983B-5A7DEE4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7132-453D-4ADB-88B2-9E2886E4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F635-536C-4962-A775-CA33CB5A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8AD-9B8B-4E79-8253-63937CC3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5D-4C69-45DE-A413-973B6F42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2EC0-025F-4E48-AFFD-6CAFD8EC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40E6-C887-4F12-A385-618490E8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0033-898A-4D33-B881-5AF31E7AFB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онные игры и упражнения в работе с детьми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85600" y="4357800"/>
            <a:ext cx="6429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-психо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ДОУ №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овченко Фаина Михайл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и мяч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предлагает детям разделиться на пары. Один из детей изображает мяч, другой – насос. Каждый ребенок выполняет движения в соответствии с полученной рол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сдутый» - ребенок сидит на корточ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надувает мяч» - ребенок делает соответствующие движения руками, сопровождая их звуками «С-с-с…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становится все больше» - ребенок постепенно встает, надувает щеки, поднимает руки ввер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сос прекращает работу» - ребенок делает вид, что выдергивает шлан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яч вновь сдувается» - ребенок медленно садится, выпускает воздух из щек, опускает ру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повторяется несколько раз, затем дети меняются роля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елаксация через предст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ажны интонация и медленный темп речи взрослого. Они должны способствовать появлению состояния покоя и отдыха. Введение в такое состояние поможет использование специальной музыки для релаксации. Музыка : ослабляет действие стрессора, увеличивает адаптационные возможности организма, способствует мобилизации внутреннего потенци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енний лес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осит ребенка представит, что он превратился в дерево, а затем говорит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ом дерево было зеленым и пышным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бенок стоит, расправив спину и подняв руки).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скоре наступила осень, и дерево стало засыпать. Сначала заснули верхние самые тонкие веточки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т руки поднятыми, опускает пальцы, а затем кисти рук),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ом веточки потолще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гибает руки в локтях),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тем и самые толстые нижние ветви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пускает руки). </a:t>
            </a: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упила зима. Заснуло дерево до весны (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жится на ковер, закрывает глаза и сохраняет принятую позу до сигнала взрослого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обычная радуг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включает спокойную расслабляющую музыку и говорит: «Лягте удобно, расслабьтесь, дышите ровно и глубоко. Закройте глаза. Представьте, что перед вашими глазами необычная радуг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цвет – голубой. Голубой может быть мягким и успокаивающим, как струящаяся вода. Голубой приятно ласкает глаз в жару, он освежает тебя как купание в озере. Ощутите эту свеже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й – желтый цвет. Желтый приносит нам радость, он согревает нас, как солнышко, он напоминает нам нежного пушистого цыпленка, и мы улыбаемся. Если нам грустно и одиноко, он поднимает настро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– цвет мягкой лужайки, листьев и теплого лета. Если нам не по себе, и мы чувствуем себя неуверенно, зеленый цвет поможет чувствовать себя лучш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те глаза. Что вы чувствовали и ощущали, когда представляли себе, что смотрите на голубой, желтый и зеленый цвет? Возьмите с собой эти ощущения на весь день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упражнений очень нравиться детям. Они быстро обучаются умению расслабляться. Научившись расслабляться ребенок получает то, в чем раньше испытывал недостаток. Это касается познавательной и эмоциональной сфер, крупной и мелкой мото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Овал 3"/>
          <p:cNvSpPr/>
          <p:nvPr/>
        </p:nvSpPr>
        <p:spPr>
          <a:xfrm>
            <a:off x="571680" y="500040"/>
            <a:ext cx="28573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озбужденнные , беспокойные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4"/>
          <p:cNvSpPr/>
          <p:nvPr/>
        </p:nvSpPr>
        <p:spPr>
          <a:xfrm>
            <a:off x="4929120" y="500040"/>
            <a:ext cx="3571920" cy="1071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олее уравновешенные, внимательные терпе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5"/>
          <p:cNvSpPr/>
          <p:nvPr/>
        </p:nvSpPr>
        <p:spPr>
          <a:xfrm>
            <a:off x="642960" y="2357280"/>
            <a:ext cx="3357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торможеннные, застенчивые, робкие и вялые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6"/>
          <p:cNvSpPr/>
          <p:nvPr/>
        </p:nvSpPr>
        <p:spPr>
          <a:xfrm>
            <a:off x="5072040" y="2000160"/>
            <a:ext cx="3571920" cy="1500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веренность в  себе, бодрость, свободу в выражении чувств и мыс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право 7"/>
          <p:cNvSpPr/>
          <p:nvPr/>
        </p:nvSpPr>
        <p:spPr>
          <a:xfrm>
            <a:off x="3714840" y="71424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право 8"/>
          <p:cNvSpPr/>
          <p:nvPr/>
        </p:nvSpPr>
        <p:spPr>
          <a:xfrm>
            <a:off x="4000680" y="250020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Левая фигурная скобка 9"/>
          <p:cNvSpPr/>
          <p:nvPr/>
        </p:nvSpPr>
        <p:spPr>
          <a:xfrm rot="16200000">
            <a:off x="4321800" y="1035720"/>
            <a:ext cx="642960" cy="628668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6286680"/>
              <a:gd name="textAreaBottom" fmla="*/ 6270120 h 628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4"/>
                </a:cubicBezTo>
                <a:lnTo>
                  <a:pt x="10800" y="10616"/>
                </a:lnTo>
                <a:cubicBezTo>
                  <a:pt x="10800" y="10708"/>
                  <a:pt x="5400" y="10800"/>
                  <a:pt x="0" y="10800"/>
                </a:cubicBezTo>
                <a:cubicBezTo>
                  <a:pt x="5400" y="10800"/>
                  <a:pt x="10800" y="10892"/>
                  <a:pt x="10800" y="10984"/>
                </a:cubicBezTo>
                <a:lnTo>
                  <a:pt x="10800" y="21416"/>
                </a:lnTo>
                <a:cubicBezTo>
                  <a:pt x="10800" y="2150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10" descr=""/>
          <p:cNvPicPr/>
          <p:nvPr/>
        </p:nvPicPr>
        <p:blipFill>
          <a:blip r:embed="rId1"/>
          <a:stretch/>
        </p:blipFill>
        <p:spPr>
          <a:xfrm>
            <a:off x="-291960" y="4267080"/>
            <a:ext cx="98503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2000160"/>
            <a:ext cx="765684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57120" y="5000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е дошкольники порой  загружены не меньше взрослых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Овал 3"/>
          <p:cNvSpPr/>
          <p:nvPr/>
        </p:nvSpPr>
        <p:spPr>
          <a:xfrm>
            <a:off x="3357720" y="1357200"/>
            <a:ext cx="25574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1500120" y="1500120"/>
            <a:ext cx="292896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4929120" y="1500120"/>
            <a:ext cx="2143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тивные с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Левая фигурная скобка 6"/>
          <p:cNvSpPr/>
          <p:nvPr/>
        </p:nvSpPr>
        <p:spPr>
          <a:xfrm rot="16200000">
            <a:off x="4143240" y="428400"/>
            <a:ext cx="714240" cy="5429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5429160"/>
              <a:gd name="textAreaBottom" fmla="*/ 5410800 h 5429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9"/>
                  <a:pt x="10800" y="237"/>
                </a:cubicBezTo>
                <a:lnTo>
                  <a:pt x="10800" y="10270"/>
                </a:lnTo>
                <a:cubicBezTo>
                  <a:pt x="10800" y="10389"/>
                  <a:pt x="5400" y="10507"/>
                  <a:pt x="0" y="10507"/>
                </a:cubicBezTo>
                <a:cubicBezTo>
                  <a:pt x="5400" y="10507"/>
                  <a:pt x="10800" y="10626"/>
                  <a:pt x="10800" y="10744"/>
                </a:cubicBezTo>
                <a:lnTo>
                  <a:pt x="10800" y="21363"/>
                </a:lnTo>
                <a:cubicBezTo>
                  <a:pt x="10800" y="21482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70c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Прямоугольник 8" descr=""/>
          <p:cNvPicPr/>
          <p:nvPr/>
        </p:nvPicPr>
        <p:blipFill>
          <a:blip r:embed="rId1"/>
          <a:stretch/>
        </p:blipFill>
        <p:spPr>
          <a:xfrm>
            <a:off x="2206800" y="2657520"/>
            <a:ext cx="4431960" cy="598320"/>
          </a:xfrm>
          <a:prstGeom prst="rect">
            <a:avLst/>
          </a:prstGeom>
          <a:ln w="0">
            <a:noFill/>
          </a:ln>
        </p:spPr>
      </p:pic>
      <p:sp>
        <p:nvSpPr>
          <p:cNvPr id="49" name="Волна 9"/>
          <p:cNvSpPr/>
          <p:nvPr/>
        </p:nvSpPr>
        <p:spPr>
          <a:xfrm>
            <a:off x="1357200" y="3429000"/>
            <a:ext cx="6143760" cy="914400"/>
          </a:xfrm>
          <a:custGeom>
            <a:avLst/>
            <a:gdLst>
              <a:gd name="textAreaLeft" fmla="*/ 0 w 6143760"/>
              <a:gd name="textAreaRight" fmla="*/ 6144120 w 61437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дает психическое здоровье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трелка вниз 10"/>
          <p:cNvSpPr/>
          <p:nvPr/>
        </p:nvSpPr>
        <p:spPr>
          <a:xfrm>
            <a:off x="4143240" y="4286160"/>
            <a:ext cx="484200" cy="97812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Волна 11"/>
          <p:cNvSpPr/>
          <p:nvPr/>
        </p:nvSpPr>
        <p:spPr>
          <a:xfrm>
            <a:off x="1928880" y="5286240"/>
            <a:ext cx="4929120" cy="947880"/>
          </a:xfrm>
          <a:custGeom>
            <a:avLst/>
            <a:gdLst>
              <a:gd name="textAreaLeft" fmla="*/ 0 w 4929120"/>
              <a:gd name="textAreaRight" fmla="*/ 4929480 w 4929120"/>
              <a:gd name="textAreaTop" fmla="*/ 236880 h 947880"/>
              <a:gd name="textAreaBottom" fmla="*/ 711000 h 947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бходимо использовать упражнения на релаксац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2"/>
          <p:cNvSpPr/>
          <p:nvPr/>
        </p:nvSpPr>
        <p:spPr>
          <a:xfrm>
            <a:off x="3714840" y="1928880"/>
            <a:ext cx="15714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в т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(от лат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лабление, расслабление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ое мышечное расслабление, сопровождающееся снятием психического напряж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оизвольная                              Произвольна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>
            <a:off x="5356800" y="3214440"/>
            <a:ext cx="857880" cy="92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 flipH="1">
            <a:off x="2071080" y="3286080"/>
            <a:ext cx="572040" cy="9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ча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71680" y="1142640"/>
            <a:ext cx="8229600" cy="6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теории мышечной релаксации лежит утверждение, что разум и тело человека крепко взаимосвязан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3"/>
          <p:cNvSpPr/>
          <p:nvPr/>
        </p:nvSpPr>
        <p:spPr>
          <a:xfrm>
            <a:off x="1428840" y="1785960"/>
            <a:ext cx="2143080" cy="13572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умственно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5"/>
          <p:cNvSpPr/>
          <p:nvPr/>
        </p:nvSpPr>
        <p:spPr>
          <a:xfrm>
            <a:off x="5072040" y="1857240"/>
            <a:ext cx="200016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ое на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Двойная стрелка влево/вправо 6"/>
          <p:cNvSpPr/>
          <p:nvPr/>
        </p:nvSpPr>
        <p:spPr>
          <a:xfrm>
            <a:off x="2714760" y="3000240"/>
            <a:ext cx="3286080" cy="484200"/>
          </a:xfrm>
          <a:prstGeom prst="leftRight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7"/>
          <p:cNvSpPr/>
          <p:nvPr/>
        </p:nvSpPr>
        <p:spPr>
          <a:xfrm>
            <a:off x="4071960" y="3429000"/>
            <a:ext cx="484200" cy="8571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8"/>
          <p:cNvSpPr/>
          <p:nvPr/>
        </p:nvSpPr>
        <p:spPr>
          <a:xfrm>
            <a:off x="2500200" y="4286160"/>
            <a:ext cx="3571920" cy="1143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лабь  разум и расслабиться тело наобор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Левая фигурная скобка 10"/>
          <p:cNvSpPr/>
          <p:nvPr/>
        </p:nvSpPr>
        <p:spPr>
          <a:xfrm rot="16200000">
            <a:off x="4089960" y="3053160"/>
            <a:ext cx="534960" cy="5000760"/>
          </a:xfrm>
          <a:custGeom>
            <a:avLst/>
            <a:gdLst>
              <a:gd name="textAreaLeft" fmla="*/ 342000 w 534960"/>
              <a:gd name="textAreaRight" fmla="*/ 535320 w 534960"/>
              <a:gd name="textAreaTop" fmla="*/ 13680 h 5000760"/>
              <a:gd name="textAreaBottom" fmla="*/ 498708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7"/>
                  <a:pt x="10800" y="193"/>
                </a:cubicBezTo>
                <a:lnTo>
                  <a:pt x="10800" y="10693"/>
                </a:lnTo>
                <a:cubicBezTo>
                  <a:pt x="10800" y="10790"/>
                  <a:pt x="5400" y="10886"/>
                  <a:pt x="0" y="10886"/>
                </a:cubicBezTo>
                <a:cubicBezTo>
                  <a:pt x="5400" y="10886"/>
                  <a:pt x="10800" y="10983"/>
                  <a:pt x="10800" y="11079"/>
                </a:cubicBezTo>
                <a:lnTo>
                  <a:pt x="10800" y="21407"/>
                </a:lnTo>
                <a:cubicBezTo>
                  <a:pt x="10800" y="2150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11" descr=""/>
          <p:cNvPicPr/>
          <p:nvPr/>
        </p:nvPicPr>
        <p:blipFill>
          <a:blip r:embed="rId1"/>
          <a:stretch/>
        </p:blipFill>
        <p:spPr>
          <a:xfrm>
            <a:off x="1504800" y="5370480"/>
            <a:ext cx="5816880" cy="1494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1785600"/>
            <a:ext cx="8229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и релаксации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рогрессивная мышечная релаксация по методу д-ра Джекобс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ксация возникает естественным путем за счет утомления  мышц, и ребенок лучше  почувствует расслабление если сначала ощутит напряжение в мышцах. Сильно напрягаем мышцу в течение 5-10 сек, а затем 15-20 сек концентрация на чувстве расслабле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: сохранение определенной позы в течение некоторого времени(движения практически отсутствую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адош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предлагает ребенку выполнять до возникновения усталости за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ть ладошки друг о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еть кулачки друг о дру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ать игру на бараба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ь ладошки «рыбкой» и выполнять ими волнообразные дви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.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возникновении усталости –отдых ( опустить руки и потрясти кистями), направить внимание ребенка на сравнении мышечных ощущ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сслабление через дых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 основана на полном насыщении легких кислоро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упражнение помогает тревожным и застенчивым  справиться с волнение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ифт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жнение выполняется сто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 говорит: «Положите ладонь на живот. Представьте, что живот – это первый этаж дома. Немного выше находится желудок – это второй этаж дома. Подержите там ладонь. Теперь положите ладонь на грудь и представьте, что это третий этаж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готовьтесь, мы начинаем «поездку на лифте»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ртом медленно и глубоко так, чтобы воздух дошел до первого этажа – до живота. Задержите дыхание. Выдохните 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так, чтобы воздух поднялся на один этаж выше – до желудка. Задержите дыхание. Выдохните р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хните – и «поднимите лифт» еще на один этаж – до груди. Задержите дыхание. Выдохните рт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выдоха вы ощущаете, что напряжение и волнение выходят из тела, словно из дверей лифта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ыполнения 2-3 минуты. Дыхание задерживается на 2-3 секун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4:23:22Z</dcterms:created>
  <dc:creator>Ольга</dc:creator>
  <dc:description/>
  <dc:language>en-US</dc:language>
  <cp:lastModifiedBy>Acer</cp:lastModifiedBy>
  <dcterms:modified xsi:type="dcterms:W3CDTF">2016-04-18T15:37:55Z</dcterms:modified>
  <cp:revision>26</cp:revision>
  <dc:subject/>
  <dc:title>Релаксационные игры и упражнения в работе с детьми</dc:title>
</cp:coreProperties>
</file>