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applause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9B1A-8669-49B6-A9B3-81D86CB31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A7D5-39D5-4D2B-803B-CE77E691C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C307-A497-403F-9D38-DFA9C5F7A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6C49-BC4F-4C4B-BE13-2640C6393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E324-2B49-47AE-94EB-FFA3C5059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2277-798D-4AC9-8C3C-5EC8695D8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D63E-9FFE-4CA4-ABBA-5DBC85301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CCDB-8181-460F-82D1-00083F1C6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2A67-0EE6-4BC8-B9D7-FCF1799B8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35DF-4679-4AAA-8F46-D5A6AA547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1CD3-022D-4478-81C8-87E76733E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96F2-49C5-4ABF-8E6E-B3D5FA076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374B3-884C-48F7-A3AA-3D5FE1B8609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1285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лаксационные игры и упражнения в работе с детьми дошкольного возраст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85600" y="4357800"/>
            <a:ext cx="6429240" cy="23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л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-психолог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ДОУ № 19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товченко Фаина Михайлов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Насос и мяч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олог предлагает детям разделиться на пары. Один из детей изображает мяч, другой – насос. Каждый ребенок выполняет движения в соответствии с полученной ролью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яч сдутый» - ребенок сидит на корточках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Насос надувает мяч» - ребенок делает соответствующие движения руками, сопровождая их звуками «С-с-с…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яч становится все больше» - ребенок постепенно встает, надувает щеки, поднимает руки вверх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Насос прекращает работу» - ребенок делает вид, что выдергивает шланг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яч вновь сдувается» - ребенок медленно садится, выпускает воздух из щек, опускает рук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жнение повторяется несколько раз, затем дети меняются ролям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457200" y="428760"/>
            <a:ext cx="822960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Релаксация через представл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есь важны интонация и медленный темп речи взрослого. Они должны способствовать появлению состояния покоя и отдыха. Введение в такое состояние поможет использование специальной музыки для релаксации. Музыка : ослабляет действие стрессора, увеличивает адаптационные возможности организма, способствует мобилизации внутреннего потенциал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сенний лес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рослый просит ребенка представит, что он превратился в дерево, а затем говорит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том дерево было зеленым и пышным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ребенок стоит, расправив спину и подняв руки). </a:t>
            </a:r>
            <a:r>
              <a:rPr b="0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 вскоре наступила осень, и дерево стало засыпать. Сначала заснули верхние самые тонкие веточки (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ржат руки поднятыми, опускает пальцы, а затем кисти рук),</a:t>
            </a:r>
            <a:r>
              <a:rPr b="0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том веточки потолще (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гибает руки в локтях), </a:t>
            </a:r>
            <a:r>
              <a:rPr b="0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затем и самые толстые нижние ветви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опускает руки). </a:t>
            </a:r>
            <a:r>
              <a:rPr b="0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упила зима. Заснуло дерево до весны (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жится на ковер, закрывает глаза и сохраняет принятую позу до сигнала взрослого)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Необычная радуга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олог включает спокойную расслабляющую музыку и говорит: «Лягте удобно, расслабьтесь, дышите ровно и глубоко. Закройте глаза. Представьте, что перед вашими глазами необычная радуг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ый цвет – голубой. Голубой может быть мягким и успокаивающим, как струящаяся вода. Голубой приятно ласкает глаз в жару, он освежает тебя как купание в озере. Ощутите эту свежест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ующий – желтый цвет. Желтый приносит нам радость, он согревает нас, как солнышко, он напоминает нам нежного пушистого цыпленка, и мы улыбаемся. Если нам грустно и одиноко, он поднимает настроени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леный – цвет мягкой лужайки, листьев и теплого лета. Если нам не по себе, и мы чувствуем себя неуверенно, зеленый цвет поможет чувствовать себя лучш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ройте глаза. Что вы чувствовали и ощущали, когда представляли себе, что смотрите на голубой, желтый и зеленый цвет? Возьмите с собой эти ощущения на весь день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ение упражнений очень нравиться детям. Они быстро обучаются умению расслабляться. Научившись расслабляться ребенок получает то, в чем раньше испытывал недостаток. Это касается познавательной и эмоциональной сфер, крупной и мелкой моторик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Овал 3"/>
          <p:cNvSpPr/>
          <p:nvPr/>
        </p:nvSpPr>
        <p:spPr>
          <a:xfrm>
            <a:off x="571680" y="500040"/>
            <a:ext cx="2857320" cy="9144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Возбужденнные , беспокойные де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Овал 4"/>
          <p:cNvSpPr/>
          <p:nvPr/>
        </p:nvSpPr>
        <p:spPr>
          <a:xfrm>
            <a:off x="4929120" y="500040"/>
            <a:ext cx="3571920" cy="10717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Более уравновешенные, внимательные терпелив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Овал 5"/>
          <p:cNvSpPr/>
          <p:nvPr/>
        </p:nvSpPr>
        <p:spPr>
          <a:xfrm>
            <a:off x="642960" y="2357280"/>
            <a:ext cx="3357720" cy="9144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Заторможеннные, застенчивые, робкие и вялые де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Овал 6"/>
          <p:cNvSpPr/>
          <p:nvPr/>
        </p:nvSpPr>
        <p:spPr>
          <a:xfrm>
            <a:off x="5072040" y="2000160"/>
            <a:ext cx="3571920" cy="15001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Уверенность в  себе, бодрость, свободу в выражении чувств и мыс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Стрелка вправо 7"/>
          <p:cNvSpPr/>
          <p:nvPr/>
        </p:nvSpPr>
        <p:spPr>
          <a:xfrm>
            <a:off x="3714840" y="714240"/>
            <a:ext cx="977760" cy="48420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Стрелка вправо 8"/>
          <p:cNvSpPr/>
          <p:nvPr/>
        </p:nvSpPr>
        <p:spPr>
          <a:xfrm>
            <a:off x="4000680" y="2500200"/>
            <a:ext cx="977760" cy="48420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Левая фигурная скобка 9"/>
          <p:cNvSpPr/>
          <p:nvPr/>
        </p:nvSpPr>
        <p:spPr>
          <a:xfrm rot="16200000">
            <a:off x="4321800" y="1035720"/>
            <a:ext cx="642960" cy="6286680"/>
          </a:xfrm>
          <a:custGeom>
            <a:avLst/>
            <a:gdLst>
              <a:gd name="textAreaLeft" fmla="*/ 410760 w 642960"/>
              <a:gd name="textAreaRight" fmla="*/ 642960 w 642960"/>
              <a:gd name="textAreaTop" fmla="*/ 16560 h 6286680"/>
              <a:gd name="textAreaBottom" fmla="*/ 6270120 h 628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2"/>
                  <a:pt x="10800" y="184"/>
                </a:cubicBezTo>
                <a:lnTo>
                  <a:pt x="10800" y="10616"/>
                </a:lnTo>
                <a:cubicBezTo>
                  <a:pt x="10800" y="10708"/>
                  <a:pt x="5400" y="10800"/>
                  <a:pt x="0" y="10800"/>
                </a:cubicBezTo>
                <a:cubicBezTo>
                  <a:pt x="5400" y="10800"/>
                  <a:pt x="10800" y="10892"/>
                  <a:pt x="10800" y="10984"/>
                </a:cubicBezTo>
                <a:lnTo>
                  <a:pt x="10800" y="21416"/>
                </a:lnTo>
                <a:cubicBezTo>
                  <a:pt x="10800" y="21508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Прямоугольник 10" descr=""/>
          <p:cNvPicPr/>
          <p:nvPr/>
        </p:nvPicPr>
        <p:blipFill>
          <a:blip r:embed="rId1"/>
          <a:stretch/>
        </p:blipFill>
        <p:spPr>
          <a:xfrm>
            <a:off x="-291960" y="4267080"/>
            <a:ext cx="9850320" cy="22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Прямоугольник 3" descr=""/>
          <p:cNvPicPr/>
          <p:nvPr/>
        </p:nvPicPr>
        <p:blipFill>
          <a:blip r:embed="rId1"/>
          <a:stretch/>
        </p:blipFill>
        <p:spPr>
          <a:xfrm>
            <a:off x="633240" y="2000160"/>
            <a:ext cx="7656840" cy="385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357120" y="500040"/>
            <a:ext cx="82296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ременные дошкольники порой  загружены не меньше взрослых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Овал 3"/>
          <p:cNvSpPr/>
          <p:nvPr/>
        </p:nvSpPr>
        <p:spPr>
          <a:xfrm>
            <a:off x="3357720" y="1357200"/>
            <a:ext cx="2557440" cy="9144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тский с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Овал 4"/>
          <p:cNvSpPr/>
          <p:nvPr/>
        </p:nvSpPr>
        <p:spPr>
          <a:xfrm>
            <a:off x="1500120" y="1500120"/>
            <a:ext cx="2928960" cy="9144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руж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Овал 5"/>
          <p:cNvSpPr/>
          <p:nvPr/>
        </p:nvSpPr>
        <p:spPr>
          <a:xfrm>
            <a:off x="4929120" y="1500120"/>
            <a:ext cx="2143080" cy="9144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ортивные сек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Левая фигурная скобка 6"/>
          <p:cNvSpPr/>
          <p:nvPr/>
        </p:nvSpPr>
        <p:spPr>
          <a:xfrm rot="16200000">
            <a:off x="4143240" y="428400"/>
            <a:ext cx="714240" cy="5429160"/>
          </a:xfrm>
          <a:custGeom>
            <a:avLst/>
            <a:gdLst>
              <a:gd name="textAreaLeft" fmla="*/ 456480 w 714240"/>
              <a:gd name="textAreaRight" fmla="*/ 714600 w 714240"/>
              <a:gd name="textAreaTop" fmla="*/ 18360 h 5429160"/>
              <a:gd name="textAreaBottom" fmla="*/ 5410800 h 5429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9"/>
                  <a:pt x="10800" y="237"/>
                </a:cubicBezTo>
                <a:lnTo>
                  <a:pt x="10800" y="10270"/>
                </a:lnTo>
                <a:cubicBezTo>
                  <a:pt x="10800" y="10389"/>
                  <a:pt x="5400" y="10507"/>
                  <a:pt x="0" y="10507"/>
                </a:cubicBezTo>
                <a:cubicBezTo>
                  <a:pt x="5400" y="10507"/>
                  <a:pt x="10800" y="10626"/>
                  <a:pt x="10800" y="10744"/>
                </a:cubicBezTo>
                <a:lnTo>
                  <a:pt x="10800" y="21363"/>
                </a:lnTo>
                <a:cubicBezTo>
                  <a:pt x="10800" y="21482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70c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Прямоугольник 8" descr=""/>
          <p:cNvPicPr/>
          <p:nvPr/>
        </p:nvPicPr>
        <p:blipFill>
          <a:blip r:embed="rId1"/>
          <a:stretch/>
        </p:blipFill>
        <p:spPr>
          <a:xfrm>
            <a:off x="2206800" y="2657520"/>
            <a:ext cx="4431960" cy="598320"/>
          </a:xfrm>
          <a:prstGeom prst="rect">
            <a:avLst/>
          </a:prstGeom>
          <a:ln w="0">
            <a:noFill/>
          </a:ln>
        </p:spPr>
      </p:pic>
      <p:sp>
        <p:nvSpPr>
          <p:cNvPr id="49" name="Волна 9"/>
          <p:cNvSpPr/>
          <p:nvPr/>
        </p:nvSpPr>
        <p:spPr>
          <a:xfrm>
            <a:off x="1357200" y="3429000"/>
            <a:ext cx="6143760" cy="914400"/>
          </a:xfrm>
          <a:custGeom>
            <a:avLst/>
            <a:gdLst>
              <a:gd name="textAreaLeft" fmla="*/ 0 w 6143760"/>
              <a:gd name="textAreaRight" fmla="*/ 6144120 w 614376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радает психическое здоровье де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Стрелка вниз 10"/>
          <p:cNvSpPr/>
          <p:nvPr/>
        </p:nvSpPr>
        <p:spPr>
          <a:xfrm>
            <a:off x="4143240" y="4286160"/>
            <a:ext cx="484200" cy="978120"/>
          </a:xfrm>
          <a:prstGeom prst="downArrow">
            <a:avLst>
              <a:gd name="adj1" fmla="val 50000"/>
              <a:gd name="adj2" fmla="val 5000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Волна 11"/>
          <p:cNvSpPr/>
          <p:nvPr/>
        </p:nvSpPr>
        <p:spPr>
          <a:xfrm>
            <a:off x="1928880" y="5286240"/>
            <a:ext cx="4929120" cy="947880"/>
          </a:xfrm>
          <a:custGeom>
            <a:avLst/>
            <a:gdLst>
              <a:gd name="textAreaLeft" fmla="*/ 0 w 4929120"/>
              <a:gd name="textAreaRight" fmla="*/ 4929480 w 4929120"/>
              <a:gd name="textAreaTop" fmla="*/ 236880 h 947880"/>
              <a:gd name="textAreaBottom" fmla="*/ 711000 h 94788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обходимо использовать упражнения на релаксац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Овал 12"/>
          <p:cNvSpPr/>
          <p:nvPr/>
        </p:nvSpPr>
        <p:spPr>
          <a:xfrm>
            <a:off x="3714840" y="1928880"/>
            <a:ext cx="1571400" cy="9144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едение в тем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400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лаксация(от лат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xatio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слабление, расслабление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убокое мышечное расслабление, сопровождающееся снятием психического напряже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произвольная                              Произвольна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5" name="Прямая со стрелкой 4"/>
          <p:cNvCxnSpPr/>
          <p:nvPr/>
        </p:nvCxnSpPr>
        <p:spPr>
          <a:xfrm>
            <a:off x="5356800" y="3214440"/>
            <a:ext cx="857880" cy="929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6" name="Прямая со стрелкой 6"/>
          <p:cNvCxnSpPr/>
          <p:nvPr/>
        </p:nvCxnSpPr>
        <p:spPr>
          <a:xfrm flipH="1">
            <a:off x="2071080" y="3286080"/>
            <a:ext cx="572040" cy="929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оретическая част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571680" y="1142640"/>
            <a:ext cx="8229600" cy="6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снове теории мышечной релаксации лежит утверждение, что разум и тело человека крепко взаимосвязаны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Овал 3"/>
          <p:cNvSpPr/>
          <p:nvPr/>
        </p:nvSpPr>
        <p:spPr>
          <a:xfrm>
            <a:off x="1428840" y="1785960"/>
            <a:ext cx="2143080" cy="13572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рвное напряж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умственное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5"/>
          <p:cNvSpPr/>
          <p:nvPr/>
        </p:nvSpPr>
        <p:spPr>
          <a:xfrm>
            <a:off x="5072040" y="1857240"/>
            <a:ext cx="2000160" cy="11430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ышечное напряж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Двойная стрелка влево/вправо 6"/>
          <p:cNvSpPr/>
          <p:nvPr/>
        </p:nvSpPr>
        <p:spPr>
          <a:xfrm>
            <a:off x="2714760" y="3000240"/>
            <a:ext cx="3286080" cy="484200"/>
          </a:xfrm>
          <a:prstGeom prst="leftRightArrow">
            <a:avLst>
              <a:gd name="adj1" fmla="val 50000"/>
              <a:gd name="adj2" fmla="val 4998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Стрелка вниз 7"/>
          <p:cNvSpPr/>
          <p:nvPr/>
        </p:nvSpPr>
        <p:spPr>
          <a:xfrm>
            <a:off x="4071960" y="3429000"/>
            <a:ext cx="484200" cy="857160"/>
          </a:xfrm>
          <a:prstGeom prst="downArrow">
            <a:avLst>
              <a:gd name="adj1" fmla="val 50000"/>
              <a:gd name="adj2" fmla="val 4999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Овал 8"/>
          <p:cNvSpPr/>
          <p:nvPr/>
        </p:nvSpPr>
        <p:spPr>
          <a:xfrm>
            <a:off x="2500200" y="4286160"/>
            <a:ext cx="3571920" cy="11430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сслабь  разум и расслабиться тело наоборо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Левая фигурная скобка 10"/>
          <p:cNvSpPr/>
          <p:nvPr/>
        </p:nvSpPr>
        <p:spPr>
          <a:xfrm rot="16200000">
            <a:off x="4089960" y="3053160"/>
            <a:ext cx="534960" cy="5000760"/>
          </a:xfrm>
          <a:custGeom>
            <a:avLst/>
            <a:gdLst>
              <a:gd name="textAreaLeft" fmla="*/ 342000 w 534960"/>
              <a:gd name="textAreaRight" fmla="*/ 535320 w 534960"/>
              <a:gd name="textAreaTop" fmla="*/ 13680 h 5000760"/>
              <a:gd name="textAreaBottom" fmla="*/ 4987080 h 5000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7"/>
                  <a:pt x="10800" y="193"/>
                </a:cubicBezTo>
                <a:lnTo>
                  <a:pt x="10800" y="10693"/>
                </a:lnTo>
                <a:cubicBezTo>
                  <a:pt x="10800" y="10790"/>
                  <a:pt x="5400" y="10886"/>
                  <a:pt x="0" y="10886"/>
                </a:cubicBezTo>
                <a:cubicBezTo>
                  <a:pt x="5400" y="10886"/>
                  <a:pt x="10800" y="10983"/>
                  <a:pt x="10800" y="11079"/>
                </a:cubicBezTo>
                <a:lnTo>
                  <a:pt x="10800" y="21407"/>
                </a:lnTo>
                <a:cubicBezTo>
                  <a:pt x="10800" y="21504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Прямоугольник 11" descr=""/>
          <p:cNvPicPr/>
          <p:nvPr/>
        </p:nvPicPr>
        <p:blipFill>
          <a:blip r:embed="rId1"/>
          <a:stretch/>
        </p:blipFill>
        <p:spPr>
          <a:xfrm>
            <a:off x="1504800" y="5370480"/>
            <a:ext cx="5816880" cy="149400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0040" y="1785600"/>
            <a:ext cx="8229600" cy="301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ики релаксации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Прогрессивная мышечная релаксация по методу д-ра Джекобсо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лаксация возникает естественным путем за счет утомления  мышц, и ребенок лучше  почувствует расслабление если сначала ощутит напряжение в мышцах. Сильно напрягаем мышцу в течение 5-10 сек, а затем 15-20 сек концентрация на чувстве расслабления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жно: сохранение определенной позы в течение некоторого времени(движения практически отсутствуют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Ладошки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рослый предлагает ребенку выполнять до возникновения усталости зада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еть ладошки друг о друг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еть кулачки друг о друг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бражать игру на барабан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жить ладошки «рыбкой» и выполнять ими волнообразные движ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.S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 возникновении усталости –отдых ( опустить руки и потрясти кистями), направить внимание ребенка на сравнении мышечных ощущени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457200" y="50004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Расслабление через дыха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ика основана на полном насыщении легких кислородо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ие упражнение помогает тревожным и застенчивым  справиться с волнение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Лифт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жнение выполняется сто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олог говорит: «Положите ладонь на живот. Представьте, что живот – это первый этаж дома. Немного выше находится желудок – это второй этаж дома. Подержите там ладонь. Теперь положите ладонь на грудь и представьте, что это третий этаж дом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готовьтесь, мы начинаем «поездку на лифте»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дохните ртом медленно и глубоко так, чтобы воздух дошел до первого этажа – до живота. Задержите дыхание. Выдохните рто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дохните так, чтобы воздух поднялся на один этаж выше – до желудка. Задержите дыхание. Выдохните рто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дохните – и «поднимите лифт» еще на один этаж – до груди. Задержите дыхание. Выдохните ртом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время выдоха вы ощущаете, что напряжение и волнение выходят из тела, словно из дверей лифта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я выполнения 2-3 минуты. Дыхание задерживается на 2-3 секунд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4T04:23:22Z</dcterms:created>
  <dc:creator>Ольга</dc:creator>
  <dc:description/>
  <dc:language>en-US</dc:language>
  <cp:lastModifiedBy>Acer</cp:lastModifiedBy>
  <dcterms:modified xsi:type="dcterms:W3CDTF">2016-04-18T15:37:55Z</dcterms:modified>
  <cp:revision>26</cp:revision>
  <dc:subject/>
  <dc:title>Релаксационные игры и упражнения в работе с детьми</dc:title>
</cp:coreProperties>
</file>