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B97-DAE8-4D48-B231-C9065682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277-2E9B-4A6A-975B-D11555AB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C80C-0455-431B-9337-81FE458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FD1B3-9EDB-44FB-89E8-698ADCE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A55B8-E835-4FA7-8D94-B8B523DB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C4C4F-0203-45B1-8ACB-994F414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1ED9-83CA-411D-8B2D-EE23FA0A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CF25C-E5B8-4ABF-A80A-F6593F8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D3A1C-2DAC-4A1D-A3E2-104B2FBD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76A96-A03B-4594-9AEA-119340B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2E6F-E96D-4328-B4A5-11C8CC8B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B29-80FC-4005-A427-08793069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BA8-7CF8-443B-82B8-548FDE1A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0528-1E39-4EBC-B799-EEF9A187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47DA-E688-4CBD-9A7F-D5D331D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770-02C3-4626-95CA-800FDA48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2DD-DBC8-446E-A457-02DCFFB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4E1A-FFDB-47F3-8933-46A9540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A4DF-190A-4C15-AA46-34C50EB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A84F-689A-4AA3-9E6F-8E6FB89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ECE-23A3-4CC3-AB0D-9B707B47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C948-9A98-4B57-83E9-2D1579F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8308-0176-4121-BBB7-7B7037D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FFDB-BCD7-48EC-B579-901572C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13E-830F-4271-A082-97F2DFB9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4F44-2C68-4848-838F-F535C146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F1EE-27DF-4DCE-BEB9-5FFE550E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B4D3-73CA-4EAF-AF5F-AD62D1CE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0E1F-4601-422A-9F23-DA1FBC0F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9C98-C4C4-44C4-B760-4A482571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C703-F53A-403A-9428-CED2E073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E02-8AC4-49CA-B2F8-B7A6D02D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1B9F-424D-46A0-AA6F-5F04C660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4537-0157-4E4C-AABB-4BA56B7D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BA7F-1FF7-4E79-A4AD-2F54AFE2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326D-C0E0-4636-B754-39BCEAC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3C6D-2C12-4538-8901-76224598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5D20-830F-46A7-A2AD-8D7E1EBF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B39D-8540-4A64-90AB-0AC1156A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56FB-C670-4279-8018-C6004EC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B0A1-687A-449C-BE1D-F9166A7D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BCFB-3AE0-46AF-962F-692CE1D0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6B0-91C5-4F4D-94B9-402454D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D394-1976-49B9-B3F5-05AC2F3B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CC64-3D65-45D8-B86F-DC3221A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F61F-0B6A-45B0-9754-32A9EE8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FDAB-FE25-48D3-B2F6-B31B0F1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7EDE-6E6E-46FF-A7DA-3775032B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E170-5595-4B4B-82E3-49669A1A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5177-6AD1-4B5E-B460-702E81BA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4A09-27FE-4B0F-A363-ED8D9454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68D39-9209-4ECF-B558-930DB9C2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8C7C-8223-42B4-BA5B-5CD44D50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83A-A696-4E4E-9F30-3F8A20D5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8C6B-DA23-43F4-BB7A-E5590744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F70A-D5FB-414F-A165-3FD1DFC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DF0E-9207-4503-8DCA-C3D64E26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5D88-A061-4EB7-BF56-30DE93CA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533E-F008-4D21-9940-B4EA2768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4A78-CDE2-42E3-9F4A-18AF521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3394-249C-4F2E-BBAE-6E3CA82D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9F09-F2F0-492C-BEF2-64619BFF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B3E0-ADA7-4553-9F3C-EA719C6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0BF3-20B3-4F67-9A7E-0B7B1E2F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C93-879E-4C92-8AE0-C719BA53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3F9F4-B6AE-4B01-A7B9-97AE7F00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22076-D2AE-490A-8A6F-9B2C6B68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13D5-6F8E-4678-9A7A-368F77C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83D6-2008-407C-ACE1-45D0D791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1F32-7B56-4676-831F-84D2B41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B63C-C9D2-4EEC-92FB-FFA7C1C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BB87-5D9C-4201-AD25-29DD7F4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9A7D-9D7B-45F1-9683-0206E6B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8CA67-8323-4D05-AF61-A16E457C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AC8BE-DAEB-4219-B40C-FECCFEEB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AD4-8138-4DA3-8CF2-038A5064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B8D8-2BD9-4841-A446-206B0D5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ED57-2A59-4155-AD46-B3A9F0F6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37A6-840A-4877-960A-E8234101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3E99-B400-44F4-89A4-97CD84FF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3A94-13CA-47FF-ABA9-1477506F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199B-7C83-424B-966B-2276B50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46B6-5330-4EB3-87ED-589C3B6B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6843F-04BA-4EB5-A3AF-3861BF90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CC2B-B9C2-4737-B5AA-92E9430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911C-D467-4B46-BB9F-78E36EAC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F8F-011A-495F-AB65-122F8CE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FFA7-31CA-457F-ADA1-8CDDE146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5306-F203-4797-AD37-AA14B57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0F82-3C6F-4901-9CB9-40B8547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8B03-8536-4854-9255-CE1B1D37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5933-7BD4-478B-90AC-6A03719A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B862E-3FCD-482A-BA8C-42DD949A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96C1-B2F3-412B-A990-E5124160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FF0D-8A81-4E5B-A83D-A260E309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18726-5D1E-477D-A256-30C4BB6C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4801-E956-42A1-9A4F-184E263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3398-D447-42A8-B32F-63FB8A86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B5480-D6CC-4E2E-8CBF-E502C7A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C259F-23F9-436C-A281-F1479EF4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F6326-1AFB-4E94-B32F-17ABAE8F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BF06-3181-404D-AF9E-145E0AE1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0C79-1ABA-43B0-8DC4-A02B6637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336B-282D-49F0-913E-A33A457B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4DFA3-4326-446C-81BF-F8C1DF85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33A07-0086-41BF-BA37-8DB4DC2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D8635-100F-4B43-AFCE-BE8EACB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C2646-B189-4DF5-9B46-22B2153D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A39-C4EE-44C5-82FF-50CB552647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B42-8AD4-4FE6-A202-6DF9CCF0425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7BBD-D702-443A-BD1D-9C26241CC31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679E-781E-4E7F-BD4D-41CCA83C20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6314-BFA2-4FF6-B21E-B2D94C567F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8E5-C125-4CD4-A7BD-39101F15F6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03F-58B4-410D-8F13-BAB91CA0D5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2D2B-1411-4588-8CFC-2DF79742F04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246F-2494-4DF3-A9D8-69AFE399101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a3o21oa8c851o74dodfcoc17959a1odl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Users\Танюша\Desktop\Альфия\всякое\Фото2522.jpg"/>
          <p:cNvPicPr/>
          <p:nvPr/>
        </p:nvPicPr>
        <p:blipFill>
          <a:blip r:embed="rId1"/>
          <a:stretch/>
        </p:blipFill>
        <p:spPr>
          <a:xfrm>
            <a:off x="468360" y="0"/>
            <a:ext cx="81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Users\Танюша\Desktop\Альфия\всякое\Фото2522.jpg"/>
          <p:cNvPicPr/>
          <p:nvPr/>
        </p:nvPicPr>
        <p:blipFill>
          <a:blip r:embed="rId1"/>
          <a:stretch/>
        </p:blipFill>
        <p:spPr>
          <a:xfrm>
            <a:off x="468360" y="0"/>
            <a:ext cx="81802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1619280" y="5013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Franklin Gothic Book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580000" y="530064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708360" y="333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C:\Users\Танюша\Desktop\Фото2522.jpg"/>
          <p:cNvPicPr/>
          <p:nvPr/>
        </p:nvPicPr>
        <p:blipFill>
          <a:blip r:embed="rId1"/>
          <a:stretch/>
        </p:blipFill>
        <p:spPr>
          <a:xfrm>
            <a:off x="1116000" y="39600"/>
            <a:ext cx="63723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684360" y="476280"/>
            <a:ext cx="33112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Franklin Gothic Medium"/>
              </a:rPr>
              <a:t>1 вари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Medium"/>
              </a:rPr>
              <a:t>53 +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5219640" y="476280"/>
            <a:ext cx="295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Franklin Gothic Medium"/>
              </a:rPr>
              <a:t>2 вари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Medium"/>
              </a:rPr>
              <a:t>65 + 7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900000" y="40464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Medium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РТ : с. 23 № 5,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86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611280" y="404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Franklin Gothic Book"/>
              </a:rPr>
              <a:t>13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Franklin Gothic Book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79280" y="1773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27,  72,  44,  83,  91,  29, 13, 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0" y="14130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10, 13, 27, 29, 44, 72, 83, 9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324000" y="155736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91, 83, 72, 44, 29, 27, 13, 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395280" y="4046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1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0 +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2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30 + 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3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20 +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4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5 +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395280" y="4046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1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0 +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2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30 + 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3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20 +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4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45 +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684360" y="836640"/>
            <a:ext cx="77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Medium"/>
              </a:rPr>
              <a:t>«Сложение двузначного числа и однозначного с переходом через разря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2"/>
          <p:cNvSpPr/>
          <p:nvPr/>
        </p:nvSpPr>
        <p:spPr>
          <a:xfrm>
            <a:off x="611280" y="620640"/>
            <a:ext cx="712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1 к. –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18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ка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2 к. –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6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ка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Всего -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3:33:41Z</dcterms:created>
  <dc:creator>Танюша</dc:creator>
  <dc:description/>
  <dc:language>en-US</dc:language>
  <cp:lastModifiedBy>Танюша</cp:lastModifiedBy>
  <dcterms:modified xsi:type="dcterms:W3CDTF">2015-10-12T18:03:48Z</dcterms:modified>
  <cp:revision>13</cp:revision>
  <dc:subject/>
  <dc:title>Слайд 1</dc:title>
</cp:coreProperties>
</file>