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8CA5-1771-4C71-B2FE-DCB6801B2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0A98-81F6-4740-B83E-09A8928F4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CD747C-6BB0-491D-8CB5-D756DE9F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89EB8A-E1EE-40BF-9460-016B113B6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902D72-9211-40E7-A33A-746C6F932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96F124-FE1F-49F3-B352-88B34513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A3D490-9336-46F6-90DB-46364F5F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233206-F914-41C6-BB13-AF68769A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572ED2-3BDD-4CEB-BAB0-AD05A0B9C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F5103E-10E9-44EC-9E96-F0B6AD34D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F1CE54-5961-421B-B9F5-A75B38989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03CF-6CF7-4549-97F5-27B4532C0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E965-8DF1-4C20-9532-D5AF0F1F6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84D63-1E1D-41B3-AB1E-45253C4FB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BAAB7-7A62-42DF-90B7-6E11B1268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A2E7D-8971-49CC-B08A-7148C276A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AAB1C-524F-491C-A8AE-2C69583BA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CD8EF-5F8F-43A0-831B-53BA148A9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29099-0874-4867-A4F3-F64F6E797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D6224-4994-4F17-BF92-CB964D9E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4BEA-E636-47BF-B4F5-E57CB190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6F48D-7E82-4018-9EB6-9EBAAADD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30300-65E0-4303-8C80-23AE80E4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925CF-EA7E-4AB3-B41F-42AFB64C9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72144-408F-4B15-A90B-D76A8E3F6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8F5D3-AEC2-4A4D-B720-39CA7E9E3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3591C-C186-40EE-B442-32F0FD73D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21899-8856-4AE1-B59C-C04C96391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A7BA2-0E0E-46F6-9D0F-66A75CE68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607CC-589A-47D5-A1BD-765B89BD3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293A8-6083-473C-9695-D3319CD32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9570-246F-459D-B016-AF3319D4D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4CB3B-6620-4137-BA05-8F0FBE737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4E9B9-51D9-47BE-8CC4-943F5818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4384C-DB1D-4D1F-B338-B94A7827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C6EA3-503D-4532-A9FA-04513B66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03729-C66F-4875-8DC9-B5A8B3320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5E902-4D3A-4299-B498-C0E4594DF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5DBFE-AEBC-4AE6-9F4A-1E5D1335B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6D649-BBEA-4F29-95B3-94F1F983A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65073-EB16-44E3-AE63-6ACC5B731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474B5-A77E-4B64-83D3-A9BFCCEFF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4E1F-A230-4349-B6AF-3FA71B666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4860C-2377-4559-97C5-357D43C23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46D09-5353-4475-B5F8-78B88BDDA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C46AE-B089-4093-A830-0CEA0FCB7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D0060-A28B-4F10-B083-BFE67749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B44E7-0206-4DD3-A887-D39457AE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69A70-15D9-4F37-BD4E-F0064EF1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A628A-4220-4FA1-86DB-875B2E24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79692-DB0A-4A10-BD52-DF26486DF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8F2F2-6BB2-48BF-A64D-18745D549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2C86E-201E-447B-AC7C-287C8240C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77B9-A5A2-4339-B6E1-4B80BD7B6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0D477-313B-4DEB-A388-0181E9F2C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0B996-7D8D-4123-82D8-1E29E93AF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F7A81-CFDE-40E3-947F-CBA069567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D2767-9AA0-4188-B098-D7DED94B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43F17-0C34-4DD8-82CD-2CB909488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7BEA8-9807-4CB7-8C11-C5772482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F354A-772A-466C-B0EB-049B7D3C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8250E-C448-4F91-A8C2-CA870B9C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EF1372-FD4B-49E6-B6B8-BBFDADC27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A4912-49CC-4552-A327-68C2DAE94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1025-60D2-4BF3-8F0A-B24251E12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63061-881D-4F25-9F80-B5F006DF9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FE564-89DE-4CC5-B9D1-A4DF57FBE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FA9A75-71A3-412D-A999-D3F8E368C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07412F-19AC-452A-A284-0A6005454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15F54-8E4F-4C30-B336-C88FE0504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D84840-008E-44D5-AB8F-460299B0B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040AF-A899-46CE-83BA-5BAD52C06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10F0A-FCE7-4BA3-8261-0D72240F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3129B9-ACE7-468A-9CD7-3E5EF266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4F38D-5FD4-4B37-A178-DFD2A345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F00D-630D-4081-AA7B-DAF72053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27CBB-9104-4BE1-AED3-AFDCE05F9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11D83-293E-46D6-9ACE-5455F39A9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D3999-A6EC-4ECC-93C4-57F35AA16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40E30-74F2-402E-9E37-38C1CC473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1AC555-D63C-4EF2-BA00-7B1DF1627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CA721C-2033-4763-9269-3AD3A9E6D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E74F4A-752B-42D7-B4FB-827F086FD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D4DF70-EF69-47C3-B7B6-96487E164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4ADF26-9EF8-4C8B-8CAF-7CF459E2B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3C426-CD08-4469-A14B-7021E23F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A8B3-2CC1-4048-A38F-86BF20BF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891E6A-267C-4155-8FA2-68561C1E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4B48BD-77B4-413E-983D-5D819377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327653-4C92-4A2B-9468-5978AE724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B6410-E64C-4A4C-AAED-73AAEC840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7F34ED-06B6-47FC-80C6-912968530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73483-1DE9-4470-8720-D444A83E0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ED5826-1238-4A32-B336-AD22FA2BB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05020E-B700-49C8-9B1F-500DBC343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4E56F0-6D77-4009-A517-5A48750E8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5706A7-8335-4E21-9126-FCBFF9E10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667D-AC23-4E2A-BF67-736C7CBF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224A21-D5F0-4813-9FDD-A119F0F0D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FD2127-D668-4927-A89C-E286D80B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4910CC-CCDC-486D-889A-D25021A0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0553AB-3B7F-44DD-842A-D762DAAE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75E7B7-E098-46A8-8F4A-880945AEE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F3EB5E-99FD-434A-8ACF-2C53BCEB0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B39B9B-BE9B-4570-971D-605B9FC3E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EC8E24-160A-4776-A41F-81A989A2D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F0E87A-1547-4E21-BDA2-1BB2D0AED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4CD129-7168-4C09-A859-B88ACAB28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C6A18-06F2-412F-888B-DF2F6DC37E9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7B539-8130-4DF9-97C8-BA1D901753F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CE7F1-91C0-4703-84ED-F0CF09F80AB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FA009-9CA2-4CF2-A69A-6EC650FD984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F6F14-29FC-42D8-B104-6F7C93B4EA5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7D22E-4109-4B0C-8BC1-CE8C7765227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9AB13-210E-4B7B-8CFA-5ECE05C63E6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03FCB-B836-479B-BE9A-2A28C765C41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3F00E-D72C-4E6D-8152-AF1520250AC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Рисунок 1" descr="a3o21oa8c851o74dodfcoc17959a1odl.jpg"/>
          <p:cNvPicPr/>
          <p:nvPr/>
        </p:nvPicPr>
        <p:blipFill>
          <a:blip r:embed="rId1"/>
          <a:stretch/>
        </p:blipFill>
        <p:spPr>
          <a:xfrm>
            <a:off x="1116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3" descr="C:\Users\Танюша\Desktop\Альфия\всякое\Фото2522.jpg"/>
          <p:cNvPicPr/>
          <p:nvPr/>
        </p:nvPicPr>
        <p:blipFill>
          <a:blip r:embed="rId1"/>
          <a:stretch/>
        </p:blipFill>
        <p:spPr>
          <a:xfrm>
            <a:off x="468360" y="0"/>
            <a:ext cx="8180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3" descr="C:\Users\Танюша\Desktop\Альфия\всякое\Фото2522.jpg"/>
          <p:cNvPicPr/>
          <p:nvPr/>
        </p:nvPicPr>
        <p:blipFill>
          <a:blip r:embed="rId1"/>
          <a:stretch/>
        </p:blipFill>
        <p:spPr>
          <a:xfrm>
            <a:off x="468360" y="0"/>
            <a:ext cx="8180280" cy="6858000"/>
          </a:xfrm>
          <a:prstGeom prst="rect">
            <a:avLst/>
          </a:prstGeom>
          <a:ln w="0">
            <a:noFill/>
          </a:ln>
        </p:spPr>
      </p:pic>
      <p:sp>
        <p:nvSpPr>
          <p:cNvPr id="410" name="TextBox 2"/>
          <p:cNvSpPr/>
          <p:nvPr/>
        </p:nvSpPr>
        <p:spPr>
          <a:xfrm>
            <a:off x="1619280" y="501336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Franklin Gothic Book"/>
              </a:rPr>
              <a:t>1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3"/>
          <p:cNvSpPr/>
          <p:nvPr/>
        </p:nvSpPr>
        <p:spPr>
          <a:xfrm>
            <a:off x="5580000" y="5300640"/>
            <a:ext cx="100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Franklin Gothic Medium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4"/>
          <p:cNvSpPr/>
          <p:nvPr/>
        </p:nvSpPr>
        <p:spPr>
          <a:xfrm>
            <a:off x="3708360" y="333360"/>
            <a:ext cx="11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Franklin Gothic Book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2" descr="C:\Users\Танюша\Desktop\Фото2522.jpg"/>
          <p:cNvPicPr/>
          <p:nvPr/>
        </p:nvPicPr>
        <p:blipFill>
          <a:blip r:embed="rId1"/>
          <a:stretch/>
        </p:blipFill>
        <p:spPr>
          <a:xfrm>
            <a:off x="1116000" y="39600"/>
            <a:ext cx="6372360" cy="68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Box 1"/>
          <p:cNvSpPr/>
          <p:nvPr/>
        </p:nvSpPr>
        <p:spPr>
          <a:xfrm>
            <a:off x="684360" y="476280"/>
            <a:ext cx="331128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Franklin Gothic Medium"/>
              </a:rPr>
              <a:t>1 вариа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Franklin Gothic Medium"/>
              </a:rPr>
              <a:t>53 + 9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2"/>
          <p:cNvSpPr/>
          <p:nvPr/>
        </p:nvSpPr>
        <p:spPr>
          <a:xfrm>
            <a:off x="5219640" y="476280"/>
            <a:ext cx="2952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Franklin Gothic Medium"/>
              </a:rPr>
              <a:t>2 вариа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Franklin Gothic Medium"/>
              </a:rPr>
              <a:t>65 + 7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Box 1"/>
          <p:cNvSpPr/>
          <p:nvPr/>
        </p:nvSpPr>
        <p:spPr>
          <a:xfrm>
            <a:off x="900000" y="404640"/>
            <a:ext cx="6408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Franklin Gothic Medium"/>
              </a:rPr>
              <a:t>Домашнее задание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0" lang="ru-RU" sz="4800" spc="-1" strike="noStrike">
                <a:solidFill>
                  <a:srgbClr val="000000"/>
                </a:solidFill>
                <a:latin typeface="Franklin Gothic Book"/>
              </a:rPr>
              <a:t>РТ : с. 23 № 5,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Рисунок 1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8640" cy="62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Box 1"/>
          <p:cNvSpPr/>
          <p:nvPr/>
        </p:nvSpPr>
        <p:spPr>
          <a:xfrm>
            <a:off x="611280" y="404640"/>
            <a:ext cx="7489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Franklin Gothic Book"/>
              </a:rPr>
              <a:t>13 октября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Franklin Gothic Book"/>
              </a:rPr>
              <a:t>Классная работа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Box 1"/>
          <p:cNvSpPr/>
          <p:nvPr/>
        </p:nvSpPr>
        <p:spPr>
          <a:xfrm>
            <a:off x="179280" y="1773360"/>
            <a:ext cx="89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Franklin Gothic Medium"/>
              </a:rPr>
              <a:t>27,  72,  44,  83,  91,  29, 13, 10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Box 1"/>
          <p:cNvSpPr/>
          <p:nvPr/>
        </p:nvSpPr>
        <p:spPr>
          <a:xfrm>
            <a:off x="0" y="1413000"/>
            <a:ext cx="88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Franklin Gothic Medium"/>
              </a:rPr>
              <a:t>10, 13, 27, 29, 44, 72, 83, 91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Box 1"/>
          <p:cNvSpPr/>
          <p:nvPr/>
        </p:nvSpPr>
        <p:spPr>
          <a:xfrm>
            <a:off x="324000" y="1557360"/>
            <a:ext cx="849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Franklin Gothic Medium"/>
              </a:rPr>
              <a:t>91, 83, 72, 44, 29, 27, 13, 10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Box 1"/>
          <p:cNvSpPr/>
          <p:nvPr/>
        </p:nvSpPr>
        <p:spPr>
          <a:xfrm>
            <a:off x="395280" y="404640"/>
            <a:ext cx="7848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Franklin Gothic Medium"/>
              </a:rPr>
              <a:t>1)</a:t>
            </a:r>
            <a:r>
              <a:rPr b="1" lang="ru-RU" sz="6600" spc="-1" strike="noStrike">
                <a:solidFill>
                  <a:srgbClr val="000000"/>
                </a:solidFill>
                <a:latin typeface="Franklin Gothic Medium"/>
              </a:rPr>
              <a:t>  40 + 2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Franklin Gothic Medium"/>
              </a:rPr>
              <a:t>2)</a:t>
            </a:r>
            <a:r>
              <a:rPr b="1" lang="ru-RU" sz="6600" spc="-1" strike="noStrike">
                <a:solidFill>
                  <a:srgbClr val="000000"/>
                </a:solidFill>
                <a:latin typeface="Franklin Gothic Medium"/>
              </a:rPr>
              <a:t>  30 + 2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Franklin Gothic Medium"/>
              </a:rPr>
              <a:t>3)</a:t>
            </a:r>
            <a:r>
              <a:rPr b="1" lang="ru-RU" sz="6600" spc="-1" strike="noStrike">
                <a:solidFill>
                  <a:srgbClr val="000000"/>
                </a:solidFill>
                <a:latin typeface="Franklin Gothic Medium"/>
              </a:rPr>
              <a:t>  20 + 3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Franklin Gothic Medium"/>
              </a:rPr>
              <a:t>4)</a:t>
            </a:r>
            <a:r>
              <a:rPr b="1" lang="ru-RU" sz="6600" spc="-1" strike="noStrike">
                <a:solidFill>
                  <a:srgbClr val="000000"/>
                </a:solidFill>
                <a:latin typeface="Franklin Gothic Medium"/>
              </a:rPr>
              <a:t>  45 + 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Box 1"/>
          <p:cNvSpPr/>
          <p:nvPr/>
        </p:nvSpPr>
        <p:spPr>
          <a:xfrm>
            <a:off x="395280" y="404640"/>
            <a:ext cx="7848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Franklin Gothic Medium"/>
              </a:rPr>
              <a:t>1)</a:t>
            </a:r>
            <a:r>
              <a:rPr b="1" lang="ru-RU" sz="6600" spc="-1" strike="noStrike">
                <a:solidFill>
                  <a:srgbClr val="000000"/>
                </a:solidFill>
                <a:latin typeface="Franklin Gothic Medium"/>
              </a:rPr>
              <a:t>  40 + 2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Franklin Gothic Medium"/>
              </a:rPr>
              <a:t>2)</a:t>
            </a:r>
            <a:r>
              <a:rPr b="1" lang="ru-RU" sz="6600" spc="-1" strike="noStrike">
                <a:solidFill>
                  <a:srgbClr val="000000"/>
                </a:solidFill>
                <a:latin typeface="Franklin Gothic Medium"/>
              </a:rPr>
              <a:t>  30 + 2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Franklin Gothic Medium"/>
              </a:rPr>
              <a:t>3)</a:t>
            </a:r>
            <a:r>
              <a:rPr b="1" lang="ru-RU" sz="6600" spc="-1" strike="noStrike">
                <a:solidFill>
                  <a:srgbClr val="000000"/>
                </a:solidFill>
                <a:latin typeface="Franklin Gothic Medium"/>
              </a:rPr>
              <a:t>  20 + 3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Franklin Gothic Medium"/>
              </a:rPr>
              <a:t>4)</a:t>
            </a:r>
            <a:r>
              <a:rPr b="1" lang="ru-RU" sz="6600" spc="-1" strike="noStrike">
                <a:solidFill>
                  <a:srgbClr val="000000"/>
                </a:solidFill>
                <a:latin typeface="Franklin Gothic Medium"/>
              </a:rPr>
              <a:t>  </a:t>
            </a:r>
            <a:r>
              <a:rPr b="1" lang="ru-RU" sz="6600" spc="-1" strike="noStrike">
                <a:solidFill>
                  <a:srgbClr val="ff0000"/>
                </a:solidFill>
                <a:latin typeface="Franklin Gothic Medium"/>
              </a:rPr>
              <a:t>45 + 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Box 1"/>
          <p:cNvSpPr/>
          <p:nvPr/>
        </p:nvSpPr>
        <p:spPr>
          <a:xfrm>
            <a:off x="684360" y="836640"/>
            <a:ext cx="7775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Franklin Gothic Medium"/>
              </a:rPr>
              <a:t>«Сложение двузначного числа и однозначного с переходом через разряд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Box 2"/>
          <p:cNvSpPr/>
          <p:nvPr/>
        </p:nvSpPr>
        <p:spPr>
          <a:xfrm>
            <a:off x="611280" y="620640"/>
            <a:ext cx="71294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Franklin Gothic Medium"/>
              </a:rPr>
              <a:t>1 к. – </a:t>
            </a:r>
            <a:r>
              <a:rPr b="1" lang="ru-RU" sz="6600" spc="-1" strike="noStrike">
                <a:solidFill>
                  <a:srgbClr val="0070c0"/>
                </a:solidFill>
                <a:latin typeface="Franklin Gothic Medium"/>
              </a:rPr>
              <a:t>18</a:t>
            </a:r>
            <a:r>
              <a:rPr b="1" lang="ru-RU" sz="6600" spc="-1" strike="noStrike">
                <a:solidFill>
                  <a:srgbClr val="000000"/>
                </a:solidFill>
                <a:latin typeface="Franklin Gothic Medium"/>
              </a:rPr>
              <a:t> кар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Franklin Gothic Medium"/>
              </a:rPr>
              <a:t>2 к. – </a:t>
            </a:r>
            <a:r>
              <a:rPr b="1" lang="ru-RU" sz="6600" spc="-1" strike="noStrike">
                <a:solidFill>
                  <a:srgbClr val="0070c0"/>
                </a:solidFill>
                <a:latin typeface="Franklin Gothic Medium"/>
              </a:rPr>
              <a:t>6</a:t>
            </a:r>
            <a:r>
              <a:rPr b="1" lang="ru-RU" sz="6600" spc="-1" strike="noStrike">
                <a:solidFill>
                  <a:srgbClr val="000000"/>
                </a:solidFill>
                <a:latin typeface="Franklin Gothic Medium"/>
              </a:rPr>
              <a:t> кар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Franklin Gothic Medium"/>
              </a:rPr>
              <a:t>Всего - </a:t>
            </a:r>
            <a:r>
              <a:rPr b="1" lang="ru-RU" sz="6600" spc="-1" strike="noStrike">
                <a:solidFill>
                  <a:srgbClr val="0070c0"/>
                </a:solidFill>
                <a:latin typeface="Franklin Gothic Medium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2T13:33:41Z</dcterms:created>
  <dc:creator>Танюша</dc:creator>
  <dc:description/>
  <dc:language>en-US</dc:language>
  <cp:lastModifiedBy>Танюша</cp:lastModifiedBy>
  <dcterms:modified xsi:type="dcterms:W3CDTF">2015-10-12T18:03:48Z</dcterms:modified>
  <cp:revision>13</cp:revision>
  <dc:subject/>
  <dc:title>Слайд 1</dc:title>
</cp:coreProperties>
</file>