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3.png" ContentType="image/png"/>
  <Override PartName="/ppt/media/image1.jpeg" ContentType="image/jpeg"/>
  <Override PartName="/ppt/media/image14.jpeg" ContentType="image/jpe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296-B389-41F8-9736-2B0342D8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21E-3472-4835-9DF5-D45FAB6D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E8A2B-65ED-4FC1-9936-DC9B5ECB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5D83C-0172-429D-AA80-3203717D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511D9-D265-4F77-B08B-7694015B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1CB8D-C9BE-4739-8FC1-282DB30A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7460C-BEE8-448E-8AED-DF808C7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9157A-1DC2-482B-9E56-58D0EF0D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60965-32F4-4190-8F38-84759090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7C0E1-4DD4-4ADC-910A-FD913D37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1FE1F-85B1-452C-8BCC-B385B0EE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E27-9DCE-4FFC-B7D0-5B563BCC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4CB-CF26-4105-A111-3F4CF6BD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95FE-4756-4F35-875F-F9C9CF98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2512-E200-49B6-9075-94923B33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97F9-894E-49DF-AAEA-1FDEB8C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6A5F-3F2D-43FD-9C63-28DE8260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9D75-E9F1-49CF-AA54-E7BA2907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A865-3556-447E-B87A-8FF02CC1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581E-77ED-4742-967F-26AD5826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8CC-EE10-4C76-8EE3-D9F3C82B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72E5-0ED3-4C51-BAE0-BF2DD8AB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3056-42C3-45C7-86E9-09D01DFB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D751-9CBE-4806-B399-5197DDC4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D4F4-3455-4AE9-8B96-AEB76C83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29C7-DAF1-4CD0-8D63-B87A6D99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00D78-062D-4BB3-8B2F-BA62B744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CFF5-CE80-48D3-8B73-A00BD382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7477-3F0B-43C0-86EE-D7592A44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01A9-116F-40C9-A618-F3BDD0E9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AD02-D928-4C42-902A-4394103A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57B-50C4-4F39-82D0-2A709848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2BCCC-CBD2-40B2-87AA-277A83D3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C749-A9C5-4B81-B087-E58235C9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EFEF3-A16C-4B9D-A007-91E3094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A970-E1B3-435D-BFA6-7A1F2FF0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98EB-B2DB-4E21-A148-F73A40BD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D40F-5AD8-4714-B84A-02F97951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F925-B31A-47DB-A806-A9712767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A492F-5A93-4B02-9A97-4A5B5F2F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D004-166C-490D-98E6-61F8453D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E16A4-A2AA-4B7B-A382-7C1A5329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1F8-8AD6-4459-9B50-E9484FB9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1AA10-2E4D-446E-ACA2-A560F06A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D09F-6D09-4B66-A46E-44D1076F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22B6-1547-49A2-929C-88EA2017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FD72-DF69-4EFE-9E20-19D6D5F1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7395-9557-44DD-9AFD-FFF3245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0679-B8AC-478C-8BDD-5C99E036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77E04-0944-4FD4-BA30-17E5D841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D87C-F065-4EDB-A2FF-A149CE31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AC32-7931-4F59-AF5B-2FC0C7A7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8EB69-A2E3-454B-AEB0-A4628B75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BB1-50A8-420D-ACE4-DB7ADAE9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833DF-0974-4975-A713-77FFC81E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BE105-6A84-488A-B42C-47127C78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01C8A-3C51-4576-87C5-705AEAD3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DA2ED-E9E3-494D-8B68-091B7EC8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86B0-3ED1-4064-99C8-6519D620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D257-EC0A-4896-8B8F-28DE932D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CE366-4714-496F-83D8-A1B11433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478D0-B865-4AEB-8C52-D9CA1E91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9E8C4-F914-49E4-9F3A-616D83D2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EAEFD-76F3-4FD9-A80E-F008163A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2D4-729D-4D4E-8F97-CF80C34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7DAE1-A260-4165-9298-9083935E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46C01-3D9D-4DFD-9BB1-C67770F8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B2E11-9F26-48CF-8466-03D4F2CF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56DD5-7678-49B7-A941-D4137146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8C76E-83B8-4F4A-9489-8C564F41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F111-4780-482F-B090-C77D3203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8081F-18C1-4845-B771-E407D944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6A838-F895-4410-AABF-D74C85FB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1B50-7DD1-4137-A5AC-40912429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69EF7-5147-4756-960E-5F9C43AD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47A-7BC7-4CCA-BBEB-F577C5E1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E47C-1332-4E6A-9B87-634FC599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1680A-C216-4B52-A38E-B6A019D8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0E34-D56E-4229-B247-7EE46C79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62101-1E45-4B08-9F1A-CE0DF56F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BFDE9-5B36-41CF-B2AB-922FDD95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1C3BC-4ECB-4291-8362-FB4192C2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012F8-C3AA-4F01-8A15-0F27F972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CCDD9-58AB-4E6E-895C-B1440F2C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CC07F-092F-439B-8AE4-E4730CFC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E16E5-C317-49E2-BDC9-F55F98C8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EA1-E6E7-4CB6-AC43-8753BF34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58DDA-B44E-4A75-9557-3C9E881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30729-969F-42E4-897C-AA79252B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83D57-FEDF-4870-A5BC-1A89DB6C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FF5C5-FF20-4734-BE94-CC81630A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1DF04-65ED-45F9-84B4-75E31D04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F7764-0704-4BDE-B355-BDBFF870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DC1F9-BC1C-4389-A294-F2C551D7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C38FF-A6BD-40EC-93EB-54AB93F3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FE0D-E4D4-4A0E-8459-0AC07A24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03FBC-D8E2-4560-B5D8-2550B51D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0DE-EAED-4F15-952E-43310522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A58DA-BC14-4F50-AA0A-15B3D556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C43B6-4FEF-4169-964A-32A537DF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026D6-2089-4699-8440-8F2671D5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02ABF-5C4D-4AA8-AFE8-2549AB3B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D2593-CF67-45FD-A121-E55334EA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26BC8-33E6-41D4-8268-3A02B6DB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EC57D-D942-4EAA-B507-53CF8886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2474D-2BF5-41A5-9610-C08A34B0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1F229-483C-4693-B920-6B4C82B3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888EE-A3CA-42F7-9C6E-1C69FD8E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554F-25FA-46DF-B648-F1C18EABA1AF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4D54-791A-494E-AC33-3146F9D3BEDB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184D-F7C5-4C7D-BFA2-48DD50E4D3BA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d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64C5-13F5-4A67-B864-18CD9C01DBAF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650C-06B0-4601-84CB-9E84CF0CD2D1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6512-3676-4D2D-979F-F63E8C287C60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D808-E530-4733-AFFF-902B672CF657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8AD0-474D-4F6C-82A7-C2DF426B7DCC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D371-65E9-4E8B-B309-E33124C85C3B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"/>
          <p:cNvPicPr/>
          <p:nvPr/>
        </p:nvPicPr>
        <p:blipFill>
          <a:blip r:embed="rId1"/>
          <a:stretch/>
        </p:blipFill>
        <p:spPr>
          <a:xfrm>
            <a:off x="34776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2"/>
          <p:cNvSpPr/>
          <p:nvPr/>
        </p:nvSpPr>
        <p:spPr>
          <a:xfrm>
            <a:off x="1600200" y="587520"/>
            <a:ext cx="75438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fed46c"/>
                </a:solidFill>
                <a:latin typeface="Arial"/>
                <a:ea typeface="Times New Roman"/>
              </a:rPr>
              <a:t>Прое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d46c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ed46c"/>
                </a:solidFill>
                <a:latin typeface="Arial"/>
                <a:ea typeface="Times New Roman"/>
              </a:rPr>
              <a:t>« Ради жизни ныне живущих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Руководитель:     учитель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МБОУ «Лицей г. Уварово им. А.И. Данил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Высочкина Т.Н</a:t>
            </a:r>
            <a:r>
              <a:rPr b="1" i="1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olubye.mp3" descr=""/>
          <p:cNvPicPr/>
          <p:nvPr/>
        </p:nvPicPr>
        <p:blipFill>
          <a:blip r:embed="rId2"/>
          <a:stretch/>
        </p:blipFill>
        <p:spPr>
          <a:xfrm>
            <a:off x="4419720" y="381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2"/>
          <p:cNvSpPr/>
          <p:nvPr/>
        </p:nvSpPr>
        <p:spPr>
          <a:xfrm>
            <a:off x="1447920" y="657360"/>
            <a:ext cx="750564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Механизм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1. Кадровое и информационно-методическое  обеспеч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2. Активизация деятельности волонтерских групп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3. Формирование информационного поля для  эффективной       деятельности волонтерских групп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4.  Сбор материала о выпускниках, погибших на Северном Кавказ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5. Проведение мероприятий среди учеников лицея на основе собран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6. Участие в общегородских мероприятиях «Встреча трех поколений», «Готовность всегда боев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ed46c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2"/>
          <p:cNvSpPr/>
          <p:nvPr/>
        </p:nvSpPr>
        <p:spPr>
          <a:xfrm>
            <a:off x="2143080" y="743040"/>
            <a:ext cx="6848640" cy="77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Этап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делирующий (сентябрь 2014 г. – декабрь 2014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Обозначение главных идей, создание программы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Сбор материала в рамках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еализационный (январь 2015 г. – ноябрь 2015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сследовательская деятельность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роведение мероприятий в рамках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налитический (декабрь 2015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Мониторинг системы работы  по про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ведение итогов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джет проекта – 22 тысячи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Franklin Gothic Boo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69940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0" name=""/>
          <p:cNvGraphicFramePr/>
          <p:nvPr/>
        </p:nvGraphicFramePr>
        <p:xfrm>
          <a:off x="187200" y="520560"/>
          <a:ext cx="8720280" cy="6132600"/>
        </p:xfrm>
        <a:graphic>
          <a:graphicData uri="http://schemas.openxmlformats.org/drawingml/2006/table">
            <a:tbl>
              <a:tblPr/>
              <a:tblGrid>
                <a:gridCol w="168480"/>
                <a:gridCol w="3951360"/>
                <a:gridCol w="3143160"/>
                <a:gridCol w="1457280"/>
              </a:tblGrid>
              <a:tr h="5176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\п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менование 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ый 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ветств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рок реализ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здание волонтерских гру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группы Высочкина Т.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ь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ведение опроса среди учеников 8-9 клас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ские 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ктябрь 20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бор материала о выпускниках, погибших на Северном Кавказ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группы волонт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 10 ноября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ведение Дня Памя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ащиеся  Лицея   800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 ноября, ежегод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треча трех покол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 д/о «Фортуна» Молод. парламент  20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 января, ежегод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углый стол «Во имя мира на земле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аршеклассники лицея, приглашенные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 у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 февраля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ция «От сердца к сердцу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ы, родители погибших ребят 20 у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вая неделя мар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истематизация собранного матери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исты 8 уче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ец марта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ференция «Это нужно не мертвым, это нужно живым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-9 классы 90 уче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р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астие в городском празднике «Готовность всегда боевая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исты д\о «Фортуна», молодежный парламент 18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й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здание фильма о проделанной работе и презентации по собранному материал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ы под руководством Филиппова Макси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писание исследовательской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к.  Высочкина Т.Н, уч. 9 кл  Попов Кирил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кт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астие в лицейской научно-практической конферен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ерникова  Анастасия участники конферен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– 18 апреля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писание сценария «Дня Памяти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ы 5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ябрь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комство классных руководителей с собранным материал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ы 34 челове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 ноября 2016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мощь классным руководителям в проведении классных часов, посвященных 20-летию с  начала боевых действий на Северном Кавказ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8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ябрь   2016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2"/>
          <p:cNvSpPr/>
          <p:nvPr/>
        </p:nvSpPr>
        <p:spPr>
          <a:xfrm>
            <a:off x="1927080" y="117360"/>
            <a:ext cx="72169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Результативност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1)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Ученики получат возможность  находить материал и готовить мероприятия гражданско-патриотической направ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eb80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Arial"/>
              </a:rPr>
              <a:t>Увеличение количества учащихся, задействованных в поисковой и 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c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Franklin Gothic Boo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Помощь</a:t>
            </a:r>
            <a:r>
              <a:rPr b="0" lang="ru-RU" sz="2400" spc="-1" strike="noStrike">
                <a:solidFill>
                  <a:srgbClr val="ffc000"/>
                </a:solidFill>
                <a:latin typeface="Franklin Gothic Boo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родителям выпускников, погибших в Чеченской Республ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c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Franklin Gothic Boo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Franklin Gothic Book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ополнятся активы музея «История школ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c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Использование полученного материала классными руководителями при проведении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c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Увеличение памятных мест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06080" y="63828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Что вы знаете о войне в Афганистане и Чеченской республике ?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pic>
        <p:nvPicPr>
          <p:cNvPr id="445" name="Заголовок 2" descr=""/>
          <p:cNvPicPr/>
          <p:nvPr/>
        </p:nvPicPr>
        <p:blipFill>
          <a:blip r:embed="rId1"/>
          <a:stretch/>
        </p:blipFill>
        <p:spPr>
          <a:xfrm>
            <a:off x="237960" y="79200"/>
            <a:ext cx="8697960" cy="1798920"/>
          </a:xfrm>
          <a:prstGeom prst="rect">
            <a:avLst/>
          </a:prstGeom>
          <a:ln w="0">
            <a:noFill/>
          </a:ln>
        </p:spPr>
      </p:pic>
      <p:pic>
        <p:nvPicPr>
          <p:cNvPr id="446" name="Диаграмма 4" descr=""/>
          <p:cNvPicPr/>
          <p:nvPr/>
        </p:nvPicPr>
        <p:blipFill>
          <a:blip r:embed="rId2"/>
          <a:stretch/>
        </p:blipFill>
        <p:spPr>
          <a:xfrm>
            <a:off x="2698920" y="2317680"/>
            <a:ext cx="593712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69720" y="2160720"/>
            <a:ext cx="44402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Сколько военнослужащих из нашего города проходило службу в горячих точках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pic>
        <p:nvPicPr>
          <p:cNvPr id="448" name="Заголовок 5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8699760" cy="1298520"/>
          </a:xfrm>
          <a:prstGeom prst="rect">
            <a:avLst/>
          </a:prstGeom>
          <a:ln w="0">
            <a:noFill/>
          </a:ln>
        </p:spPr>
      </p:pic>
      <p:pic>
        <p:nvPicPr>
          <p:cNvPr id="449" name="Диаграмма 8" descr=""/>
          <p:cNvPicPr/>
          <p:nvPr/>
        </p:nvPicPr>
        <p:blipFill>
          <a:blip r:embed="rId2"/>
          <a:stretch/>
        </p:blipFill>
        <p:spPr>
          <a:xfrm>
            <a:off x="2279520" y="3697200"/>
            <a:ext cx="5194440" cy="31608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9"/>
          <p:cNvSpPr/>
          <p:nvPr/>
        </p:nvSpPr>
        <p:spPr>
          <a:xfrm>
            <a:off x="5248440" y="1079640"/>
            <a:ext cx="38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Сколько военнослужащих погибл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87000" y="398160"/>
            <a:ext cx="8458200" cy="84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Есть ли среди погибших  выпускники лицея?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pic>
        <p:nvPicPr>
          <p:cNvPr id="452" name="Диаграмма 5" descr=""/>
          <p:cNvPicPr/>
          <p:nvPr/>
        </p:nvPicPr>
        <p:blipFill>
          <a:blip r:embed="rId1"/>
          <a:stretch/>
        </p:blipFill>
        <p:spPr>
          <a:xfrm>
            <a:off x="974880" y="1808280"/>
            <a:ext cx="666576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06080" y="23940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Book"/>
              </a:rPr>
              <a:t>За что отдали свою жизнь  наши выпускники?</a:t>
            </a:r>
            <a:endParaRPr b="0" lang="en-US" sz="3600" spc="-1" strike="noStrike">
              <a:solidFill>
                <a:srgbClr val="e7dec9"/>
              </a:solidFill>
              <a:latin typeface="Franklin Gothic Book"/>
            </a:endParaRPr>
          </a:p>
        </p:txBody>
      </p:sp>
      <p:pic>
        <p:nvPicPr>
          <p:cNvPr id="454" name="Диаграмма 5" descr=""/>
          <p:cNvPicPr/>
          <p:nvPr/>
        </p:nvPicPr>
        <p:blipFill>
          <a:blip r:embed="rId1"/>
          <a:stretch/>
        </p:blipFill>
        <p:spPr>
          <a:xfrm>
            <a:off x="1523880" y="1774800"/>
            <a:ext cx="6605640" cy="45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06080" y="479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Назовите нравственные мотивы действий и поступков наших солдат?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graphicFrame>
        <p:nvGraphicFramePr>
          <p:cNvPr id="456" name="Object 5"/>
          <p:cNvGraphicFramePr/>
          <p:nvPr/>
        </p:nvGraphicFramePr>
        <p:xfrm>
          <a:off x="1127160" y="1832040"/>
          <a:ext cx="71056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832040"/>
                    <a:ext cx="71056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406080" y="479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Из каких источников сформировалось ваше представление о</a:t>
            </a:r>
            <a:r>
              <a:rPr b="1" i="1" lang="en-US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войне в Афганистане и о  конфликтах в Чеченской Республике?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graphicFrame>
        <p:nvGraphicFramePr>
          <p:cNvPr id="459" name="Object 3"/>
          <p:cNvGraphicFramePr/>
          <p:nvPr/>
        </p:nvGraphicFramePr>
        <p:xfrm>
          <a:off x="590400" y="1730520"/>
          <a:ext cx="8553600" cy="50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730520"/>
                    <a:ext cx="8553600" cy="50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2"/>
          <p:cNvSpPr/>
          <p:nvPr/>
        </p:nvSpPr>
        <p:spPr>
          <a:xfrm>
            <a:off x="438120" y="1685880"/>
            <a:ext cx="82105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Война в Афганистане и на Северном Кавказ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У  этих войн еще нет истории. Она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написана. Но мы должны знат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помнить о ней, чтобы не повто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случившего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i-921"/>
          <p:cNvPicPr/>
          <p:nvPr/>
        </p:nvPicPr>
        <p:blipFill>
          <a:blip r:embed="rId2"/>
          <a:stretch/>
        </p:blipFill>
        <p:spPr>
          <a:xfrm>
            <a:off x="6334200" y="3009960"/>
            <a:ext cx="2543040" cy="20764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"/>
          <p:cNvSpPr/>
          <p:nvPr/>
        </p:nvSpPr>
        <p:spPr>
          <a:xfrm>
            <a:off x="2771640" y="933480"/>
            <a:ext cx="47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ьност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86400"/>
            <a:ext cx="8686800" cy="8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e7dec9"/>
              </a:solidFill>
              <a:latin typeface="Franklin Gothic Medium"/>
            </a:endParaRPr>
          </a:p>
        </p:txBody>
      </p:sp>
      <p:pic>
        <p:nvPicPr>
          <p:cNvPr id="462" name="Picture 7" descr="C:\Documents and Settings\Татьяна\Мои документы\Мои рисунки\img340.jpg"/>
          <p:cNvPicPr/>
          <p:nvPr/>
        </p:nvPicPr>
        <p:blipFill>
          <a:blip r:embed="rId1"/>
          <a:stretch/>
        </p:blipFill>
        <p:spPr>
          <a:xfrm>
            <a:off x="304920" y="1009800"/>
            <a:ext cx="3771720" cy="51433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SAM_4327"/>
          <p:cNvPicPr/>
          <p:nvPr/>
        </p:nvPicPr>
        <p:blipFill>
          <a:blip r:embed="rId2"/>
          <a:stretch/>
        </p:blipFill>
        <p:spPr>
          <a:xfrm>
            <a:off x="4424400" y="155520"/>
            <a:ext cx="4521240" cy="3390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2" descr="SAM_4332"/>
          <p:cNvPicPr/>
          <p:nvPr/>
        </p:nvPicPr>
        <p:blipFill>
          <a:blip r:embed="rId3"/>
          <a:stretch/>
        </p:blipFill>
        <p:spPr>
          <a:xfrm>
            <a:off x="4513320" y="3666960"/>
            <a:ext cx="4335480" cy="30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cbc3b1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pic>
        <p:nvPicPr>
          <p:cNvPr id="467" name="Picture 2" descr="C:\Users\Philosoph\Desktop\шк аф.jpg"/>
          <p:cNvPicPr/>
          <p:nvPr/>
        </p:nvPicPr>
        <p:blipFill>
          <a:blip r:embed="rId1"/>
          <a:stretch/>
        </p:blipFill>
        <p:spPr>
          <a:xfrm>
            <a:off x="96840" y="0"/>
            <a:ext cx="4367160" cy="3274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C:\Users\Philosoph\Desktop\совместное фото.jpg"/>
          <p:cNvPicPr/>
          <p:nvPr/>
        </p:nvPicPr>
        <p:blipFill>
          <a:blip r:embed="rId2"/>
          <a:stretch/>
        </p:blipFill>
        <p:spPr>
          <a:xfrm>
            <a:off x="96840" y="3562200"/>
            <a:ext cx="4395960" cy="3295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C:\Users\Philosoph\Desktop\фото аф.jpg"/>
          <p:cNvPicPr/>
          <p:nvPr/>
        </p:nvPicPr>
        <p:blipFill>
          <a:blip r:embed="rId3"/>
          <a:stretch/>
        </p:blipFill>
        <p:spPr>
          <a:xfrm>
            <a:off x="4654440" y="0"/>
            <a:ext cx="4338720" cy="3274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C:\Users\Philosoph\Desktop\школа аф.jpg"/>
          <p:cNvPicPr/>
          <p:nvPr/>
        </p:nvPicPr>
        <p:blipFill>
          <a:blip r:embed="rId4"/>
          <a:stretch/>
        </p:blipFill>
        <p:spPr>
          <a:xfrm>
            <a:off x="4762440" y="3562200"/>
            <a:ext cx="4230720" cy="31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685440" y="436320"/>
            <a:ext cx="8458200" cy="562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Результативность проекта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Franklin Gothic Book"/>
              </a:rPr>
              <a:t>Грант Управления образования и науки - 8 тысяч</a:t>
            </a:r>
            <a:endParaRPr b="0" lang="en-US" sz="3600" spc="-1" strike="noStrike">
              <a:solidFill>
                <a:srgbClr val="e7dec9"/>
              </a:solidFill>
              <a:latin typeface="Franklin Gothic 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Franklin Gothic Book"/>
              </a:rPr>
              <a:t>Грант администрации Тамбовской области – 50 тысяч</a:t>
            </a:r>
            <a:endParaRPr b="0" lang="en-US" sz="3600" spc="-1" strike="noStrike">
              <a:solidFill>
                <a:srgbClr val="e7dec9"/>
              </a:solidFill>
              <a:latin typeface="Franklin Gothic 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Franklin Gothic Book"/>
              </a:rPr>
              <a:t>Участие во Всероссийском конкурсе исследовательских работ «Отечество -2015»</a:t>
            </a:r>
            <a:endParaRPr b="0" lang="en-US" sz="36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81080" y="378828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7dec9"/>
              </a:solidFill>
              <a:latin typeface="Franklin Gothic Mediu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2"/>
          <p:cNvSpPr/>
          <p:nvPr/>
        </p:nvSpPr>
        <p:spPr>
          <a:xfrm>
            <a:off x="4562640" y="228600"/>
            <a:ext cx="4324320" cy="57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В аттестатах отм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 ставят за сме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За любовь к своей Род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Дружбу и 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Им в боях дове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роверять свою зре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И отметок та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возможно уч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И экзамен на в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Любимой ОТЧИЗ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С честью выдерж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Каждый из наших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Имена их отны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Бессмертно и горд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Как в шеренге бой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В школьном списке сто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4" descr="img659"/>
          <p:cNvPicPr/>
          <p:nvPr/>
        </p:nvPicPr>
        <p:blipFill>
          <a:blip r:embed="rId2"/>
          <a:stretch/>
        </p:blipFill>
        <p:spPr>
          <a:xfrm>
            <a:off x="3324240" y="162000"/>
            <a:ext cx="1625760" cy="2266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5" descr="img076"/>
          <p:cNvPicPr/>
          <p:nvPr/>
        </p:nvPicPr>
        <p:blipFill>
          <a:blip r:embed="rId3"/>
          <a:stretch/>
        </p:blipFill>
        <p:spPr>
          <a:xfrm>
            <a:off x="227160" y="1650960"/>
            <a:ext cx="1582560" cy="2287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6" descr="img658"/>
          <p:cNvPicPr/>
          <p:nvPr/>
        </p:nvPicPr>
        <p:blipFill>
          <a:blip r:embed="rId4"/>
          <a:stretch/>
        </p:blipFill>
        <p:spPr>
          <a:xfrm>
            <a:off x="3071880" y="3003480"/>
            <a:ext cx="1562040" cy="21146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8"/>
          <p:cNvSpPr/>
          <p:nvPr/>
        </p:nvSpPr>
        <p:spPr>
          <a:xfrm>
            <a:off x="3133800" y="24573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Магацкий Вале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9"/>
          <p:cNvSpPr/>
          <p:nvPr/>
        </p:nvSpPr>
        <p:spPr>
          <a:xfrm>
            <a:off x="0" y="3895560"/>
            <a:ext cx="19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стомин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0"/>
          <p:cNvSpPr/>
          <p:nvPr/>
        </p:nvSpPr>
        <p:spPr>
          <a:xfrm>
            <a:off x="2724120" y="5113440"/>
            <a:ext cx="23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Клюкин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2" descr=""/>
          <p:cNvPicPr/>
          <p:nvPr/>
        </p:nvPicPr>
        <p:blipFill>
          <a:blip r:embed="rId1"/>
          <a:stretch/>
        </p:blipFill>
        <p:spPr>
          <a:xfrm>
            <a:off x="225360" y="2066760"/>
            <a:ext cx="869940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90680" y="0"/>
            <a:ext cx="848664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Проект «Ради жизни ныне живущих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посвящен войнам, выполнявшим свой  воинский долг  в Афганистане и на Северном Кавказе, а также семьям погибших в военных действиях в Чеченской Республ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Родные и близкие  воинов должны понимать, что государство не забывает 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А молодые люди, которым  еще только предстоит  служ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должны   знать историю и гордиться воинами, погибшим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мирное время, выполняя свой гражданский долг, защищая целостность и независимость Российского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Наша святая обязанность — хранить память о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       погибших в ходе вооруженного конфликта на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                      территории Северного Кавказ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"/>
          <p:cNvPicPr/>
          <p:nvPr/>
        </p:nvPicPr>
        <p:blipFill>
          <a:blip r:embed="rId1"/>
          <a:stretch/>
        </p:blipFill>
        <p:spPr>
          <a:xfrm>
            <a:off x="77760" y="-27612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2"/>
          <p:cNvSpPr/>
          <p:nvPr/>
        </p:nvSpPr>
        <p:spPr>
          <a:xfrm>
            <a:off x="438120" y="987480"/>
            <a:ext cx="821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"/>
          <p:cNvSpPr/>
          <p:nvPr/>
        </p:nvSpPr>
        <p:spPr>
          <a:xfrm>
            <a:off x="438120" y="987480"/>
            <a:ext cx="821052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"/>
          <p:cNvSpPr/>
          <p:nvPr/>
        </p:nvSpPr>
        <p:spPr>
          <a:xfrm>
            <a:off x="438120" y="987480"/>
            <a:ext cx="821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476360" y="809640"/>
            <a:ext cx="76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7"/>
          <p:cNvSpPr/>
          <p:nvPr/>
        </p:nvSpPr>
        <p:spPr>
          <a:xfrm>
            <a:off x="706320" y="825480"/>
            <a:ext cx="78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Все мы знаем, как жестока и безжалостна война. Она забирает наших близких и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15 февраля отмечается День вывода наши войск с территории АФГАНИСТ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В декабре 2014 года исполнилось 20 лет с начала боевых действий в рамках осуществления контртеррористических операций в Чеченской Республ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Борьба с терроризмом одна из основных задач  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нашего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2"/>
          <p:cNvSpPr/>
          <p:nvPr/>
        </p:nvSpPr>
        <p:spPr>
          <a:xfrm>
            <a:off x="1800360" y="457200"/>
            <a:ext cx="629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4" descr="img659"/>
          <p:cNvPicPr/>
          <p:nvPr/>
        </p:nvPicPr>
        <p:blipFill>
          <a:blip r:embed="rId2"/>
          <a:stretch/>
        </p:blipFill>
        <p:spPr>
          <a:xfrm>
            <a:off x="457200" y="1562040"/>
            <a:ext cx="1876320" cy="2457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5" descr="img076"/>
          <p:cNvPicPr/>
          <p:nvPr/>
        </p:nvPicPr>
        <p:blipFill>
          <a:blip r:embed="rId3"/>
          <a:stretch/>
        </p:blipFill>
        <p:spPr>
          <a:xfrm>
            <a:off x="3502080" y="2406600"/>
            <a:ext cx="1744560" cy="2521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img658"/>
          <p:cNvPicPr/>
          <p:nvPr/>
        </p:nvPicPr>
        <p:blipFill>
          <a:blip r:embed="rId4"/>
          <a:stretch/>
        </p:blipFill>
        <p:spPr>
          <a:xfrm>
            <a:off x="6240600" y="1852560"/>
            <a:ext cx="1787400" cy="2457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7"/>
          <p:cNvSpPr/>
          <p:nvPr/>
        </p:nvSpPr>
        <p:spPr>
          <a:xfrm>
            <a:off x="152280" y="4095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Магацкий Вале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0"/>
          <p:cNvSpPr/>
          <p:nvPr/>
        </p:nvSpPr>
        <p:spPr>
          <a:xfrm>
            <a:off x="3441600" y="50245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стомин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5938920" y="4365720"/>
            <a:ext cx="22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Клюкин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9"/>
          <p:cNvSpPr/>
          <p:nvPr/>
        </p:nvSpPr>
        <p:spPr>
          <a:xfrm>
            <a:off x="2468520" y="609480"/>
            <a:ext cx="529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Афганистане погибших уваровцев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26 ноября - День Памяти воинов - тамбовчан погибших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116 воинов - тамбовчан погибли, выполняя   свой гражданский дол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2"/>
          <p:cNvSpPr/>
          <p:nvPr/>
        </p:nvSpPr>
        <p:spPr>
          <a:xfrm>
            <a:off x="743040" y="-647640"/>
            <a:ext cx="8134200" cy="87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гражд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рденом Мужеств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посмертн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Маргацкий Валер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Истомин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Клюкин Дмитр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А я после боя заплакать не см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И руки тряслись прикур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Я  видел, как друга в цинковый гр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Останки несли хоронить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Рисунок 3" descr="http://petrozavodsk.rfn.ru/p/m_6768.jpg"/>
          <p:cNvPicPr/>
          <p:nvPr/>
        </p:nvPicPr>
        <p:blipFill>
          <a:blip r:embed="rId2"/>
          <a:stretch/>
        </p:blipFill>
        <p:spPr>
          <a:xfrm>
            <a:off x="5059440" y="1425600"/>
            <a:ext cx="272736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133200" y="0"/>
            <a:ext cx="954432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333360" y="1904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057480" y="352440"/>
            <a:ext cx="2533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7" descr="SAM_4754"/>
          <p:cNvPicPr/>
          <p:nvPr/>
        </p:nvPicPr>
        <p:blipFill>
          <a:blip r:embed="rId2"/>
          <a:stretch/>
        </p:blipFill>
        <p:spPr>
          <a:xfrm>
            <a:off x="5173560" y="3429000"/>
            <a:ext cx="3368880" cy="275256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5"/>
          <p:cNvSpPr/>
          <p:nvPr/>
        </p:nvSpPr>
        <p:spPr>
          <a:xfrm>
            <a:off x="677880" y="1455840"/>
            <a:ext cx="61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b80a"/>
                </a:solidFill>
                <a:latin typeface="Arial"/>
              </a:rPr>
              <a:t>Создание условий для воспитания патриотизма и формирования активной жизненной позиции молодого поколения на примере их сверстников, воевавших в Афганистане и выпускников лицея,  павших на Северном Кавказе при защите конституционного строя, целостности и независимости нашей Ро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2502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Прямоугольник 2"/>
          <p:cNvSpPr/>
          <p:nvPr/>
        </p:nvSpPr>
        <p:spPr>
          <a:xfrm>
            <a:off x="341280" y="285840"/>
            <a:ext cx="8802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дачи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. Дать понятие Национальной безопасности России, её внутренней и внешней поли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d46c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2.</a:t>
            </a:r>
            <a:r>
              <a:rPr b="0" lang="ru-RU" sz="2000" spc="-1" strike="noStrike">
                <a:solidFill>
                  <a:srgbClr val="fed46c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Развитие гражданской инициативы и гражданской ответственности учеников, заинтересованных в том, чтобы внести свой личный вклад в решение проблемы по сбору материала о выпускниках лицея, погибших в Чеченской Республ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3.  Возможность принятия практического участия учащихся в                               проведении  мероприятий, посвященных воинам выполнявшим  интернациональный долг в Афганистане, и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боевых действий в рамках осуществления контртеррористических операций в Чеченской Республ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4.  </a:t>
            </a:r>
            <a:r>
              <a:rPr b="0" lang="ru-RU" sz="2000" spc="-1" strike="noStrike">
                <a:solidFill>
                  <a:srgbClr val="feb80a"/>
                </a:solidFill>
                <a:latin typeface="Arial"/>
              </a:rPr>
              <a:t>Создание фильма по результатам работы</a:t>
            </a:r>
            <a:r>
              <a:rPr b="0" lang="ru-RU" sz="2000" spc="-1" strike="noStrike">
                <a:solidFill>
                  <a:srgbClr val="feb80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2"/>
          <p:cNvSpPr/>
          <p:nvPr/>
        </p:nvSpPr>
        <p:spPr>
          <a:xfrm>
            <a:off x="2152800" y="638280"/>
            <a:ext cx="68198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Основные целевые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Учащиеся  лиц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Воины, проходившие службу в горячих точ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Родители погибших на Северном Кав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Классные руко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графия проекта – г. Увар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ed46c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sekretar</cp:lastModifiedBy>
  <dcterms:modified xsi:type="dcterms:W3CDTF">2016-04-19T09:49:14Z</dcterms:modified>
  <cp:revision>161</cp:revision>
  <dc:subject/>
  <dc:title>Презентация PowerPoint</dc:title>
</cp:coreProperties>
</file>