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2.wmf" ContentType="image/x-wmf"/>
  <Override PartName="/ppt/media/image19.png" ContentType="image/png"/>
  <Override PartName="/ppt/media/image2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2.jpeg" ContentType="image/jpeg"/>
  <Override PartName="/ppt/media/image34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30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17.png" ContentType="image/png"/>
  <Override PartName="/ppt/media/image32.jpeg" ContentType="image/jpeg"/>
  <Override PartName="/ppt/media/image3.png" ContentType="image/png"/>
  <Override PartName="/ppt/media/image1.jpeg" ContentType="image/jpeg"/>
  <Override PartName="/ppt/media/image14.jpeg" ContentType="image/jpeg"/>
  <Override PartName="/ppt/media/image1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64C5-0AF0-4826-B90D-082A5F677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56FF-54FC-451A-9579-D2460B6C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3C253-3545-4866-8DFF-9CDB47D0E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0D4FFB-5ADF-4FDE-A4FE-66D74ABA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49378-B25C-4C0A-AF06-24401708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31B505-6CB1-4C0A-989A-C41E9215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706D52-F76A-43E9-A09C-BEFD9CC7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C51807-41F3-43DD-8648-024E55FD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371C7A-7E89-4AEE-B603-1DBCAA15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651738-8F8C-4E8B-A0D9-FE31F594F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E44BBB-DF4C-4271-B83F-EF2639AB0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EFBC-D8C5-4A81-9A41-F3E8B7B2B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3C65-7DF7-42E6-9D5E-72E66A5E7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4152-1EBD-4BF1-B5C5-0C06DA537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F7E7-2FDC-4269-AF14-9BEA13C2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817F2-330A-40B9-AF61-79DDE303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3E950-8BA5-4306-A5D4-8A71BB9C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63CB-5ADA-41E9-9DE4-EC767C0F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D6F2-C27E-4479-83E2-4CF6DB58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CBA8-6833-42C8-A113-CF293216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B718-F2AF-40A6-A95D-49035B31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114B-0D90-46C6-B1E7-CF25CD00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5D2D-E8E9-4132-81A5-AC443B90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69B1D-DDC1-44DD-9D0F-831F33F3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1210-5C3E-42EF-80B0-6004F0C5A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4036-8EC0-45FB-88ED-6327104B9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AE86E-04B0-4D1E-8C11-307B26655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A9BC5-0F5A-44A6-B3CB-A2B343DE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5031A-1B82-44D7-8314-739A45955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B52A9-E8F2-406A-8A2E-F1618B3E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86141-011B-4E56-82EA-B9FFB9CC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E32A-B67B-4CA3-A52B-3B23A1B7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20208-E39B-4238-9671-3FF3B518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E1EFA-B6E7-4180-BC77-4C72C465E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AD087-3505-41A6-B73C-8D0DDB57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668BC-F119-4224-AE74-F2CA1A38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22D15-2B5D-4590-8B67-D5B42438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E26BF-104C-4E93-BBA8-328B45A89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A9F04-9026-43D9-9552-14DBE7774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AF2D0-0D63-42A5-BCD7-3BF8603D5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0831A-2AED-4BC5-9418-8B34EF77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A12A8-6356-4247-8CFE-FCD21769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B6DD-23DB-4218-9101-3BD595E3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A76D0-9E2F-4BD2-B5B8-A49F6BF4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DD400-32C5-4F82-8D57-FFA71864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1B98B-C444-4D51-9C45-46EB472B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1BD4A-9D62-4BF4-94B0-F07857C8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35ADD-F8EB-4073-94FB-B3FBFCF0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1AA8A-E260-48A4-B031-89157DFA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B6C52-0796-4256-B811-C70D64D7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37745-0E4B-4D93-A863-189FB9438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10359-D4C5-4262-92C0-012EF1ED1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FDEC6-508A-46E6-8DB6-A0902E25E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564F-C48A-44FC-9531-355543CA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A3682-5633-4686-A4C9-C5EECA94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A0EE8-F4CB-42C5-AA11-DEE1FA44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E9E2E-B995-45C9-A575-8C8F4B89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CE854-9403-4F1E-A246-51E5810D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A28E1-F2A7-40A7-A3AD-8C7EF078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FEA05-75D4-4B3D-9C4B-C467EF8F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B6DFA-12AD-4198-9982-D47BD3FA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EEA43-6829-4885-8246-F62A9694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4A9A7-A0F8-4DB0-9BEB-D7B0D8A6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7ABFF-5882-4BA7-9AD2-B4D0368D9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6E92-EAC9-440F-BAEC-974829D4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014E7-BC6F-4A5F-BBFF-1B747AE85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39E90-352A-499F-B4DB-6A8CD1577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F9BA1-E199-4318-A5CC-82D04D5C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441F85-16EB-4403-B474-A5A7EC88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EA085-1053-4307-B29C-6E4A8474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D0EDC-4D14-46B3-912B-F824AAC9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EC6E6-2FB6-4C9C-88C7-52481315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628B0-F608-418B-A92E-3FB38F3A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AED0F-19D8-4283-AB86-35B6ABA4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36B6F-CB31-4EFA-BE0A-B1CB640A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4B70-DBDC-450D-B859-FD0CDD72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E52BA-4F83-4580-844D-A3FCC453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F22A8-0D46-43BC-985D-64C5123E2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DC0BE-128E-4FD5-B703-385C5819A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51F77-49D4-43D6-8368-D47C72070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8F50C-81EF-4C21-98D7-E0D5DCEA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B2260-ACDE-45DD-A015-E071A061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85147-D95F-44D9-9F79-8112056B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7FB7B-2D8F-4352-B023-37E85793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BF65E-CBAA-4A40-96DB-54DA1E84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19156-1B80-46DD-99BF-47F155F1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4A3D-E570-47EB-9008-70785A02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7FC40-8ECD-4999-BF29-4E0B43AD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A8915-FFF0-4066-9243-4CDEE300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9391E-18D2-432E-B1B7-F05A20782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2E88C4-8B73-425B-BB42-9C277DA9E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AB4FF-3EF0-45BC-A56D-80A43A7EC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5A7A6-B4D3-4CB9-8396-5BAB4CBD0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53223-D44C-404C-82EA-5ADA920D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C888F-6839-42AE-84AE-B6003FFA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00B61-FA30-44A9-A29A-0E527532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C0F43-2833-4F52-9D1E-44B0511F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CAF3-AF4B-4C51-9C13-AF46C3A9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5CCCE-59A0-478C-9596-00726A2A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BB309-CC14-468E-85EE-4349E3B2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9106B-8045-4D16-A78B-B70A303D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53923-6648-4540-9956-87EB4878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6E966-5903-40B8-A848-59231DC1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9B3DA-5EA4-4574-A203-E2D5D2C3B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3DA89-8DD5-43B4-AA13-D9139C671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C8FF04-FF6B-472D-8481-496D4D3F4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A1EE5-D241-4170-BF7D-F41AE024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9C25C-F0BA-4224-9C21-1D66C62B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7f9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7A4D-3DDB-4718-B90B-B4728A52B1ED}" type="slidenum">
              <a:rPr b="0" lang="ru-RU" sz="1200" spc="-1" strike="noStrike">
                <a:solidFill>
                  <a:srgbClr val="307f9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7f9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A642-3E4F-4501-B5D7-A2F8A460AED3}" type="slidenum">
              <a:rPr b="0" lang="ru-RU" sz="1200" spc="-1" strike="noStrike">
                <a:solidFill>
                  <a:srgbClr val="307f9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7f9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8D98-3E5E-4958-AE6A-1D575BD4DFF4}" type="slidenum">
              <a:rPr b="0" lang="ru-RU" sz="1200" spc="-1" strike="noStrike">
                <a:solidFill>
                  <a:srgbClr val="307f9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d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d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d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d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d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d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d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7d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7f9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E573-67B3-432D-98CD-A8614B46F7BE}" type="slidenum">
              <a:rPr b="0" lang="ru-RU" sz="1200" spc="-1" strike="noStrike">
                <a:solidFill>
                  <a:srgbClr val="307f9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7f9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2E78-5F0D-4183-ADD8-561BD1A17252}" type="slidenum">
              <a:rPr b="0" lang="ru-RU" sz="1200" spc="-1" strike="noStrike">
                <a:solidFill>
                  <a:srgbClr val="307f9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7f9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3129-D74A-4EFB-A3EF-28DD01550B79}" type="slidenum">
              <a:rPr b="0" lang="ru-RU" sz="1200" spc="-1" strike="noStrike">
                <a:solidFill>
                  <a:srgbClr val="307f9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7f9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CBCB-0390-4E63-8F9E-A88EF6F69F39}" type="slidenum">
              <a:rPr b="0" lang="ru-RU" sz="1200" spc="-1" strike="noStrike">
                <a:solidFill>
                  <a:srgbClr val="307f9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7f9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5F07-F42B-4544-819D-2710985A78A1}" type="slidenum">
              <a:rPr b="0" lang="ru-RU" sz="1200" spc="-1" strike="noStrike">
                <a:solidFill>
                  <a:srgbClr val="307f9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3891a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3891a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71c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f271c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71c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f271c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07f93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7f93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2F26-FF87-4C5B-9DF6-1A319FA5A9F1}" type="slidenum">
              <a:rPr b="0" lang="ru-RU" sz="1200" spc="-1" strike="noStrike">
                <a:solidFill>
                  <a:srgbClr val="307f93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Рисунок 1" descr=""/>
          <p:cNvPicPr/>
          <p:nvPr/>
        </p:nvPicPr>
        <p:blipFill>
          <a:blip r:embed="rId1"/>
          <a:stretch/>
        </p:blipFill>
        <p:spPr>
          <a:xfrm>
            <a:off x="34776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Прямоугольник 2"/>
          <p:cNvSpPr/>
          <p:nvPr/>
        </p:nvSpPr>
        <p:spPr>
          <a:xfrm>
            <a:off x="1600200" y="587520"/>
            <a:ext cx="7543800" cy="55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d46c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ed46c"/>
                </a:solidFill>
                <a:latin typeface="Arial"/>
                <a:ea typeface="Times New Roman"/>
              </a:rPr>
              <a:t>   </a:t>
            </a:r>
            <a:r>
              <a:rPr b="0" lang="ru-RU" sz="4800" spc="-1" strike="noStrike">
                <a:solidFill>
                  <a:srgbClr val="fed46c"/>
                </a:solidFill>
                <a:latin typeface="Arial"/>
                <a:ea typeface="Times New Roman"/>
              </a:rPr>
              <a:t>Проек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ed46c"/>
                </a:solidFill>
                <a:latin typeface="Arial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fed46c"/>
                </a:solidFill>
                <a:latin typeface="Arial"/>
                <a:ea typeface="Times New Roman"/>
              </a:rPr>
              <a:t>« Ради жизни ныне живущих…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ed46c"/>
                </a:solidFill>
                <a:latin typeface="Arial"/>
                <a:ea typeface="Times New Roman"/>
              </a:rPr>
              <a:t>Руководитель:     учитель ОБ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ed46c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ed46c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ed46c"/>
                </a:solidFill>
                <a:latin typeface="Arial"/>
                <a:ea typeface="Times New Roman"/>
              </a:rPr>
              <a:t>МБОУ «Лицей г. Уварово им. А.И. Данилов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ed46c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ed46c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ed46c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ed46c"/>
                </a:solidFill>
                <a:latin typeface="Arial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ed46c"/>
                </a:solidFill>
                <a:latin typeface="Arial"/>
                <a:ea typeface="Times New Roman"/>
              </a:rPr>
              <a:t>Высочкина Т.Н</a:t>
            </a:r>
            <a:r>
              <a:rPr b="1" i="1" lang="ru-RU" sz="2400" spc="-1" strike="noStrike">
                <a:solidFill>
                  <a:srgbClr val="fed46c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Golubye.mp3" descr=""/>
          <p:cNvPicPr/>
          <p:nvPr/>
        </p:nvPicPr>
        <p:blipFill>
          <a:blip r:embed="rId2"/>
          <a:stretch/>
        </p:blipFill>
        <p:spPr>
          <a:xfrm>
            <a:off x="4419720" y="3817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Рисунок 1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436" name="Прямоугольник 2"/>
          <p:cNvSpPr/>
          <p:nvPr/>
        </p:nvSpPr>
        <p:spPr>
          <a:xfrm>
            <a:off x="1447920" y="657360"/>
            <a:ext cx="7505640" cy="46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  <a:ea typeface="Times New Roman"/>
              </a:rPr>
              <a:t>              </a:t>
            </a:r>
            <a:r>
              <a:rPr b="0" lang="ru-RU" sz="2800" spc="-1" strike="noStrike">
                <a:solidFill>
                  <a:srgbClr val="ffffff"/>
                </a:solidFill>
                <a:latin typeface="Franklin Gothic Book"/>
                <a:ea typeface="Times New Roman"/>
              </a:rPr>
              <a:t>Механизм реализации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1. Кадровое и информационно-методическое  обеспечен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2. Активизация деятельности волонтерских групп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3. Формирование информационного поля для  эффективной       деятельности волонтерских групп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4.  Сбор материала о выпускниках, погибших на Северном Кавказ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5. Проведение мероприятий среди учеников лицея на основе собранного материа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6. Участие в общегородских мероприятиях «Встреча трех поколений», «Готовность всегда боевая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ed46c"/>
              </a:buClr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ed46c"/>
                </a:solidFill>
                <a:latin typeface="Franklin Gothic Book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Рисунок 1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438" name="Прямоугольник 2"/>
          <p:cNvSpPr/>
          <p:nvPr/>
        </p:nvSpPr>
        <p:spPr>
          <a:xfrm>
            <a:off x="2143080" y="743040"/>
            <a:ext cx="6848640" cy="77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Franklin Gothic Book"/>
                <a:ea typeface="Times New Roman"/>
              </a:rPr>
              <a:t>Этапы реализации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оделирующий (сентябрь 2014 г. – декабрь 2014 г.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Обозначение главных идей, создание программы 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дейст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Сбор материала в рамках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Реализационный (январь 2015 г. – ноябрь 2015 г.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Исследовательская деятельность учащих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Проведение мероприятий в рамках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Аналитический (декабрь 2015 г.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Мониторинг системы работы  по проек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Подведение итогов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юджет проекта – 22 тысячи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Franklin Gothic Book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Заголовок 2" descr=""/>
          <p:cNvPicPr/>
          <p:nvPr/>
        </p:nvPicPr>
        <p:blipFill>
          <a:blip r:embed="rId1"/>
          <a:stretch/>
        </p:blipFill>
        <p:spPr>
          <a:xfrm>
            <a:off x="225360" y="146160"/>
            <a:ext cx="8699400" cy="725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0" name=""/>
          <p:cNvGraphicFramePr/>
          <p:nvPr/>
        </p:nvGraphicFramePr>
        <p:xfrm>
          <a:off x="187200" y="520560"/>
          <a:ext cx="8720280" cy="6132600"/>
        </p:xfrm>
        <a:graphic>
          <a:graphicData uri="http://schemas.openxmlformats.org/drawingml/2006/table">
            <a:tbl>
              <a:tblPr/>
              <a:tblGrid>
                <a:gridCol w="168480"/>
                <a:gridCol w="3951360"/>
                <a:gridCol w="3143160"/>
                <a:gridCol w="1457280"/>
              </a:tblGrid>
              <a:tr h="517680"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№ </a:t>
                      </a:r>
                      <a:r>
                        <a:rPr b="0" lang="ru-RU" sz="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\п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именование мероприят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енный показа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тветствен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рок реализа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здание волонтерских груп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 группы Высочкина Т.Н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ентябрь 2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оведение опроса среди учеников 8-9 класс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олонтерские групп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ктябрь 201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бор материала о выпускниках, погибших на Северном Кавказ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 группы волонтер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о 10 ноября 2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оведение Дня Памя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чащиеся  Лицея   800 челове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6 ноября, ежегод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стреча трех поколе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ктив д/о «Фортуна» Молод. парламент  20 челове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5 января, ежегодн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руглый стол «Во имя мира на земле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таршеклассники лицея, приглашенные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0 уч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3 февраля 2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кция «От сердца к сердцу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олонтеры, родители погибших ребят 20 уч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ервая неделя мар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истематизация собранного материал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ктивисты 8 ученик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нец марта 2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нференция «Это нужно не мертвым, это нужно живым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-9 классы 90 ученик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пр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частие в городском празднике «Готовность всегда боевая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ктивисты д\о «Фортуна», молодежный парламент 18 челове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ай 2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здание фильма о проделанной работе и презентации по собранному материал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олонтеры под руководством Филиппова Макси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ма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писание исследовательской работ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ук.  Высочкина Т.Н, уч. 9 кл  Попов Кирилл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ктябр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Участие в лицейской научно-практической конферен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Черникова  Анастасия участники конферен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 – 18 апреля 2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писание сценария «Дня Памяти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олонтеры 5 челове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оябрь 2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накомство классных руководителей с собранным материал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олонтеры 34 челове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о ноября 2016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мощь классным руководителям в проведении классных часов, посвященных 20-летию с  начала боевых действий на Северном Кавказ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олонтер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8 челове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440" rIns="194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оябрь   2016 го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440" marR="19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Рисунок 1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443" name="Прямоугольник 2"/>
          <p:cNvSpPr/>
          <p:nvPr/>
        </p:nvSpPr>
        <p:spPr>
          <a:xfrm>
            <a:off x="1927080" y="117360"/>
            <a:ext cx="7216920" cy="55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d46c"/>
                </a:solidFill>
                <a:latin typeface="Franklin Gothic Book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ed46c"/>
                </a:solidFill>
                <a:latin typeface="Franklin Gothic Book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Franklin Gothic Book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Franklin Gothic Book"/>
                <a:ea typeface="Times New Roman"/>
              </a:rPr>
              <a:t>Результативность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  <a:ea typeface="Times New Roman"/>
              </a:rPr>
              <a:t>1)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Ученики получат возможность  находить материал и готовить мероприятия гражданско-патриотической направл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feb80a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b80a"/>
                </a:solidFill>
                <a:latin typeface="Arial"/>
                <a:ea typeface="Arial"/>
              </a:rPr>
              <a:t>Увеличение количества учащихся, задействованных в поисковой и исследователь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c000"/>
              </a:buClr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Franklin Gothic Book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Помощь</a:t>
            </a:r>
            <a:r>
              <a:rPr b="0" lang="ru-RU" sz="2400" spc="-1" strike="noStrike">
                <a:solidFill>
                  <a:srgbClr val="ffc000"/>
                </a:solidFill>
                <a:latin typeface="Franklin Gothic Book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родителям выпускников, погибших в Чеченской Республ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ffc000"/>
              </a:buClr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Franklin Gothic Book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c000"/>
                </a:solidFill>
                <a:latin typeface="Franklin Gothic Book"/>
                <a:ea typeface="Times New Roman"/>
              </a:rPr>
              <a:t>П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ополнятся активы музея «История школы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ffc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Использование полученного материала классными руководителями при проведении мероприят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ffc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  <a:ea typeface="Arial"/>
              </a:rPr>
              <a:t>Увеличение памятных мест в гор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406080" y="63828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Franklin Gothic Book"/>
              </a:rPr>
              <a:t>Что вы знаете о войне в Афганистане и Чеченской республике ?</a:t>
            </a: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pic>
        <p:nvPicPr>
          <p:cNvPr id="445" name="Заголовок 2" descr=""/>
          <p:cNvPicPr/>
          <p:nvPr/>
        </p:nvPicPr>
        <p:blipFill>
          <a:blip r:embed="rId1"/>
          <a:stretch/>
        </p:blipFill>
        <p:spPr>
          <a:xfrm>
            <a:off x="237960" y="79200"/>
            <a:ext cx="8697960" cy="1798920"/>
          </a:xfrm>
          <a:prstGeom prst="rect">
            <a:avLst/>
          </a:prstGeom>
          <a:ln w="0">
            <a:noFill/>
          </a:ln>
        </p:spPr>
      </p:pic>
      <p:pic>
        <p:nvPicPr>
          <p:cNvPr id="446" name="Диаграмма 4" descr=""/>
          <p:cNvPicPr/>
          <p:nvPr/>
        </p:nvPicPr>
        <p:blipFill>
          <a:blip r:embed="rId2"/>
          <a:stretch/>
        </p:blipFill>
        <p:spPr>
          <a:xfrm>
            <a:off x="2698920" y="2317680"/>
            <a:ext cx="5937120" cy="454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369720" y="2160720"/>
            <a:ext cx="444024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1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Franklin Gothic Book"/>
              </a:rPr>
              <a:t>Сколько военнослужащих из нашего города проходило службу в горячих точках</a:t>
            </a: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pic>
        <p:nvPicPr>
          <p:cNvPr id="448" name="Заголовок 5" descr=""/>
          <p:cNvPicPr/>
          <p:nvPr/>
        </p:nvPicPr>
        <p:blipFill>
          <a:blip r:embed="rId1"/>
          <a:stretch/>
        </p:blipFill>
        <p:spPr>
          <a:xfrm>
            <a:off x="-6480" y="-92160"/>
            <a:ext cx="8699760" cy="1298520"/>
          </a:xfrm>
          <a:prstGeom prst="rect">
            <a:avLst/>
          </a:prstGeom>
          <a:ln w="0">
            <a:noFill/>
          </a:ln>
        </p:spPr>
      </p:pic>
      <p:pic>
        <p:nvPicPr>
          <p:cNvPr id="449" name="Диаграмма 8" descr=""/>
          <p:cNvPicPr/>
          <p:nvPr/>
        </p:nvPicPr>
        <p:blipFill>
          <a:blip r:embed="rId2"/>
          <a:stretch/>
        </p:blipFill>
        <p:spPr>
          <a:xfrm>
            <a:off x="2279520" y="3697200"/>
            <a:ext cx="5194440" cy="3160800"/>
          </a:xfrm>
          <a:prstGeom prst="rect">
            <a:avLst/>
          </a:prstGeom>
          <a:ln w="0">
            <a:noFill/>
          </a:ln>
        </p:spPr>
      </p:pic>
      <p:sp>
        <p:nvSpPr>
          <p:cNvPr id="450" name="Прямоугольник 9"/>
          <p:cNvSpPr/>
          <p:nvPr/>
        </p:nvSpPr>
        <p:spPr>
          <a:xfrm>
            <a:off x="5248440" y="1079640"/>
            <a:ext cx="389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Franklin Gothic Book"/>
              </a:rPr>
              <a:t>Сколько военнослужащих погибло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387000" y="398160"/>
            <a:ext cx="8458200" cy="84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Franklin Gothic Book"/>
              </a:rPr>
              <a:t>Есть ли среди погибших  выпускники лицея?</a:t>
            </a: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pic>
        <p:nvPicPr>
          <p:cNvPr id="452" name="Диаграмма 5" descr=""/>
          <p:cNvPicPr/>
          <p:nvPr/>
        </p:nvPicPr>
        <p:blipFill>
          <a:blip r:embed="rId1"/>
          <a:stretch/>
        </p:blipFill>
        <p:spPr>
          <a:xfrm>
            <a:off x="974880" y="1808280"/>
            <a:ext cx="6665760" cy="438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06080" y="23940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Franklin Gothic Book"/>
              </a:rPr>
              <a:t>За что отдали свою жизнь  наши выпускники?</a:t>
            </a:r>
            <a:endParaRPr b="0" lang="en-US" sz="3600" spc="-1" strike="noStrike">
              <a:solidFill>
                <a:srgbClr val="e7dec9"/>
              </a:solidFill>
              <a:latin typeface="Franklin Gothic Book"/>
            </a:endParaRPr>
          </a:p>
        </p:txBody>
      </p:sp>
      <p:pic>
        <p:nvPicPr>
          <p:cNvPr id="454" name="Диаграмма 5" descr=""/>
          <p:cNvPicPr/>
          <p:nvPr/>
        </p:nvPicPr>
        <p:blipFill>
          <a:blip r:embed="rId1"/>
          <a:stretch/>
        </p:blipFill>
        <p:spPr>
          <a:xfrm>
            <a:off x="1523880" y="1774800"/>
            <a:ext cx="6605640" cy="45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406080" y="4795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Franklin Gothic Book"/>
              </a:rPr>
              <a:t>Назовите нравственные мотивы действий и поступков наших солдат?</a:t>
            </a: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graphicFrame>
        <p:nvGraphicFramePr>
          <p:cNvPr id="456" name="Object 5"/>
          <p:cNvGraphicFramePr/>
          <p:nvPr/>
        </p:nvGraphicFramePr>
        <p:xfrm>
          <a:off x="1127160" y="1832040"/>
          <a:ext cx="7105680" cy="42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832040"/>
                    <a:ext cx="7105680" cy="42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406080" y="4795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Franklin Gothic Book"/>
              </a:rPr>
              <a:t>Из каких источников сформировалось ваше представление о</a:t>
            </a:r>
            <a:r>
              <a:rPr b="1" i="1" lang="en-US" sz="32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Franklin Gothic Book"/>
              </a:rPr>
              <a:t>войне в Афганистане и о  конфликтах в Чеченской Республике?</a:t>
            </a:r>
            <a:endParaRPr b="0" lang="en-US" sz="3200" spc="-1" strike="noStrike">
              <a:solidFill>
                <a:srgbClr val="e7dec9"/>
              </a:solidFill>
              <a:latin typeface="Franklin Gothic Book"/>
            </a:endParaRPr>
          </a:p>
        </p:txBody>
      </p:sp>
      <p:graphicFrame>
        <p:nvGraphicFramePr>
          <p:cNvPr id="459" name="Object 3"/>
          <p:cNvGraphicFramePr/>
          <p:nvPr/>
        </p:nvGraphicFramePr>
        <p:xfrm>
          <a:off x="590400" y="1730520"/>
          <a:ext cx="8553600" cy="50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400" y="1730520"/>
                    <a:ext cx="8553600" cy="50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Рисунок 1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403" name="Прямоугольник 2"/>
          <p:cNvSpPr/>
          <p:nvPr/>
        </p:nvSpPr>
        <p:spPr>
          <a:xfrm>
            <a:off x="438120" y="1685880"/>
            <a:ext cx="821052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d46c"/>
                </a:solidFill>
                <a:latin typeface="Arial"/>
                <a:ea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d46c"/>
                </a:solidFill>
                <a:latin typeface="Franklin Gothic Book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feb80a"/>
                </a:solidFill>
                <a:latin typeface="Arial"/>
                <a:ea typeface="Times New Roman"/>
              </a:rPr>
              <a:t>Война в Афганистане и на Северном Кавказ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b80a"/>
                </a:solidFill>
                <a:latin typeface="Arial"/>
                <a:ea typeface="Times New Roman"/>
              </a:rPr>
              <a:t>У  этих войн еще нет истории. Она 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b80a"/>
                </a:solidFill>
                <a:latin typeface="Arial"/>
                <a:ea typeface="Times New Roman"/>
              </a:rPr>
              <a:t>написана. Но мы должны знать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b80a"/>
                </a:solidFill>
                <a:latin typeface="Arial"/>
                <a:ea typeface="Times New Roman"/>
              </a:rPr>
              <a:t>помнить о ней, чтобы не повтор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b80a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eb80a"/>
                </a:solidFill>
                <a:latin typeface="Arial"/>
                <a:ea typeface="Times New Roman"/>
              </a:rPr>
              <a:t>случившего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Picture 5" descr="i-921"/>
          <p:cNvPicPr/>
          <p:nvPr/>
        </p:nvPicPr>
        <p:blipFill>
          <a:blip r:embed="rId2"/>
          <a:stretch/>
        </p:blipFill>
        <p:spPr>
          <a:xfrm>
            <a:off x="6334200" y="3009960"/>
            <a:ext cx="2543040" cy="207648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6"/>
          <p:cNvSpPr/>
          <p:nvPr/>
        </p:nvSpPr>
        <p:spPr>
          <a:xfrm>
            <a:off x="2771640" y="933480"/>
            <a:ext cx="473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ктуальность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28600" y="86400"/>
            <a:ext cx="8686800" cy="8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900" spc="-1" strike="noStrike">
              <a:solidFill>
                <a:srgbClr val="e7dec9"/>
              </a:solidFill>
              <a:latin typeface="Franklin Gothic Medium"/>
            </a:endParaRPr>
          </a:p>
        </p:txBody>
      </p:sp>
      <p:pic>
        <p:nvPicPr>
          <p:cNvPr id="462" name="Picture 7" descr="C:\Documents and Settings\Татьяна\Мои документы\Мои рисунки\img340.jpg"/>
          <p:cNvPicPr/>
          <p:nvPr/>
        </p:nvPicPr>
        <p:blipFill>
          <a:blip r:embed="rId1"/>
          <a:stretch/>
        </p:blipFill>
        <p:spPr>
          <a:xfrm>
            <a:off x="304920" y="1009800"/>
            <a:ext cx="3771720" cy="514332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" descr="SAM_4327"/>
          <p:cNvPicPr/>
          <p:nvPr/>
        </p:nvPicPr>
        <p:blipFill>
          <a:blip r:embed="rId2"/>
          <a:stretch/>
        </p:blipFill>
        <p:spPr>
          <a:xfrm>
            <a:off x="4424400" y="155520"/>
            <a:ext cx="4521240" cy="339084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2" descr="SAM_4332"/>
          <p:cNvPicPr/>
          <p:nvPr/>
        </p:nvPicPr>
        <p:blipFill>
          <a:blip r:embed="rId3"/>
          <a:stretch/>
        </p:blipFill>
        <p:spPr>
          <a:xfrm>
            <a:off x="4513320" y="3666960"/>
            <a:ext cx="4335480" cy="30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cbc3b1"/>
              </a:solidFill>
              <a:latin typeface="Franklin Gothic Boo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title"/>
          </p:nvPr>
        </p:nvSpPr>
        <p:spPr>
          <a:xfrm>
            <a:off x="181080" y="2945880"/>
            <a:ext cx="8686800" cy="11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e7dec9"/>
              </a:solidFill>
              <a:latin typeface="Franklin Gothic Medium"/>
            </a:endParaRPr>
          </a:p>
        </p:txBody>
      </p:sp>
      <p:pic>
        <p:nvPicPr>
          <p:cNvPr id="467" name="Picture 2" descr="C:\Users\Philosoph\Desktop\шк аф.jpg"/>
          <p:cNvPicPr/>
          <p:nvPr/>
        </p:nvPicPr>
        <p:blipFill>
          <a:blip r:embed="rId1"/>
          <a:stretch/>
        </p:blipFill>
        <p:spPr>
          <a:xfrm>
            <a:off x="96840" y="0"/>
            <a:ext cx="4367160" cy="327492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3" descr="C:\Users\Philosoph\Desktop\совместное фото.jpg"/>
          <p:cNvPicPr/>
          <p:nvPr/>
        </p:nvPicPr>
        <p:blipFill>
          <a:blip r:embed="rId2"/>
          <a:stretch/>
        </p:blipFill>
        <p:spPr>
          <a:xfrm>
            <a:off x="96840" y="3562200"/>
            <a:ext cx="4395960" cy="32958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4" descr="C:\Users\Philosoph\Desktop\фото аф.jpg"/>
          <p:cNvPicPr/>
          <p:nvPr/>
        </p:nvPicPr>
        <p:blipFill>
          <a:blip r:embed="rId3"/>
          <a:stretch/>
        </p:blipFill>
        <p:spPr>
          <a:xfrm>
            <a:off x="4654440" y="0"/>
            <a:ext cx="4338720" cy="32749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5" descr="C:\Users\Philosoph\Desktop\школа аф.jpg"/>
          <p:cNvPicPr/>
          <p:nvPr/>
        </p:nvPicPr>
        <p:blipFill>
          <a:blip r:embed="rId4"/>
          <a:stretch/>
        </p:blipFill>
        <p:spPr>
          <a:xfrm>
            <a:off x="4762440" y="3562200"/>
            <a:ext cx="4230720" cy="319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685440" y="436320"/>
            <a:ext cx="8458200" cy="562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Результативность проекта</a:t>
            </a:r>
            <a:endParaRPr b="0" lang="en-US" sz="4000" spc="-1" strike="noStrike">
              <a:solidFill>
                <a:srgbClr val="e7dec9"/>
              </a:solidFill>
              <a:latin typeface="Franklin Gothic Book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7dec9"/>
              </a:solidFill>
              <a:latin typeface="Franklin Gothic Book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b80a"/>
                </a:solidFill>
                <a:latin typeface="Franklin Gothic Book"/>
              </a:rPr>
              <a:t>Грант Управления образования и науки - 8 тысяч</a:t>
            </a:r>
            <a:endParaRPr b="0" lang="en-US" sz="3600" spc="-1" strike="noStrike">
              <a:solidFill>
                <a:srgbClr val="e7dec9"/>
              </a:solidFill>
              <a:latin typeface="Franklin Gothic Book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b80a"/>
                </a:solidFill>
                <a:latin typeface="Franklin Gothic Book"/>
              </a:rPr>
              <a:t>Грант администрации Тамбовской области – 50 тысяч</a:t>
            </a:r>
            <a:endParaRPr b="0" lang="en-US" sz="3600" spc="-1" strike="noStrike">
              <a:solidFill>
                <a:srgbClr val="e7dec9"/>
              </a:solidFill>
              <a:latin typeface="Franklin Gothic Book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b80a"/>
                </a:solidFill>
                <a:latin typeface="Franklin Gothic Book"/>
              </a:rPr>
              <a:t>Участие во Всероссийском конкурсе исследовательских работ «Отечество -2015»</a:t>
            </a:r>
            <a:endParaRPr b="0" lang="en-US" sz="3600" spc="-1" strike="noStrike">
              <a:solidFill>
                <a:srgbClr val="e7dec9"/>
              </a:solidFill>
              <a:latin typeface="Franklin Gothic 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title"/>
          </p:nvPr>
        </p:nvSpPr>
        <p:spPr>
          <a:xfrm>
            <a:off x="181080" y="3788280"/>
            <a:ext cx="8686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7dec9"/>
              </a:solidFill>
              <a:latin typeface="Franklin Gothic Medium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Рисунок 1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Прямоугольник 2"/>
          <p:cNvSpPr/>
          <p:nvPr/>
        </p:nvSpPr>
        <p:spPr>
          <a:xfrm>
            <a:off x="4562640" y="228600"/>
            <a:ext cx="4324320" cy="57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В аттестатах отме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Не ставят за смелос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За любовь к своей Родин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Дружбу и че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Им в боях довело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Проверять свою зрел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И отметок так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Невозможно уч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И экзамен на вер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Любимой ОТЧИЗ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С честью выдерж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Каждый из наших ребя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Имена их отны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Бессмертно и горд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Как в шеренге бойц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В школьном списке стоя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14" descr="img659"/>
          <p:cNvPicPr/>
          <p:nvPr/>
        </p:nvPicPr>
        <p:blipFill>
          <a:blip r:embed="rId2"/>
          <a:stretch/>
        </p:blipFill>
        <p:spPr>
          <a:xfrm>
            <a:off x="3324240" y="162000"/>
            <a:ext cx="1625760" cy="22669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5" descr="img076"/>
          <p:cNvPicPr/>
          <p:nvPr/>
        </p:nvPicPr>
        <p:blipFill>
          <a:blip r:embed="rId3"/>
          <a:stretch/>
        </p:blipFill>
        <p:spPr>
          <a:xfrm>
            <a:off x="227160" y="1650960"/>
            <a:ext cx="1582560" cy="22878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6" descr="img658"/>
          <p:cNvPicPr/>
          <p:nvPr/>
        </p:nvPicPr>
        <p:blipFill>
          <a:blip r:embed="rId4"/>
          <a:stretch/>
        </p:blipFill>
        <p:spPr>
          <a:xfrm>
            <a:off x="3071880" y="3003480"/>
            <a:ext cx="1562040" cy="2114640"/>
          </a:xfrm>
          <a:prstGeom prst="rect">
            <a:avLst/>
          </a:prstGeom>
          <a:ln w="0">
            <a:noFill/>
          </a:ln>
        </p:spPr>
      </p:pic>
      <p:sp>
        <p:nvSpPr>
          <p:cNvPr id="478" name="TextBox 8"/>
          <p:cNvSpPr/>
          <p:nvPr/>
        </p:nvSpPr>
        <p:spPr>
          <a:xfrm>
            <a:off x="3133800" y="245736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Магацкий Вале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9"/>
          <p:cNvSpPr/>
          <p:nvPr/>
        </p:nvSpPr>
        <p:spPr>
          <a:xfrm>
            <a:off x="0" y="3895560"/>
            <a:ext cx="19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Истомин Анд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10"/>
          <p:cNvSpPr/>
          <p:nvPr/>
        </p:nvSpPr>
        <p:spPr>
          <a:xfrm>
            <a:off x="2724120" y="5113440"/>
            <a:ext cx="23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Клюкин Дмит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Заголовок 2" descr=""/>
          <p:cNvPicPr/>
          <p:nvPr/>
        </p:nvPicPr>
        <p:blipFill>
          <a:blip r:embed="rId1"/>
          <a:stretch/>
        </p:blipFill>
        <p:spPr>
          <a:xfrm>
            <a:off x="225360" y="2066760"/>
            <a:ext cx="8699400" cy="17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Рисунок 1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оугольник 2"/>
          <p:cNvSpPr/>
          <p:nvPr/>
        </p:nvSpPr>
        <p:spPr>
          <a:xfrm>
            <a:off x="490680" y="0"/>
            <a:ext cx="8486640" cy="57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  <a:ea typeface="Times New Roman"/>
              </a:rPr>
              <a:t>Проект «Ради жизни ныне живущих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посвящен войнам, выполнявшим свой  воинский долг  в Афганистане и на Северном Кавказе, а также семьям погибших в военных действиях в Чеченской Республи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Родные и близкие  воинов должны понимать, что государство не забывает  ребя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А молодые люди, которым  еще только предстоит  служи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должны   знать историю и гордиться воинами, погибшими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мирное время, выполняя свой гражданский долг, защищая целостность и независимость Российского госуда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                              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Наша святая обязанность — хранить память о            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              погибших в ходе вооруженного конфликта на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  <a:ea typeface="Arial"/>
              </a:rPr>
              <a:t>                             территории Северного Кавказ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Рисунок 1" descr=""/>
          <p:cNvPicPr/>
          <p:nvPr/>
        </p:nvPicPr>
        <p:blipFill>
          <a:blip r:embed="rId1"/>
          <a:stretch/>
        </p:blipFill>
        <p:spPr>
          <a:xfrm>
            <a:off x="77760" y="-27612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409" name="Прямоугольник 2"/>
          <p:cNvSpPr/>
          <p:nvPr/>
        </p:nvSpPr>
        <p:spPr>
          <a:xfrm>
            <a:off x="438120" y="987480"/>
            <a:ext cx="8210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d46c"/>
                </a:solidFill>
                <a:latin typeface="Arial"/>
                <a:ea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d46c"/>
                </a:solidFill>
                <a:latin typeface="Franklin Gothic Book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2"/>
          <p:cNvSpPr/>
          <p:nvPr/>
        </p:nvSpPr>
        <p:spPr>
          <a:xfrm>
            <a:off x="438120" y="987480"/>
            <a:ext cx="8210520" cy="10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d46c"/>
                </a:solidFill>
                <a:latin typeface="Arial"/>
                <a:ea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2"/>
          <p:cNvSpPr/>
          <p:nvPr/>
        </p:nvSpPr>
        <p:spPr>
          <a:xfrm>
            <a:off x="438120" y="987480"/>
            <a:ext cx="8210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d46c"/>
                </a:solidFill>
                <a:latin typeface="Arial"/>
                <a:ea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d46c"/>
                </a:solidFill>
                <a:latin typeface="Franklin Gothic Book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1476360" y="809640"/>
            <a:ext cx="76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оугольник 7"/>
          <p:cNvSpPr/>
          <p:nvPr/>
        </p:nvSpPr>
        <p:spPr>
          <a:xfrm>
            <a:off x="706320" y="825480"/>
            <a:ext cx="788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Все мы знаем, как жестока и безжалостна война. Она забирает наших близких и род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15 февраля отмечается День вывода наши войск с территории АФГАНИСТ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В декабре 2014 года исполнилось 20 лет с начала боевых действий в рамках осуществления контртеррористических операций в Чеченской Республи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Борьба с терроризмом одна из основных задач      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нашего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415" name="Прямоугольник 2"/>
          <p:cNvSpPr/>
          <p:nvPr/>
        </p:nvSpPr>
        <p:spPr>
          <a:xfrm>
            <a:off x="1800360" y="457200"/>
            <a:ext cx="6297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Franklin Gothic Book"/>
                <a:ea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14" descr="img659"/>
          <p:cNvPicPr/>
          <p:nvPr/>
        </p:nvPicPr>
        <p:blipFill>
          <a:blip r:embed="rId2"/>
          <a:stretch/>
        </p:blipFill>
        <p:spPr>
          <a:xfrm>
            <a:off x="457200" y="1562040"/>
            <a:ext cx="1876320" cy="24573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5" descr="img076"/>
          <p:cNvPicPr/>
          <p:nvPr/>
        </p:nvPicPr>
        <p:blipFill>
          <a:blip r:embed="rId3"/>
          <a:stretch/>
        </p:blipFill>
        <p:spPr>
          <a:xfrm>
            <a:off x="3502080" y="2406600"/>
            <a:ext cx="1744560" cy="25210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6" descr="img658"/>
          <p:cNvPicPr/>
          <p:nvPr/>
        </p:nvPicPr>
        <p:blipFill>
          <a:blip r:embed="rId4"/>
          <a:stretch/>
        </p:blipFill>
        <p:spPr>
          <a:xfrm>
            <a:off x="6240600" y="1852560"/>
            <a:ext cx="1787400" cy="2457360"/>
          </a:xfrm>
          <a:prstGeom prst="rect">
            <a:avLst/>
          </a:prstGeom>
          <a:ln w="0">
            <a:noFill/>
          </a:ln>
        </p:spPr>
      </p:pic>
      <p:sp>
        <p:nvSpPr>
          <p:cNvPr id="419" name="TextBox 7"/>
          <p:cNvSpPr/>
          <p:nvPr/>
        </p:nvSpPr>
        <p:spPr>
          <a:xfrm>
            <a:off x="152280" y="40957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Магацкий Вале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10"/>
          <p:cNvSpPr/>
          <p:nvPr/>
        </p:nvSpPr>
        <p:spPr>
          <a:xfrm>
            <a:off x="3441600" y="502452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Истомин Анд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9"/>
          <p:cNvSpPr/>
          <p:nvPr/>
        </p:nvSpPr>
        <p:spPr>
          <a:xfrm>
            <a:off x="5938920" y="4365720"/>
            <a:ext cx="22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Клюкин Дмит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оугольник 9"/>
          <p:cNvSpPr/>
          <p:nvPr/>
        </p:nvSpPr>
        <p:spPr>
          <a:xfrm>
            <a:off x="2468520" y="609480"/>
            <a:ext cx="5299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В Афганистане погибших уваровцев 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26 ноября - День Памяти воинов - тамбовчан погибших на Северном Кавказ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c000"/>
                </a:solidFill>
                <a:latin typeface="Arial"/>
              </a:rPr>
              <a:t>116 воинов - тамбовчан погибли, выполняя   свой гражданский дол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424" name="Прямоугольник 2"/>
          <p:cNvSpPr/>
          <p:nvPr/>
        </p:nvSpPr>
        <p:spPr>
          <a:xfrm>
            <a:off x="743040" y="-647640"/>
            <a:ext cx="8134200" cy="87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d46c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d46c"/>
                </a:solidFill>
                <a:latin typeface="Arial"/>
                <a:ea typeface="Times New Roman"/>
              </a:rPr>
              <a:t>       </a:t>
            </a:r>
            <a:r>
              <a:rPr b="1" lang="ru-RU" sz="2800" spc="-1" strike="noStrike">
                <a:solidFill>
                  <a:srgbClr val="fed46c"/>
                </a:solidFill>
                <a:latin typeface="Arial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fed46c"/>
                </a:solidFill>
                <a:latin typeface="Arial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fed46c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ed46c"/>
                </a:solidFill>
                <a:latin typeface="Arial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fed46c"/>
                </a:solidFill>
                <a:latin typeface="Arial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Награжде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орденом Мужества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посмертно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80a"/>
                </a:solidFill>
                <a:latin typeface="Arial"/>
                <a:ea typeface="Times New Roman"/>
              </a:rPr>
              <a:t>Маргацкий Валер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80a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eb80a"/>
                </a:solidFill>
                <a:latin typeface="Arial"/>
                <a:ea typeface="Times New Roman"/>
              </a:rPr>
              <a:t>Истомин Андр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b80a"/>
                </a:solidFill>
                <a:latin typeface="Arial"/>
                <a:ea typeface="Times New Roman"/>
              </a:rPr>
              <a:t>Клюкин Дмитр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d46c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ed46c"/>
                </a:solidFill>
                <a:latin typeface="Arial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fed46c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ed46c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ed46c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eb80a"/>
                </a:solidFill>
                <a:latin typeface="Arial"/>
                <a:ea typeface="Times New Roman"/>
              </a:rPr>
              <a:t>А я после боя заплакать не см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b80a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eb80a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eb80a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eb80a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eb80a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eb80a"/>
                </a:solidFill>
                <a:latin typeface="Arial"/>
                <a:ea typeface="Times New Roman"/>
              </a:rPr>
              <a:t>И руки тряслись прикурит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b80a"/>
                </a:solidFill>
                <a:latin typeface="Arial"/>
                <a:ea typeface="Times New Roman"/>
              </a:rPr>
              <a:t>              </a:t>
            </a:r>
            <a:r>
              <a:rPr b="0" lang="ru-RU" sz="2400" spc="-1" strike="noStrike">
                <a:solidFill>
                  <a:srgbClr val="feb80a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eb80a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eb80a"/>
                </a:solidFill>
                <a:latin typeface="Arial"/>
                <a:ea typeface="Times New Roman"/>
              </a:rPr>
              <a:t>Я  видел, как друга в цинковый гро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b80a"/>
                </a:solidFill>
                <a:latin typeface="Arial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feb80a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eb80a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eb80a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eb80a"/>
                </a:solidFill>
                <a:latin typeface="Arial"/>
                <a:ea typeface="Times New Roman"/>
              </a:rPr>
              <a:t>Останки несли хоронить</a:t>
            </a:r>
            <a:r>
              <a:rPr b="0" lang="ru-RU" sz="2800" spc="-1" strike="noStrike">
                <a:solidFill>
                  <a:srgbClr val="feb80a"/>
                </a:solidFill>
                <a:latin typeface="Arial"/>
                <a:ea typeface="Times New Roman"/>
              </a:rPr>
              <a:t>…</a:t>
            </a:r>
            <a:r>
              <a:rPr b="0" lang="ru-RU" sz="2800" spc="-1" strike="noStrike">
                <a:solidFill>
                  <a:srgbClr val="feb80a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eb80a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eb80a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eb80a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eb80a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eb80a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eb80a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eb80a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ed46c"/>
                </a:solidFill>
                <a:latin typeface="Arial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ed46c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ed46c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ed46c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d46c"/>
                </a:solidFill>
                <a:latin typeface="Franklin Gothic Book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Рисунок 3" descr="http://petrozavodsk.rfn.ru/p/m_6768.jpg"/>
          <p:cNvPicPr/>
          <p:nvPr/>
        </p:nvPicPr>
        <p:blipFill>
          <a:blip r:embed="rId2"/>
          <a:stretch/>
        </p:blipFill>
        <p:spPr>
          <a:xfrm>
            <a:off x="5059440" y="1425600"/>
            <a:ext cx="2727360" cy="218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Рисунок 1" descr=""/>
          <p:cNvPicPr/>
          <p:nvPr/>
        </p:nvPicPr>
        <p:blipFill>
          <a:blip r:embed="rId1"/>
          <a:stretch/>
        </p:blipFill>
        <p:spPr>
          <a:xfrm>
            <a:off x="133200" y="0"/>
            <a:ext cx="9544320" cy="6858000"/>
          </a:xfrm>
          <a:prstGeom prst="rect">
            <a:avLst/>
          </a:prstGeom>
          <a:ln w="0">
            <a:noFill/>
          </a:ln>
        </p:spPr>
      </p:pic>
      <p:sp>
        <p:nvSpPr>
          <p:cNvPr id="427" name="Прямоугольник 2"/>
          <p:cNvSpPr/>
          <p:nvPr/>
        </p:nvSpPr>
        <p:spPr>
          <a:xfrm>
            <a:off x="333360" y="190440"/>
            <a:ext cx="655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d46c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ed46c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ed46c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3057480" y="352440"/>
            <a:ext cx="2533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Цел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7" descr="SAM_4754"/>
          <p:cNvPicPr/>
          <p:nvPr/>
        </p:nvPicPr>
        <p:blipFill>
          <a:blip r:embed="rId2"/>
          <a:stretch/>
        </p:blipFill>
        <p:spPr>
          <a:xfrm>
            <a:off x="5173560" y="3429000"/>
            <a:ext cx="3368880" cy="2752560"/>
          </a:xfrm>
          <a:prstGeom prst="rect">
            <a:avLst/>
          </a:prstGeom>
          <a:ln w="0">
            <a:noFill/>
          </a:ln>
        </p:spPr>
      </p:pic>
      <p:sp>
        <p:nvSpPr>
          <p:cNvPr id="430" name="Прямоугольник 5"/>
          <p:cNvSpPr/>
          <p:nvPr/>
        </p:nvSpPr>
        <p:spPr>
          <a:xfrm>
            <a:off x="677880" y="1455840"/>
            <a:ext cx="618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eb80a"/>
                </a:solidFill>
                <a:latin typeface="Arial"/>
              </a:rPr>
              <a:t>Создание условий для воспитания патриотизма и формирования активной жизненной позиции молодого поколения на примере их сверстников, воевавших в Афганистане и выпускников лицея,  павших на Северном Кавказе при защите конституционного строя, целостности и независимости нашей Род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250200" cy="6858000"/>
          </a:xfrm>
          <a:prstGeom prst="rect">
            <a:avLst/>
          </a:prstGeom>
          <a:ln w="0">
            <a:noFill/>
          </a:ln>
        </p:spPr>
      </p:pic>
      <p:sp>
        <p:nvSpPr>
          <p:cNvPr id="432" name="Прямоугольник 2"/>
          <p:cNvSpPr/>
          <p:nvPr/>
        </p:nvSpPr>
        <p:spPr>
          <a:xfrm>
            <a:off x="341280" y="285840"/>
            <a:ext cx="8802720" cy="47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d46c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ed46c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ed46c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ed46c"/>
                </a:solidFill>
                <a:latin typeface="Arial"/>
                <a:ea typeface="Times New Roman"/>
              </a:rPr>
              <a:t>    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Задачи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1. Дать понятие Национальной безопасности России, её внутренней и внешней полит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ed46c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2.</a:t>
            </a:r>
            <a:r>
              <a:rPr b="0" lang="ru-RU" sz="2000" spc="-1" strike="noStrike">
                <a:solidFill>
                  <a:srgbClr val="fed46c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Развитие гражданской инициативы и гражданской ответственности учеников, заинтересованных в том, чтобы внести свой личный вклад в решение проблемы по сбору материала о выпускниках лицея, погибших в Чеченской Республ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   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3.  Возможность принятия практического участия учащихся в                               проведении  мероприятий, посвященных воинам выполнявшим  интернациональный долг в Афганистане, и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боевых действий в рамках осуществления контртеррористических операций в Чеченской Республи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                                       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  <a:ea typeface="Arial"/>
              </a:rPr>
              <a:t>4.  </a:t>
            </a:r>
            <a:r>
              <a:rPr b="0" lang="ru-RU" sz="2000" spc="-1" strike="noStrike">
                <a:solidFill>
                  <a:srgbClr val="feb80a"/>
                </a:solidFill>
                <a:latin typeface="Arial"/>
              </a:rPr>
              <a:t>Создание фильма по результатам работы</a:t>
            </a:r>
            <a:r>
              <a:rPr b="0" lang="ru-RU" sz="2000" spc="-1" strike="noStrike">
                <a:solidFill>
                  <a:srgbClr val="feb80a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Рисунок 1" descr="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434" name="Прямоугольник 2"/>
          <p:cNvSpPr/>
          <p:nvPr/>
        </p:nvSpPr>
        <p:spPr>
          <a:xfrm>
            <a:off x="2152800" y="638280"/>
            <a:ext cx="681984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Franklin Gothic Book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Franklin Gothic Book"/>
                <a:ea typeface="Times New Roman"/>
              </a:rPr>
              <a:t>Основные целевые групп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Учащиеся  лице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Воины, проходившие службу в горячих точ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Родители погибших на Северном Кавка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Классные руковод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еография проекта – г. Увар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50000"/>
              </a:lnSpc>
              <a:buClr>
                <a:srgbClr val="fed46c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05:52:05Z</dcterms:created>
  <dc:creator>Михаил Горяйнов</dc:creator>
  <dc:description/>
  <dc:language>en-US</dc:language>
  <cp:lastModifiedBy>sekretar</cp:lastModifiedBy>
  <dcterms:modified xsi:type="dcterms:W3CDTF">2016-04-19T09:49:14Z</dcterms:modified>
  <cp:revision>161</cp:revision>
  <dc:subject/>
  <dc:title>Презентация PowerPoint</dc:title>
</cp:coreProperties>
</file>