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1AF0-D73A-4F29-98C6-F5A7DBF22D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3EEC-7C36-4F7B-9AC1-66C82BD3F5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4BF-94A9-4611-A319-BCA68DD7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AA12-EC4F-4C14-99B1-3DA38263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158C-B9F5-49D4-A942-D8CD2499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DDBB-1658-45A3-9A49-DFD73B5F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7CAF-738B-4A13-9249-64664AB2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8B29-64D6-431E-B4D3-E83D5FBF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A166-B7D6-43BF-9C78-2AC109C0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1B8A-2BFF-4D32-81EF-543B9405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CE94-7467-4B6F-9952-D4B7C6DC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BA10-CC35-43C2-A876-F302F3D6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D63A-BE42-4FB2-A8BE-E7F30FE9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7622-B808-4410-8AC9-E99B1C1F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2A8C-0074-4E99-914E-6C9DBFC2C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Arial"/>
              </a:rPr>
              <a:t>Звук и буква 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Танчик\Рабочий стол\окунь.jpg"/>
          <p:cNvPicPr/>
          <p:nvPr/>
        </p:nvPicPr>
        <p:blipFill>
          <a:blip r:embed="rId1"/>
          <a:stretch/>
        </p:blipFill>
        <p:spPr>
          <a:xfrm>
            <a:off x="542880" y="317520"/>
            <a:ext cx="3816360" cy="2206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Documents and Settings\Танчик\Рабочий стол\овцы.jpg"/>
          <p:cNvPicPr/>
          <p:nvPr/>
        </p:nvPicPr>
        <p:blipFill>
          <a:blip r:embed="rId2"/>
          <a:stretch/>
        </p:blipFill>
        <p:spPr>
          <a:xfrm>
            <a:off x="5437080" y="171360"/>
            <a:ext cx="2695680" cy="3144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Documents and Settings\Танчик\Рабочий стол\озеро.jpg"/>
          <p:cNvPicPr/>
          <p:nvPr/>
        </p:nvPicPr>
        <p:blipFill>
          <a:blip r:embed="rId3"/>
          <a:stretch/>
        </p:blipFill>
        <p:spPr>
          <a:xfrm>
            <a:off x="4784760" y="3773520"/>
            <a:ext cx="3859200" cy="2700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260360" y="249228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763640" y="249228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771640" y="2492280"/>
            <a:ext cx="4813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2268360" y="2492280"/>
            <a:ext cx="4813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3276720" y="249228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973080" y="623736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476360" y="623736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2484360" y="623736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1981080" y="623736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2989440" y="623736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6948360" y="3213000"/>
            <a:ext cx="4813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6445080" y="3213000"/>
            <a:ext cx="4813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5940360" y="321300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7453440" y="321300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5724360" y="6237360"/>
            <a:ext cx="4813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6227640" y="623736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7236000" y="623736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6732720" y="623736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7740720" y="623736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9" descr="C:\Documents and Settings\Танчик\Рабочий стол\овощи.jpg"/>
          <p:cNvPicPr/>
          <p:nvPr/>
        </p:nvPicPr>
        <p:blipFill>
          <a:blip r:embed="rId4"/>
          <a:stretch/>
        </p:blipFill>
        <p:spPr>
          <a:xfrm>
            <a:off x="324000" y="3554280"/>
            <a:ext cx="346212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1189080" y="321300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692360" y="321300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700360" y="321300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2197080" y="321300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3205080" y="321300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6804000" y="328464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6300720" y="328464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5796000" y="328464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7308720" y="3284640"/>
            <a:ext cx="4813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1476360" y="616572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1979640" y="616572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2484360" y="616572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6804000" y="616572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>
            <a:off x="6300720" y="616572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5796000" y="616572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7308720" y="6165720"/>
            <a:ext cx="4813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1"/>
          <p:cNvSpPr/>
          <p:nvPr/>
        </p:nvSpPr>
        <p:spPr>
          <a:xfrm>
            <a:off x="7812000" y="616572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C:\Documents and Settings\Танчик\Рабочий стол\обувьь.jpg"/>
          <p:cNvPicPr/>
          <p:nvPr/>
        </p:nvPicPr>
        <p:blipFill>
          <a:blip r:embed="rId1"/>
          <a:stretch/>
        </p:blipFill>
        <p:spPr>
          <a:xfrm>
            <a:off x="755640" y="317520"/>
            <a:ext cx="2749680" cy="2975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0" descr="C:\Documents and Settings\Танчик\Рабочий стол\окна.jpg"/>
          <p:cNvPicPr/>
          <p:nvPr/>
        </p:nvPicPr>
        <p:blipFill>
          <a:blip r:embed="rId2"/>
          <a:stretch/>
        </p:blipFill>
        <p:spPr>
          <a:xfrm>
            <a:off x="5078520" y="317520"/>
            <a:ext cx="3138480" cy="3120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1" descr="C:\Documents and Settings\Танчик\Рабочий стол\осы.jpg"/>
          <p:cNvPicPr/>
          <p:nvPr/>
        </p:nvPicPr>
        <p:blipFill>
          <a:blip r:embed="rId3"/>
          <a:stretch/>
        </p:blipFill>
        <p:spPr>
          <a:xfrm>
            <a:off x="828720" y="4059360"/>
            <a:ext cx="2865240" cy="2208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2" descr="C:\Documents and Settings\Танчик\Рабочий стол\ведро.jpg"/>
          <p:cNvPicPr/>
          <p:nvPr/>
        </p:nvPicPr>
        <p:blipFill>
          <a:blip r:embed="rId4"/>
          <a:stretch/>
        </p:blipFill>
        <p:spPr>
          <a:xfrm>
            <a:off x="5651640" y="3986280"/>
            <a:ext cx="22604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755640" y="285264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258920" y="285264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763640" y="285264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2268360" y="2852640"/>
            <a:ext cx="4813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6875640" y="537372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684360" y="623736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1692360" y="623736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2195640" y="623736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2700360" y="623736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6588000" y="299736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6948360" y="6165720"/>
            <a:ext cx="4813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3276720" y="285264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1187280" y="6237360"/>
            <a:ext cx="4813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5" descr="C:\Documents and Settings\Танчик\Рабочий стол\лодка.jpg"/>
          <p:cNvPicPr/>
          <p:nvPr/>
        </p:nvPicPr>
        <p:blipFill>
          <a:blip r:embed="rId1"/>
          <a:stretch/>
        </p:blipFill>
        <p:spPr>
          <a:xfrm>
            <a:off x="249120" y="3627360"/>
            <a:ext cx="3541680" cy="2712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C:\Documents and Settings\Танчик\Рабочий стол\совы.jpg"/>
          <p:cNvPicPr/>
          <p:nvPr/>
        </p:nvPicPr>
        <p:blipFill>
          <a:blip r:embed="rId2"/>
          <a:stretch/>
        </p:blipFill>
        <p:spPr>
          <a:xfrm>
            <a:off x="5651640" y="244440"/>
            <a:ext cx="2998800" cy="2962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C:\Documents and Settings\Танчик\Рабочий стол\пальто.jpeg"/>
          <p:cNvPicPr/>
          <p:nvPr/>
        </p:nvPicPr>
        <p:blipFill>
          <a:blip r:embed="rId3"/>
          <a:stretch/>
        </p:blipFill>
        <p:spPr>
          <a:xfrm>
            <a:off x="249120" y="171360"/>
            <a:ext cx="3348000" cy="2876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C:\Documents and Settings\Танчик\Рабочий стол\енот.jpeg"/>
          <p:cNvPicPr/>
          <p:nvPr/>
        </p:nvPicPr>
        <p:blipFill>
          <a:blip r:embed="rId4"/>
          <a:stretch/>
        </p:blipFill>
        <p:spPr>
          <a:xfrm>
            <a:off x="5383080" y="3627360"/>
            <a:ext cx="3773520" cy="27669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2771640" y="2852640"/>
            <a:ext cx="4813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7596360" y="299736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7093080" y="299736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6084720" y="2997360"/>
            <a:ext cx="4813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443640" y="616572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5940360" y="616572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7451640" y="616572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0" descr="C:\Documents and Settings\Танчик\Рабочий стол\дерево.gif"/>
          <p:cNvPicPr/>
          <p:nvPr/>
        </p:nvPicPr>
        <p:blipFill>
          <a:blip r:embed="rId1"/>
          <a:stretch/>
        </p:blipFill>
        <p:spPr>
          <a:xfrm>
            <a:off x="1116000" y="0"/>
            <a:ext cx="5724360" cy="6477120"/>
          </a:xfrm>
          <a:prstGeom prst="rect">
            <a:avLst/>
          </a:prstGeom>
          <a:ln w="0">
            <a:noFill/>
          </a:ln>
        </p:spPr>
      </p:pic>
      <p:sp>
        <p:nvSpPr>
          <p:cNvPr id="119" name="Oval 14"/>
          <p:cNvSpPr/>
          <p:nvPr/>
        </p:nvSpPr>
        <p:spPr>
          <a:xfrm>
            <a:off x="2340000" y="620640"/>
            <a:ext cx="863640" cy="719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0"/>
          <p:cNvSpPr/>
          <p:nvPr/>
        </p:nvSpPr>
        <p:spPr>
          <a:xfrm>
            <a:off x="3995640" y="2565360"/>
            <a:ext cx="863640" cy="719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3"/>
          <p:cNvSpPr/>
          <p:nvPr/>
        </p:nvSpPr>
        <p:spPr>
          <a:xfrm rot="18108600">
            <a:off x="2850120" y="1243440"/>
            <a:ext cx="420840" cy="250560"/>
          </a:xfrm>
          <a:custGeom>
            <a:avLst/>
            <a:gdLst>
              <a:gd name="textAreaLeft" fmla="*/ 0 w 420840"/>
              <a:gd name="textAreaRight" fmla="*/ 421200 w 42084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265" h="158">
                <a:moveTo>
                  <a:pt x="15" y="151"/>
                </a:moveTo>
                <a:cubicBezTo>
                  <a:pt x="0" y="144"/>
                  <a:pt x="113" y="30"/>
                  <a:pt x="151" y="15"/>
                </a:cubicBezTo>
                <a:cubicBezTo>
                  <a:pt x="189" y="0"/>
                  <a:pt x="265" y="37"/>
                  <a:pt x="242" y="60"/>
                </a:cubicBezTo>
                <a:cubicBezTo>
                  <a:pt x="219" y="83"/>
                  <a:pt x="30" y="158"/>
                  <a:pt x="15" y="15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5"/>
          <p:cNvSpPr/>
          <p:nvPr/>
        </p:nvSpPr>
        <p:spPr>
          <a:xfrm>
            <a:off x="4067280" y="1557360"/>
            <a:ext cx="863640" cy="719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4"/>
          <p:cNvSpPr/>
          <p:nvPr/>
        </p:nvSpPr>
        <p:spPr>
          <a:xfrm>
            <a:off x="2771640" y="1557360"/>
            <a:ext cx="863640" cy="719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2"/>
          <p:cNvSpPr/>
          <p:nvPr/>
        </p:nvSpPr>
        <p:spPr>
          <a:xfrm>
            <a:off x="4716360" y="692280"/>
            <a:ext cx="863640" cy="71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1"/>
          <p:cNvSpPr/>
          <p:nvPr/>
        </p:nvSpPr>
        <p:spPr>
          <a:xfrm>
            <a:off x="2556000" y="2492280"/>
            <a:ext cx="863640" cy="719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7"/>
          <p:cNvSpPr/>
          <p:nvPr/>
        </p:nvSpPr>
        <p:spPr>
          <a:xfrm>
            <a:off x="1042920" y="2421000"/>
            <a:ext cx="863640" cy="71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1476360" y="1484280"/>
            <a:ext cx="863640" cy="719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2"/>
          <p:cNvSpPr/>
          <p:nvPr/>
        </p:nvSpPr>
        <p:spPr>
          <a:xfrm>
            <a:off x="3564000" y="692280"/>
            <a:ext cx="863640" cy="718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8"/>
          <p:cNvSpPr/>
          <p:nvPr/>
        </p:nvSpPr>
        <p:spPr>
          <a:xfrm>
            <a:off x="5435640" y="1557360"/>
            <a:ext cx="863640" cy="719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6"/>
          <p:cNvSpPr/>
          <p:nvPr/>
        </p:nvSpPr>
        <p:spPr>
          <a:xfrm>
            <a:off x="5724360" y="2637000"/>
            <a:ext cx="863640" cy="71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3"/>
          <p:cNvSpPr/>
          <p:nvPr/>
        </p:nvSpPr>
        <p:spPr>
          <a:xfrm rot="18108600">
            <a:off x="5731200" y="2324520"/>
            <a:ext cx="420840" cy="250920"/>
          </a:xfrm>
          <a:custGeom>
            <a:avLst/>
            <a:gdLst>
              <a:gd name="textAreaLeft" fmla="*/ 0 w 420840"/>
              <a:gd name="textAreaRight" fmla="*/ 421200 w 420840"/>
              <a:gd name="textAreaTop" fmla="*/ 0 h 250920"/>
              <a:gd name="textAreaBottom" fmla="*/ 250920 h 250920"/>
            </a:gdLst>
            <a:ahLst/>
            <a:rect l="textAreaLeft" t="textAreaTop" r="textAreaRight" b="textAreaBottom"/>
            <a:pathLst>
              <a:path w="265" h="158">
                <a:moveTo>
                  <a:pt x="15" y="151"/>
                </a:moveTo>
                <a:cubicBezTo>
                  <a:pt x="0" y="144"/>
                  <a:pt x="113" y="30"/>
                  <a:pt x="151" y="15"/>
                </a:cubicBezTo>
                <a:cubicBezTo>
                  <a:pt x="189" y="0"/>
                  <a:pt x="265" y="37"/>
                  <a:pt x="242" y="60"/>
                </a:cubicBezTo>
                <a:cubicBezTo>
                  <a:pt x="219" y="83"/>
                  <a:pt x="30" y="158"/>
                  <a:pt x="15" y="15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AutoShape 26"/>
          <p:cNvGrpSpPr/>
          <p:nvPr/>
        </p:nvGrpSpPr>
        <p:grpSpPr>
          <a:xfrm>
            <a:off x="4286160" y="6218280"/>
            <a:ext cx="2675160" cy="957240"/>
            <a:chOff x="4286160" y="6218280"/>
            <a:chExt cx="2675160" cy="957240"/>
          </a:xfrm>
        </p:grpSpPr>
        <p:pic>
          <p:nvPicPr>
            <p:cNvPr id="133" name="AutoShape 26" descr=""/>
            <p:cNvPicPr/>
            <p:nvPr/>
          </p:nvPicPr>
          <p:blipFill>
            <a:blip r:embed="rId2"/>
            <a:stretch/>
          </p:blipFill>
          <p:spPr>
            <a:xfrm>
              <a:off x="4286160" y="6218280"/>
              <a:ext cx="26751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124600" y="6365880"/>
              <a:ext cx="13446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33" descr="C:\Documents and Settings\Танчик\Рабочий стол\дев.png"/>
          <p:cNvPicPr/>
          <p:nvPr/>
        </p:nvPicPr>
        <p:blipFill>
          <a:blip r:embed="rId3"/>
          <a:stretch/>
        </p:blipFill>
        <p:spPr>
          <a:xfrm rot="21106800">
            <a:off x="723960" y="4803840"/>
            <a:ext cx="1805040" cy="1827000"/>
          </a:xfrm>
          <a:prstGeom prst="rect">
            <a:avLst/>
          </a:prstGeom>
          <a:ln w="0">
            <a:noFill/>
          </a:ln>
        </p:spPr>
      </p:pic>
      <p:sp>
        <p:nvSpPr>
          <p:cNvPr id="136" name="Овал 24"/>
          <p:cNvSpPr/>
          <p:nvPr/>
        </p:nvSpPr>
        <p:spPr>
          <a:xfrm>
            <a:off x="611280" y="6453360"/>
            <a:ext cx="2665440" cy="144360"/>
          </a:xfrm>
          <a:prstGeom prst="ellipse">
            <a:avLst/>
          </a:prstGeom>
          <a:solidFill>
            <a:srgbClr val="43934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олнце 27"/>
          <p:cNvSpPr/>
          <p:nvPr/>
        </p:nvSpPr>
        <p:spPr>
          <a:xfrm>
            <a:off x="7380360" y="189000"/>
            <a:ext cx="151272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03704E-006 L 0.35434 0.82547 E">
                                      <p:cBhvr>
                                        <p:cTn id="16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00023 L 0.22847 0.78773 E">
                                      <p:cBhvr>
                                        <p:cTn id="17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11111E-006 L 0.02362 0.74537 E">
                                      <p:cBhvr>
                                        <p:cTn id="174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L 0.48038 0.6301 E">
                                      <p:cBhvr>
                                        <p:cTn id="178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3.7037E-007 L 0.2677 0.60903 E">
                                      <p:cBhvr>
                                        <p:cTn id="18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85185E-006 L 0.11806 0.67199 E">
                                      <p:cBhvr>
                                        <p:cTn id="18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4.81481E-006 L 0.01579 0.65093 E">
                                      <p:cBhvr>
                                        <p:cTn id="190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0.504 0.525 E">
                                      <p:cBhvr>
                                        <p:cTn id="194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1.85185E-006 L 0.29131 0.525 E">
                                      <p:cBhvr>
                                        <p:cTn id="198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L 0.14965 0.50394 E">
                                      <p:cBhvr>
                                        <p:cTn id="202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6.2963E-006 L -0.01562 0.49328 E">
                                      <p:cBhvr>
                                        <p:cTn id="20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00:57:37Z</dcterms:created>
  <dc:creator>Начальная школа-детский сад</dc:creator>
  <dc:description/>
  <dc:language>en-US</dc:language>
  <cp:lastModifiedBy>1</cp:lastModifiedBy>
  <dcterms:modified xsi:type="dcterms:W3CDTF">2016-04-19T09:54:22Z</dcterms:modified>
  <cp:revision>20</cp:revision>
  <dc:subject/>
  <dc:title>Слайд 1</dc:title>
</cp:coreProperties>
</file>