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143-E9DA-42BD-96C2-8A181AA9CE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8B0C-747C-40FF-BAD1-E54CFB31D5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B10-C485-478D-90C5-19BBD03CA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912-0D1F-4F9E-A1C9-731E826C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3D4-CAA7-4F01-AC05-C75FD33B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1266-9718-4E8B-94B5-6914D6C0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49F-F135-4539-8F27-C6FE47FF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1AB-6575-453A-8A19-A7055731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69E9-A1F2-480E-B09C-5003605D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56E3-329D-4CCD-B6B7-782509D1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7896-DE1C-47BE-B133-1CF8C60D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9CC-7F99-4CDC-8109-EEF22E45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9101-874F-4A5D-BA48-67E6D7BD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C6A9-ABFF-46C8-81F7-00ADA81F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E1E7-4AA3-4016-A13F-A1E7B3B8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Arial"/>
              </a:rPr>
              <a:t>Звук и буква 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Танчик\Рабочий стол\окунь.jpg"/>
          <p:cNvPicPr/>
          <p:nvPr/>
        </p:nvPicPr>
        <p:blipFill>
          <a:blip r:embed="rId1"/>
          <a:stretch/>
        </p:blipFill>
        <p:spPr>
          <a:xfrm>
            <a:off x="542880" y="317520"/>
            <a:ext cx="3816360" cy="2206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Танчик\Рабочий стол\овцы.jpg"/>
          <p:cNvPicPr/>
          <p:nvPr/>
        </p:nvPicPr>
        <p:blipFill>
          <a:blip r:embed="rId2"/>
          <a:stretch/>
        </p:blipFill>
        <p:spPr>
          <a:xfrm>
            <a:off x="5437080" y="171360"/>
            <a:ext cx="2695680" cy="31449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Танчик\Рабочий стол\озеро.jpg"/>
          <p:cNvPicPr/>
          <p:nvPr/>
        </p:nvPicPr>
        <p:blipFill>
          <a:blip r:embed="rId3"/>
          <a:stretch/>
        </p:blipFill>
        <p:spPr>
          <a:xfrm>
            <a:off x="4784760" y="3773520"/>
            <a:ext cx="3859200" cy="2700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26036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76364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771640" y="249228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2268360" y="249228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3276720" y="249228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7308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1476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2484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98108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29894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6948360" y="321300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6445080" y="321300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940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745344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724360" y="623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62276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3600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673272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774072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C:\Documents and Settings\Танчик\Рабочий стол\овощи.jpg"/>
          <p:cNvPicPr/>
          <p:nvPr/>
        </p:nvPicPr>
        <p:blipFill>
          <a:blip r:embed="rId4"/>
          <a:stretch/>
        </p:blipFill>
        <p:spPr>
          <a:xfrm>
            <a:off x="324000" y="3554280"/>
            <a:ext cx="34621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1189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692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70036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197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3205080" y="321300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80400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630072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"/>
          <p:cNvSpPr/>
          <p:nvPr/>
        </p:nvSpPr>
        <p:spPr>
          <a:xfrm>
            <a:off x="5796000" y="328464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7308720" y="328464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4"/>
          <p:cNvSpPr/>
          <p:nvPr/>
        </p:nvSpPr>
        <p:spPr>
          <a:xfrm>
            <a:off x="1476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5"/>
          <p:cNvSpPr/>
          <p:nvPr/>
        </p:nvSpPr>
        <p:spPr>
          <a:xfrm>
            <a:off x="1979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"/>
          <p:cNvSpPr/>
          <p:nvPr/>
        </p:nvSpPr>
        <p:spPr>
          <a:xfrm>
            <a:off x="2484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6804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30072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5796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0"/>
          <p:cNvSpPr/>
          <p:nvPr/>
        </p:nvSpPr>
        <p:spPr>
          <a:xfrm>
            <a:off x="7308720" y="616572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1"/>
          <p:cNvSpPr/>
          <p:nvPr/>
        </p:nvSpPr>
        <p:spPr>
          <a:xfrm>
            <a:off x="781200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C:\Documents and Settings\Танчик\Рабочий стол\обувьь.jpg"/>
          <p:cNvPicPr/>
          <p:nvPr/>
        </p:nvPicPr>
        <p:blipFill>
          <a:blip r:embed="rId1"/>
          <a:stretch/>
        </p:blipFill>
        <p:spPr>
          <a:xfrm>
            <a:off x="755640" y="317520"/>
            <a:ext cx="2749680" cy="2975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C:\Documents and Settings\Танчик\Рабочий стол\окна.jpg"/>
          <p:cNvPicPr/>
          <p:nvPr/>
        </p:nvPicPr>
        <p:blipFill>
          <a:blip r:embed="rId2"/>
          <a:stretch/>
        </p:blipFill>
        <p:spPr>
          <a:xfrm>
            <a:off x="5078520" y="317520"/>
            <a:ext cx="3138480" cy="31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C:\Documents and Settings\Танчик\Рабочий стол\осы.jpg"/>
          <p:cNvPicPr/>
          <p:nvPr/>
        </p:nvPicPr>
        <p:blipFill>
          <a:blip r:embed="rId3"/>
          <a:stretch/>
        </p:blipFill>
        <p:spPr>
          <a:xfrm>
            <a:off x="828720" y="4059360"/>
            <a:ext cx="2865240" cy="220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C:\Documents and Settings\Танчик\Рабочий стол\ведро.jpg"/>
          <p:cNvPicPr/>
          <p:nvPr/>
        </p:nvPicPr>
        <p:blipFill>
          <a:blip r:embed="rId4"/>
          <a:stretch/>
        </p:blipFill>
        <p:spPr>
          <a:xfrm>
            <a:off x="5651640" y="3986280"/>
            <a:ext cx="226044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75564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25892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76364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268360" y="285264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6875640" y="5373720"/>
            <a:ext cx="4824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84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1692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19564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2700360" y="623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58800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948360" y="616572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3276720" y="285264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1187280" y="623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5" descr="C:\Documents and Settings\Танчик\Рабочий стол\лодка.jpg"/>
          <p:cNvPicPr/>
          <p:nvPr/>
        </p:nvPicPr>
        <p:blipFill>
          <a:blip r:embed="rId1"/>
          <a:stretch/>
        </p:blipFill>
        <p:spPr>
          <a:xfrm>
            <a:off x="249120" y="3627360"/>
            <a:ext cx="3541680" cy="2712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C:\Documents and Settings\Танчик\Рабочий стол\совы.jpg"/>
          <p:cNvPicPr/>
          <p:nvPr/>
        </p:nvPicPr>
        <p:blipFill>
          <a:blip r:embed="rId2"/>
          <a:stretch/>
        </p:blipFill>
        <p:spPr>
          <a:xfrm>
            <a:off x="5651640" y="244440"/>
            <a:ext cx="2998800" cy="2962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C:\Documents and Settings\Танчик\Рабочий стол\пальто.jpeg"/>
          <p:cNvPicPr/>
          <p:nvPr/>
        </p:nvPicPr>
        <p:blipFill>
          <a:blip r:embed="rId3"/>
          <a:stretch/>
        </p:blipFill>
        <p:spPr>
          <a:xfrm>
            <a:off x="249120" y="171360"/>
            <a:ext cx="3348000" cy="2876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C:\Documents and Settings\Танчик\Рабочий стол\енот.jpeg"/>
          <p:cNvPicPr/>
          <p:nvPr/>
        </p:nvPicPr>
        <p:blipFill>
          <a:blip r:embed="rId4"/>
          <a:stretch/>
        </p:blipFill>
        <p:spPr>
          <a:xfrm>
            <a:off x="5383080" y="3627360"/>
            <a:ext cx="3773520" cy="2766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2771640" y="2852640"/>
            <a:ext cx="481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759636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7093080" y="2997360"/>
            <a:ext cx="480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3"/>
          <p:cNvSpPr/>
          <p:nvPr/>
        </p:nvSpPr>
        <p:spPr>
          <a:xfrm>
            <a:off x="6084720" y="2997360"/>
            <a:ext cx="481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43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94036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7451640" y="6165720"/>
            <a:ext cx="480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0" descr="C:\Documents and Settings\Танчик\Рабочий стол\дерево.gif"/>
          <p:cNvPicPr/>
          <p:nvPr/>
        </p:nvPicPr>
        <p:blipFill>
          <a:blip r:embed="rId1"/>
          <a:stretch/>
        </p:blipFill>
        <p:spPr>
          <a:xfrm>
            <a:off x="1116000" y="0"/>
            <a:ext cx="5724360" cy="6477120"/>
          </a:xfrm>
          <a:prstGeom prst="rect">
            <a:avLst/>
          </a:prstGeom>
          <a:ln w="0">
            <a:noFill/>
          </a:ln>
        </p:spPr>
      </p:pic>
      <p:sp>
        <p:nvSpPr>
          <p:cNvPr id="119" name="Oval 14"/>
          <p:cNvSpPr/>
          <p:nvPr/>
        </p:nvSpPr>
        <p:spPr>
          <a:xfrm>
            <a:off x="2340000" y="62064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0"/>
          <p:cNvSpPr/>
          <p:nvPr/>
        </p:nvSpPr>
        <p:spPr>
          <a:xfrm>
            <a:off x="3995640" y="2565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23"/>
          <p:cNvSpPr/>
          <p:nvPr/>
        </p:nvSpPr>
        <p:spPr>
          <a:xfrm rot="18108600">
            <a:off x="2850120" y="1243440"/>
            <a:ext cx="420840" cy="250560"/>
          </a:xfrm>
          <a:custGeom>
            <a:avLst/>
            <a:gdLst>
              <a:gd name="textAreaLeft" fmla="*/ 0 w 420840"/>
              <a:gd name="textAreaRight" fmla="*/ 421200 w 4208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265" h="158">
                <a:moveTo>
                  <a:pt x="15" y="151"/>
                </a:moveTo>
                <a:cubicBezTo>
                  <a:pt x="0" y="144"/>
                  <a:pt x="113" y="30"/>
                  <a:pt x="151" y="15"/>
                </a:cubicBezTo>
                <a:cubicBezTo>
                  <a:pt x="189" y="0"/>
                  <a:pt x="265" y="37"/>
                  <a:pt x="242" y="60"/>
                </a:cubicBezTo>
                <a:cubicBezTo>
                  <a:pt x="219" y="83"/>
                  <a:pt x="30" y="158"/>
                  <a:pt x="15" y="15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5"/>
          <p:cNvSpPr/>
          <p:nvPr/>
        </p:nvSpPr>
        <p:spPr>
          <a:xfrm>
            <a:off x="406728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277164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2"/>
          <p:cNvSpPr/>
          <p:nvPr/>
        </p:nvSpPr>
        <p:spPr>
          <a:xfrm>
            <a:off x="4716360" y="69228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1"/>
          <p:cNvSpPr/>
          <p:nvPr/>
        </p:nvSpPr>
        <p:spPr>
          <a:xfrm>
            <a:off x="2556000" y="2492280"/>
            <a:ext cx="863640" cy="719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7"/>
          <p:cNvSpPr/>
          <p:nvPr/>
        </p:nvSpPr>
        <p:spPr>
          <a:xfrm>
            <a:off x="1042920" y="242100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1476360" y="148428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2"/>
          <p:cNvSpPr/>
          <p:nvPr/>
        </p:nvSpPr>
        <p:spPr>
          <a:xfrm>
            <a:off x="3564000" y="692280"/>
            <a:ext cx="863640" cy="7189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8"/>
          <p:cNvSpPr/>
          <p:nvPr/>
        </p:nvSpPr>
        <p:spPr>
          <a:xfrm>
            <a:off x="5435640" y="1557360"/>
            <a:ext cx="863640" cy="719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5724360" y="2637000"/>
            <a:ext cx="863640" cy="718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3"/>
          <p:cNvSpPr/>
          <p:nvPr/>
        </p:nvSpPr>
        <p:spPr>
          <a:xfrm rot="18108600">
            <a:off x="5731200" y="2324520"/>
            <a:ext cx="420840" cy="250920"/>
          </a:xfrm>
          <a:custGeom>
            <a:avLst/>
            <a:gdLst>
              <a:gd name="textAreaLeft" fmla="*/ 0 w 420840"/>
              <a:gd name="textAreaRight" fmla="*/ 421200 w 420840"/>
              <a:gd name="textAreaTop" fmla="*/ 0 h 250920"/>
              <a:gd name="textAreaBottom" fmla="*/ 250920 h 250920"/>
            </a:gdLst>
            <a:ahLst/>
            <a:rect l="textAreaLeft" t="textAreaTop" r="textAreaRight" b="textAreaBottom"/>
            <a:pathLst>
              <a:path w="265" h="158">
                <a:moveTo>
                  <a:pt x="15" y="151"/>
                </a:moveTo>
                <a:cubicBezTo>
                  <a:pt x="0" y="144"/>
                  <a:pt x="113" y="30"/>
                  <a:pt x="151" y="15"/>
                </a:cubicBezTo>
                <a:cubicBezTo>
                  <a:pt x="189" y="0"/>
                  <a:pt x="265" y="37"/>
                  <a:pt x="242" y="60"/>
                </a:cubicBezTo>
                <a:cubicBezTo>
                  <a:pt x="219" y="83"/>
                  <a:pt x="30" y="158"/>
                  <a:pt x="15" y="151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AutoShape 26"/>
          <p:cNvGrpSpPr/>
          <p:nvPr/>
        </p:nvGrpSpPr>
        <p:grpSpPr>
          <a:xfrm>
            <a:off x="4286160" y="6218280"/>
            <a:ext cx="2675160" cy="957240"/>
            <a:chOff x="4286160" y="6218280"/>
            <a:chExt cx="2675160" cy="957240"/>
          </a:xfrm>
        </p:grpSpPr>
        <p:pic>
          <p:nvPicPr>
            <p:cNvPr id="133" name="AutoShape 26" descr=""/>
            <p:cNvPicPr/>
            <p:nvPr/>
          </p:nvPicPr>
          <p:blipFill>
            <a:blip r:embed="rId2"/>
            <a:stretch/>
          </p:blipFill>
          <p:spPr>
            <a:xfrm>
              <a:off x="4286160" y="6218280"/>
              <a:ext cx="267516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124600" y="6365880"/>
              <a:ext cx="13446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33" descr="C:\Documents and Settings\Танчик\Рабочий стол\дев.png"/>
          <p:cNvPicPr/>
          <p:nvPr/>
        </p:nvPicPr>
        <p:blipFill>
          <a:blip r:embed="rId3"/>
          <a:stretch/>
        </p:blipFill>
        <p:spPr>
          <a:xfrm rot="21106800">
            <a:off x="723960" y="4803840"/>
            <a:ext cx="1805040" cy="1827000"/>
          </a:xfrm>
          <a:prstGeom prst="rect">
            <a:avLst/>
          </a:prstGeom>
          <a:ln w="0">
            <a:noFill/>
          </a:ln>
        </p:spPr>
      </p:pic>
      <p:sp>
        <p:nvSpPr>
          <p:cNvPr id="136" name="Овал 24"/>
          <p:cNvSpPr/>
          <p:nvPr/>
        </p:nvSpPr>
        <p:spPr>
          <a:xfrm>
            <a:off x="611280" y="6453360"/>
            <a:ext cx="2665440" cy="144360"/>
          </a:xfrm>
          <a:prstGeom prst="ellipse">
            <a:avLst/>
          </a:prstGeom>
          <a:solidFill>
            <a:srgbClr val="43934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лнце 27"/>
          <p:cNvSpPr/>
          <p:nvPr/>
        </p:nvSpPr>
        <p:spPr>
          <a:xfrm>
            <a:off x="7380360" y="189000"/>
            <a:ext cx="151272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03704E-006 L 0.35434 0.82547 E">
                                      <p:cBhvr>
                                        <p:cTn id="16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0023 L 0.22847 0.78773 E">
                                      <p:cBhvr>
                                        <p:cTn id="17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1.11111E-006 L 0.02362 0.74537 E">
                                      <p:cBhvr>
                                        <p:cTn id="17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L 0.48038 0.6301 E">
                                      <p:cBhvr>
                                        <p:cTn id="17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3.7037E-007 L 0.2677 0.60903 E">
                                      <p:cBhvr>
                                        <p:cTn id="18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85185E-006 L 0.11806 0.67199 E">
                                      <p:cBhvr>
                                        <p:cTn id="18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-4.81481E-006 L 0.01579 0.65093 E">
                                      <p:cBhvr>
                                        <p:cTn id="19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504 0.525 E">
                                      <p:cBhvr>
                                        <p:cTn id="194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22222E-006 1.85185E-006 L 0.29131 0.525 E">
                                      <p:cBhvr>
                                        <p:cTn id="198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14965 0.50394 E">
                                      <p:cBhvr>
                                        <p:cTn id="20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6.2963E-006 L -0.01562 0.49328 E">
                                      <p:cBhvr>
                                        <p:cTn id="206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00:57:37Z</dcterms:created>
  <dc:creator>Начальная школа-детский сад</dc:creator>
  <dc:description/>
  <dc:language>en-US</dc:language>
  <cp:lastModifiedBy>1</cp:lastModifiedBy>
  <dcterms:modified xsi:type="dcterms:W3CDTF">2016-04-19T09:54:22Z</dcterms:modified>
  <cp:revision>20</cp:revision>
  <dc:subject/>
  <dc:title>Слайд 1</dc:title>
</cp:coreProperties>
</file>