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6D0-6DAA-41FF-A46A-11364940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3DD-F4F8-4FC1-BCD3-8811E061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55C-797C-416A-81DD-73E90E28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2D2-45D4-4F5B-801F-D4D85F0D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8F1-2E60-4539-88A3-C05CDF4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0AE-078E-47AE-A5E8-6BC66B2D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6B8-56A5-4479-8EB0-1247645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CC9-E75E-40B5-854D-A1C97B2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EB1-1E9D-4D37-8BEC-23DA5B9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F0C-88CA-4E38-A944-B9878782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15A-93E4-476A-A5DD-0F302A1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407-6D36-4063-9E3A-5E19529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eaeaea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3EE-55A4-4926-AF4E-952480E1A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1484280"/>
          <a:ext cx="8713800" cy="2930400"/>
        </p:xfrm>
        <a:graphic>
          <a:graphicData uri="http://schemas.openxmlformats.org/drawingml/2006/table">
            <a:tbl>
              <a:tblPr/>
              <a:tblGrid>
                <a:gridCol w="725400"/>
                <a:gridCol w="728640"/>
                <a:gridCol w="725400"/>
                <a:gridCol w="723960"/>
                <a:gridCol w="728640"/>
                <a:gridCol w="798480"/>
                <a:gridCol w="650880"/>
                <a:gridCol w="728640"/>
                <a:gridCol w="671760"/>
                <a:gridCol w="777600"/>
                <a:gridCol w="728640"/>
                <a:gridCol w="725760"/>
              </a:tblGrid>
              <a:tr h="9450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миллиар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милли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900000" y="333360"/>
            <a:ext cx="2737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 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4071960" y="504720"/>
            <a:ext cx="4214520" cy="2492280"/>
            <a:chOff x="4071960" y="504720"/>
            <a:chExt cx="4214520" cy="2492280"/>
          </a:xfrm>
        </p:grpSpPr>
        <p:sp>
          <p:nvSpPr>
            <p:cNvPr id="45" name="Rectangle 10"/>
            <p:cNvSpPr/>
            <p:nvPr/>
          </p:nvSpPr>
          <p:spPr>
            <a:xfrm>
              <a:off x="4089240" y="504720"/>
              <a:ext cx="4197240" cy="2492280"/>
            </a:xfrm>
            <a:prstGeom prst="roundRect">
              <a:avLst>
                <a:gd name="adj" fmla="val 16667"/>
              </a:avLst>
            </a:prstGeom>
            <a:solidFill>
              <a:srgbClr val="e7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7"/>
            <p:cNvGrpSpPr/>
            <p:nvPr/>
          </p:nvGrpSpPr>
          <p:grpSpPr>
            <a:xfrm>
              <a:off x="4071960" y="654120"/>
              <a:ext cx="4185720" cy="2192760"/>
              <a:chOff x="4071960" y="654120"/>
              <a:chExt cx="4185720" cy="2192760"/>
            </a:xfrm>
          </p:grpSpPr>
          <p:sp>
            <p:nvSpPr>
              <p:cNvPr id="47" name="Text Box 8"/>
              <p:cNvSpPr/>
              <p:nvPr/>
            </p:nvSpPr>
            <p:spPr>
              <a:xfrm>
                <a:off x="5142960" y="654120"/>
                <a:ext cx="2261880" cy="599400"/>
              </a:xfrm>
              <a:prstGeom prst="roundRect">
                <a:avLst>
                  <a:gd name="adj" fmla="val 6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∙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>
                <a:off x="4071960" y="1285200"/>
                <a:ext cx="4185720" cy="15616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При умножении на 10     можно к числу справа приписать 1 нул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4140360" y="3500280"/>
            <a:ext cx="4360680" cy="2357640"/>
            <a:chOff x="4140360" y="3500280"/>
            <a:chExt cx="4360680" cy="2357640"/>
          </a:xfrm>
        </p:grpSpPr>
        <p:sp>
          <p:nvSpPr>
            <p:cNvPr id="50" name="Rectangle 15"/>
            <p:cNvSpPr/>
            <p:nvPr/>
          </p:nvSpPr>
          <p:spPr>
            <a:xfrm>
              <a:off x="4140360" y="3500280"/>
              <a:ext cx="4360680" cy="2357640"/>
            </a:xfrm>
            <a:prstGeom prst="roundRect">
              <a:avLst>
                <a:gd name="adj" fmla="val 16667"/>
              </a:avLst>
            </a:prstGeom>
            <a:solidFill>
              <a:srgbClr val="ff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2"/>
            <p:cNvGrpSpPr/>
            <p:nvPr/>
          </p:nvGrpSpPr>
          <p:grpSpPr>
            <a:xfrm>
              <a:off x="4143240" y="3641400"/>
              <a:ext cx="4285800" cy="2073960"/>
              <a:chOff x="4143240" y="3641400"/>
              <a:chExt cx="4285800" cy="2073960"/>
            </a:xfrm>
          </p:grpSpPr>
          <p:sp>
            <p:nvSpPr>
              <p:cNvPr id="52" name="Text Box 13"/>
              <p:cNvSpPr/>
              <p:nvPr/>
            </p:nvSpPr>
            <p:spPr>
              <a:xfrm>
                <a:off x="4944600" y="3641400"/>
                <a:ext cx="2944080" cy="567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∙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4"/>
              <p:cNvSpPr/>
              <p:nvPr/>
            </p:nvSpPr>
            <p:spPr>
              <a:xfrm>
                <a:off x="4143240" y="4298040"/>
                <a:ext cx="4285800" cy="14173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При умножении на 100 можно к числу справа приписать 2 нул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Text Box 16"/>
          <p:cNvSpPr/>
          <p:nvPr/>
        </p:nvSpPr>
        <p:spPr>
          <a:xfrm>
            <a:off x="566640" y="3322800"/>
            <a:ext cx="30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-900000" y="260280"/>
            <a:ext cx="108360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Tahoma"/>
              </a:rPr>
              <a:t>Тема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«Умножение на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      </a:t>
            </a: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1 000, 10 000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Tahoma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научиться умнож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числа на 1000, 1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95280" y="476280"/>
            <a:ext cx="8439120" cy="5808600"/>
          </a:xfrm>
          <a:prstGeom prst="foldedCorner">
            <a:avLst>
              <a:gd name="adj" fmla="val 29143"/>
            </a:avLst>
          </a:prstGeom>
          <a:solidFill>
            <a:srgbClr val="ffffcc"/>
          </a:solidFill>
          <a:ln w="28440">
            <a:solidFill>
              <a:srgbClr val="7b52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54000" tIns="756000" bIns="0" anchor="ctr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ри умножении числа на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10, 100, 1000, 10000 мо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риписать к этому числ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справа 1 нуль, 2 нул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3 нуля и 4 ну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 rot="21404400">
            <a:off x="263160" y="374400"/>
            <a:ext cx="8585280" cy="6227640"/>
          </a:xfrm>
          <a:prstGeom prst="horizontalScroll">
            <a:avLst>
              <a:gd name="adj" fmla="val 10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b5229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 первую ночь Звездочет насчитал на небосводе 450 звезд, во вторую – в 10 раз больше, чем в первую, а в третью – на 1635 звезд больше, чем в первую и вторую ночь вместе. Сколько звезд ему пришлось пересчитать за 3 но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1640" y="115920"/>
            <a:ext cx="19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дач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53440" y="136440"/>
            <a:ext cx="40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ен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155736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1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450·10 = 4500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считал звездочёт во вторую ноч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4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2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(450+4500)+1635=6585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 третью ноч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3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450+4500+6585=11535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считал звездочёт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 все три но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5840" y="14400"/>
            <a:ext cx="9128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6:02:02Z</dcterms:created>
  <dc:creator>Шушковская; Харитонова Л.Ю.</dc:creator>
  <dc:description/>
  <dc:language>en-US</dc:language>
  <cp:lastModifiedBy>Анастасия</cp:lastModifiedBy>
  <dcterms:modified xsi:type="dcterms:W3CDTF">2015-10-22T18:58:32Z</dcterms:modified>
  <cp:revision>15</cp:revision>
  <dc:subject/>
  <dc:title>Слайд 1</dc:title>
</cp:coreProperties>
</file>