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6090-39B4-461E-A495-40EF19AD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8583-0803-43DA-AE92-8C3E4F3B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22B0-CD09-476D-985B-AD0421B4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12EB-6EAA-4088-A679-7BE9A39FA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7104-258E-4F5C-8E03-B2F8F79C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84CF-5B04-49AA-9511-72F2FE20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CA8-D0B1-4A65-A674-49A2C9F3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522-3DC8-46F1-A3EF-F073A72F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7812-8730-4373-9D64-1892CE71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2D3-97D7-4A36-9654-39A33BE5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28D2-2E57-441D-8B49-E7709D57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BF15-8D01-497A-BD63-629A565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eaeaea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CD23-930E-446A-8B43-20360E4074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50920" y="1484280"/>
          <a:ext cx="8713800" cy="2930400"/>
        </p:xfrm>
        <a:graphic>
          <a:graphicData uri="http://schemas.openxmlformats.org/drawingml/2006/table">
            <a:tbl>
              <a:tblPr/>
              <a:tblGrid>
                <a:gridCol w="725400"/>
                <a:gridCol w="728640"/>
                <a:gridCol w="725400"/>
                <a:gridCol w="723960"/>
                <a:gridCol w="728640"/>
                <a:gridCol w="798480"/>
                <a:gridCol w="650880"/>
                <a:gridCol w="728640"/>
                <a:gridCol w="671760"/>
                <a:gridCol w="777600"/>
                <a:gridCol w="728640"/>
                <a:gridCol w="725760"/>
              </a:tblGrid>
              <a:tr h="945000"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миллиард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миллион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я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т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1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r" pos="449280"/>
                          <a:tab algn="ctr" pos="2970360"/>
                          <a:tab algn="r" pos="5940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900000" y="333360"/>
            <a:ext cx="27370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 ·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7 ·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77 ·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777 ·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77 777 ·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6"/>
          <p:cNvGrpSpPr/>
          <p:nvPr/>
        </p:nvGrpSpPr>
        <p:grpSpPr>
          <a:xfrm>
            <a:off x="4071960" y="504720"/>
            <a:ext cx="4214520" cy="2492280"/>
            <a:chOff x="4071960" y="504720"/>
            <a:chExt cx="4214520" cy="2492280"/>
          </a:xfrm>
        </p:grpSpPr>
        <p:sp>
          <p:nvSpPr>
            <p:cNvPr id="45" name="Rectangle 10"/>
            <p:cNvSpPr/>
            <p:nvPr/>
          </p:nvSpPr>
          <p:spPr>
            <a:xfrm>
              <a:off x="4089240" y="504720"/>
              <a:ext cx="4197240" cy="2492280"/>
            </a:xfrm>
            <a:prstGeom prst="roundRect">
              <a:avLst>
                <a:gd name="adj" fmla="val 16667"/>
              </a:avLst>
            </a:prstGeom>
            <a:solidFill>
              <a:srgbClr val="e7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" name="Group 7"/>
            <p:cNvGrpSpPr/>
            <p:nvPr/>
          </p:nvGrpSpPr>
          <p:grpSpPr>
            <a:xfrm>
              <a:off x="4071960" y="654120"/>
              <a:ext cx="4185720" cy="2192760"/>
              <a:chOff x="4071960" y="654120"/>
              <a:chExt cx="4185720" cy="2192760"/>
            </a:xfrm>
          </p:grpSpPr>
          <p:sp>
            <p:nvSpPr>
              <p:cNvPr id="47" name="Text Box 8"/>
              <p:cNvSpPr/>
              <p:nvPr/>
            </p:nvSpPr>
            <p:spPr>
              <a:xfrm>
                <a:off x="5142960" y="654120"/>
                <a:ext cx="2261880" cy="599400"/>
              </a:xfrm>
              <a:prstGeom prst="roundRect">
                <a:avLst>
                  <a:gd name="adj" fmla="val 60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000000"/>
                    </a:solidFill>
                    <a:latin typeface="Times New Roman"/>
                  </a:rPr>
                  <a:t>□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∙ 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ru-RU" sz="3600" spc="-1" strike="noStrike">
                    <a:solidFill>
                      <a:srgbClr val="000000"/>
                    </a:solidFill>
                    <a:latin typeface="Times New Roman"/>
                  </a:rPr>
                  <a:t>□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Text Box 9"/>
              <p:cNvSpPr/>
              <p:nvPr/>
            </p:nvSpPr>
            <p:spPr>
              <a:xfrm>
                <a:off x="4071960" y="1285200"/>
                <a:ext cx="4185720" cy="156168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При умножении на 10     можно к числу справа приписать 1 нул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" name="Group 11"/>
          <p:cNvGrpSpPr/>
          <p:nvPr/>
        </p:nvGrpSpPr>
        <p:grpSpPr>
          <a:xfrm>
            <a:off x="4140360" y="3500280"/>
            <a:ext cx="4360680" cy="2357640"/>
            <a:chOff x="4140360" y="3500280"/>
            <a:chExt cx="4360680" cy="2357640"/>
          </a:xfrm>
        </p:grpSpPr>
        <p:sp>
          <p:nvSpPr>
            <p:cNvPr id="50" name="Rectangle 15"/>
            <p:cNvSpPr/>
            <p:nvPr/>
          </p:nvSpPr>
          <p:spPr>
            <a:xfrm>
              <a:off x="4140360" y="3500280"/>
              <a:ext cx="4360680" cy="2357640"/>
            </a:xfrm>
            <a:prstGeom prst="roundRect">
              <a:avLst>
                <a:gd name="adj" fmla="val 16667"/>
              </a:avLst>
            </a:prstGeom>
            <a:solidFill>
              <a:srgbClr val="ffefe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12"/>
            <p:cNvGrpSpPr/>
            <p:nvPr/>
          </p:nvGrpSpPr>
          <p:grpSpPr>
            <a:xfrm>
              <a:off x="4143240" y="3641400"/>
              <a:ext cx="4285800" cy="2073960"/>
              <a:chOff x="4143240" y="3641400"/>
              <a:chExt cx="4285800" cy="2073960"/>
            </a:xfrm>
          </p:grpSpPr>
          <p:sp>
            <p:nvSpPr>
              <p:cNvPr id="52" name="Text Box 13"/>
              <p:cNvSpPr/>
              <p:nvPr/>
            </p:nvSpPr>
            <p:spPr>
              <a:xfrm>
                <a:off x="4944600" y="3641400"/>
                <a:ext cx="2944080" cy="5670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rmAutofit fontScale="89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000000"/>
                    </a:solidFill>
                    <a:latin typeface="Times New Roman"/>
                  </a:rPr>
                  <a:t>□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∙ 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1 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= </a:t>
                </a:r>
                <a:r>
                  <a:rPr b="0" lang="ru-RU" sz="4000" spc="-1" strike="noStrike">
                    <a:solidFill>
                      <a:srgbClr val="000000"/>
                    </a:solidFill>
                    <a:latin typeface="Times New Roman"/>
                  </a:rPr>
                  <a:t>□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r>
                  <a:rPr b="0" lang="ru-RU" sz="3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3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 Box 14"/>
              <p:cNvSpPr/>
              <p:nvPr/>
            </p:nvSpPr>
            <p:spPr>
              <a:xfrm>
                <a:off x="4143240" y="4298040"/>
                <a:ext cx="4285800" cy="141732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При умножении на 100 можно к числу справа приписать 2 нул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Text Box 16"/>
          <p:cNvSpPr/>
          <p:nvPr/>
        </p:nvSpPr>
        <p:spPr>
          <a:xfrm>
            <a:off x="566640" y="3322800"/>
            <a:ext cx="302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00 ∙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00 ∙ 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00 ∙ 7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00 ∙ 77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00 ∙ 77 7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-900000" y="260280"/>
            <a:ext cx="108360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  <a:ea typeface="Tahoma"/>
              </a:rPr>
              <a:t>Тема урока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ahoma"/>
                <a:ea typeface="Tahoma"/>
              </a:rPr>
              <a:t>«Умножение на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ahoma"/>
                <a:ea typeface="Tahoma"/>
              </a:rPr>
              <a:t>      </a:t>
            </a:r>
            <a:r>
              <a:rPr b="1" lang="ru-RU" sz="5400" spc="-1" strike="noStrike">
                <a:solidFill>
                  <a:srgbClr val="ff6600"/>
                </a:solidFill>
                <a:latin typeface="Tahoma"/>
                <a:ea typeface="Tahoma"/>
              </a:rPr>
              <a:t>1 000, 10 000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ahoma"/>
                <a:ea typeface="Tahoma"/>
              </a:rPr>
              <a:t>Цель урока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ahoma"/>
                <a:ea typeface="Tahoma"/>
              </a:rPr>
              <a:t>научиться умножать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6600"/>
                </a:solidFill>
                <a:latin typeface="Tahoma"/>
                <a:ea typeface="Tahoma"/>
              </a:rPr>
              <a:t>числа на 1000, 10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395280" y="476280"/>
            <a:ext cx="8439120" cy="5808600"/>
          </a:xfrm>
          <a:prstGeom prst="foldedCorner">
            <a:avLst>
              <a:gd name="adj" fmla="val 29143"/>
            </a:avLst>
          </a:prstGeom>
          <a:solidFill>
            <a:srgbClr val="ffffcc"/>
          </a:solidFill>
          <a:ln w="28440">
            <a:solidFill>
              <a:srgbClr val="7b52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54000" tIns="756000" bIns="0" anchor="ctr">
            <a:noAutofit/>
          </a:bodyPr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При умножении числа на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10, 100, 1000, 10000 можн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приписать к этому числу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справа 1 нуль, 2 нуля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3 нуля и 4 нул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 rot="21404400">
            <a:off x="263160" y="374400"/>
            <a:ext cx="8585280" cy="6227640"/>
          </a:xfrm>
          <a:prstGeom prst="horizontalScroll">
            <a:avLst>
              <a:gd name="adj" fmla="val 10356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b5229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663300"/>
                </a:solidFill>
                <a:latin typeface="Arial"/>
              </a:rPr>
              <a:t>В первую ночь Звездочет насчитал на небосводе 450 звезд, во вторую – в 10 раз больше, чем в первую, а в третью – на 1635 звезд больше, чем в первую и вторую ночь вместе. Сколько звезд ему пришлось пересчитать за 3 ноч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4"/>
          <p:cNvSpPr/>
          <p:nvPr/>
        </p:nvSpPr>
        <p:spPr>
          <a:xfrm>
            <a:off x="251640" y="115920"/>
            <a:ext cx="192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Задач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253440" y="136440"/>
            <a:ext cx="40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Решение 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1557360"/>
            <a:ext cx="914400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1) </a:t>
            </a: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450·10 = 4500(з.) </a:t>
            </a: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–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асчитал звездочёт во вторую ноч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                </a:t>
            </a: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4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2) </a:t>
            </a: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(450+4500)+1635=6585(з.) </a:t>
            </a: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–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 третью ноч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3) </a:t>
            </a:r>
            <a:r>
              <a:rPr b="1" i="1" lang="ru-RU" sz="4800" spc="-1" strike="noStrike">
                <a:solidFill>
                  <a:srgbClr val="663300"/>
                </a:solidFill>
                <a:latin typeface="Arial"/>
              </a:rPr>
              <a:t>450+4500+6585=11535(з.) </a:t>
            </a:r>
            <a:r>
              <a:rPr b="1" i="1" lang="ru-RU" sz="4400" spc="-1" strike="noStrike">
                <a:solidFill>
                  <a:srgbClr val="663300"/>
                </a:solidFill>
                <a:latin typeface="Arial"/>
              </a:rPr>
              <a:t>–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асчитал звездочёт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 все три но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15840" y="14400"/>
            <a:ext cx="912816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06:02:02Z</dcterms:created>
  <dc:creator>Шушковская; Харитонова Л.Ю.</dc:creator>
  <dc:description/>
  <dc:language>en-US</dc:language>
  <cp:lastModifiedBy>Анастасия</cp:lastModifiedBy>
  <dcterms:modified xsi:type="dcterms:W3CDTF">2015-10-22T18:58:32Z</dcterms:modified>
  <cp:revision>15</cp:revision>
  <dc:subject/>
  <dc:title>Слайд 1</dc:title>
</cp:coreProperties>
</file>