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30E20-66C7-46BA-A1DB-D1B381CCC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04DBB-C334-43DC-8898-C064610D8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28AAF-1E2B-4F96-88E2-C96AA213F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9EE38-629C-4C27-9A18-423921A5B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A4A36-EDE1-419F-B0A3-61D34D46B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82F7D-426B-401A-8E28-2C4142F53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1F177-00CF-4D19-89B4-F29281094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FE5C7-D2F5-43A7-AA14-1B7F5F901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7D876-3B46-4C9B-98E9-A8D4B5E4D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5B9C7-FA3E-48A1-97FE-520BCCA14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73F31-0EA2-43C3-9EE8-2495DF405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ECF22-D73D-4AB7-A48B-A4CCA3E3E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81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359E9-7B62-4210-BCB8-BF64FAB42FF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0920" y="27432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Какая экономическая функция?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полеон Бонапарт : «Народ, не желающий кормить свою армию, вскоре будет вынужден кормить чужую»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5" descr="http://sobitiy.ru/_nw/40/17869294.jpg"/>
          <p:cNvPicPr/>
          <p:nvPr/>
        </p:nvPicPr>
        <p:blipFill>
          <a:blip r:embed="rId1"/>
          <a:stretch/>
        </p:blipFill>
        <p:spPr>
          <a:xfrm>
            <a:off x="2340000" y="3294000"/>
            <a:ext cx="4464000" cy="33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4000" y="0"/>
            <a:ext cx="821844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Рейтинг стран мира по уровню жизни в 2015 году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7928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437040" indent="-4370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орвег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37040" indent="-4370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37040" indent="-4370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Швейцар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37040" indent="-4370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37040" indent="-4370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анад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37040" indent="-4370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37040" indent="-4370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Швец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37040" indent="-4370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37040" indent="-4370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овая Зеланд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5" descr="http://freekino.org/torrents/images/329531.jpg"/>
          <p:cNvPicPr/>
          <p:nvPr/>
        </p:nvPicPr>
        <p:blipFill>
          <a:blip r:embed="rId1"/>
          <a:stretch/>
        </p:blipFill>
        <p:spPr>
          <a:xfrm>
            <a:off x="3276720" y="2349360"/>
            <a:ext cx="5375160" cy="335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Налоговая систем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2" descr=""/>
          <p:cNvPicPr/>
          <p:nvPr/>
        </p:nvPicPr>
        <p:blipFill>
          <a:blip r:embed="rId1"/>
          <a:srcRect l="28349" t="42760" r="22931" b="25497"/>
          <a:stretch/>
        </p:blipFill>
        <p:spPr>
          <a:xfrm>
            <a:off x="250920" y="1413000"/>
            <a:ext cx="8642160" cy="5040360"/>
          </a:xfrm>
          <a:prstGeom prst="rect">
            <a:avLst/>
          </a:prstGeom>
          <a:ln w="0">
            <a:noFill/>
          </a:ln>
        </p:spPr>
      </p:pic>
      <p:sp>
        <p:nvSpPr>
          <p:cNvPr id="49" name="Прямоугольник 4"/>
          <p:cNvSpPr/>
          <p:nvPr/>
        </p:nvSpPr>
        <p:spPr>
          <a:xfrm>
            <a:off x="755640" y="2852640"/>
            <a:ext cx="2016000" cy="7207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5"/>
          <p:cNvSpPr/>
          <p:nvPr/>
        </p:nvSpPr>
        <p:spPr>
          <a:xfrm>
            <a:off x="6227640" y="2852640"/>
            <a:ext cx="2016360" cy="7207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6"/>
          <p:cNvSpPr/>
          <p:nvPr/>
        </p:nvSpPr>
        <p:spPr>
          <a:xfrm>
            <a:off x="6443640" y="5300640"/>
            <a:ext cx="1657440" cy="7207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7"/>
          <p:cNvSpPr/>
          <p:nvPr/>
        </p:nvSpPr>
        <p:spPr>
          <a:xfrm>
            <a:off x="1042920" y="5300640"/>
            <a:ext cx="1584360" cy="7207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8"/>
          <p:cNvSpPr/>
          <p:nvPr/>
        </p:nvSpPr>
        <p:spPr>
          <a:xfrm>
            <a:off x="1979640" y="3933720"/>
            <a:ext cx="1655640" cy="79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9"/>
          <p:cNvSpPr/>
          <p:nvPr/>
        </p:nvSpPr>
        <p:spPr>
          <a:xfrm>
            <a:off x="250920" y="3933720"/>
            <a:ext cx="1404720" cy="79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10"/>
          <p:cNvSpPr/>
          <p:nvPr/>
        </p:nvSpPr>
        <p:spPr>
          <a:xfrm>
            <a:off x="7380360" y="3933720"/>
            <a:ext cx="1404720" cy="79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11"/>
          <p:cNvSpPr/>
          <p:nvPr/>
        </p:nvSpPr>
        <p:spPr>
          <a:xfrm>
            <a:off x="5364000" y="3933720"/>
            <a:ext cx="1405080" cy="1150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42920" y="333360"/>
            <a:ext cx="7788240" cy="92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Налоговая систем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1523880" y="1397160"/>
          <a:ext cx="6096240" cy="39672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Налог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9" name=""/>
          <p:cNvGraphicFramePr/>
          <p:nvPr/>
        </p:nvGraphicFramePr>
        <p:xfrm>
          <a:off x="755640" y="1413000"/>
          <a:ext cx="7704000" cy="4537080"/>
        </p:xfrm>
        <a:graphic>
          <a:graphicData uri="http://schemas.openxmlformats.org/drawingml/2006/table">
            <a:tbl>
              <a:tblPr/>
              <a:tblGrid>
                <a:gridCol w="3852720"/>
                <a:gridCol w="3851280"/>
              </a:tblGrid>
              <a:tr h="552240"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26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ямы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свенны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72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 мамы из зарплаты вычли подоходный налог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оя бабушка платила налог, когда продала свой дом в деревне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106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апа вчера уплатил налог за транспортное средство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Фирма «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didas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» оплатила таможенные сборы при ввозе своих товаров для продажи в РФ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104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ой дядя предприниматель, он платит налоги государству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и продаже спиртные напитки облагаются дополнительным налогом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47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 4,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3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71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одведение итог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6836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ерны ли суждения о роли государства в экономике?     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. Роль государства в современной экономике сводится к охране правопорядка. 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. Роль государства в экономике – это компенсация потерь разорившимся предпринимателям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 Верно только А       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 Верно только Б        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 Верны оба  суждения       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. Оба суждения неверны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одведение итог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1. Какие из приведенных налогов являются прямыми? 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кцизный сбор 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аможенный сбор 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доходный налог 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лог на продажу товаров 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лог на имущество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Рефлекс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250920" y="981000"/>
          <a:ext cx="8713800" cy="5456160"/>
        </p:xfrm>
        <a:graphic>
          <a:graphicData uri="http://schemas.openxmlformats.org/drawingml/2006/table">
            <a:tbl>
              <a:tblPr/>
              <a:tblGrid>
                <a:gridCol w="4357440"/>
                <a:gridCol w="4356360"/>
              </a:tblGrid>
              <a:tr h="5456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 уроке я работа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воей работой на уроке я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рок для меня показалс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ое настроение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атериал урока мне бы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ктивно/пассивн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оволен/не доволе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оротким/длинны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тало лучше/стало хуж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онятен/не понятен Полезен/бесполезен Интересен/скуче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640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Домашнее задание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179280" y="1700280"/>
            <a:ext cx="822960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араграф 23стр.193-197, в.1,4,5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знайте у своих родителей, какие налоги платит ваша семья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 каким видам налогов они относятся?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ополнительно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д.2 «В классе и дома» стр.200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5" descr="http://www.metod-kopilka.ru/images/doc/22/15944/img4.jpg"/>
          <p:cNvPicPr/>
          <p:nvPr/>
        </p:nvPicPr>
        <p:blipFill>
          <a:blip r:embed="rId1"/>
          <a:stretch/>
        </p:blipFill>
        <p:spPr>
          <a:xfrm>
            <a:off x="7059600" y="0"/>
            <a:ext cx="2084400" cy="21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2-02T17:03:04Z</dcterms:created>
  <dc:creator>qwerty</dc:creator>
  <dc:description/>
  <dc:language>en-US</dc:language>
  <cp:lastModifiedBy>Irina</cp:lastModifiedBy>
  <dcterms:modified xsi:type="dcterms:W3CDTF">2016-04-20T18:36:46Z</dcterms:modified>
  <cp:revision>26</cp:revision>
  <dc:subject/>
  <dc:title>Роль государства в экономике</dc:title>
</cp:coreProperties>
</file>