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2D3-0D8E-4023-98AE-70D7CE30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6526-FBE7-473C-B14A-9E0365E2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ADBA-307F-4DDC-9ECA-B5408CC6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9632-7FBF-4B5C-B67B-430D070C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7B12-B47F-44CC-A31E-6E83B572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2252-C8B2-4F97-B9CB-A93A8E31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CD8F-570E-4CB1-A64D-404368B4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DEB8-9B24-4CA1-AE34-1377AB68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794-A43F-4A17-9CBD-96FE895D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4AF-C6F3-4177-9ACD-89F6DE8E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2329-6E83-45BB-AF81-C7EBB5D4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60C0-7285-47F3-B6CD-6319F055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1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CFCA-7A93-4C37-AD12-7A5CD89F4A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ая экономическая функция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олеон Бонапарт : «Народ, не желающий кормить свою армию, вскоре будет вынужден кормить чужую»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sobitiy.ru/_nw/40/17869294.jpg"/>
          <p:cNvPicPr/>
          <p:nvPr/>
        </p:nvPicPr>
        <p:blipFill>
          <a:blip r:embed="rId1"/>
          <a:stretch/>
        </p:blipFill>
        <p:spPr>
          <a:xfrm>
            <a:off x="2340000" y="3294000"/>
            <a:ext cx="4464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йтинг стран мира по уровню жизни в 2015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37040" indent="-437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ве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вейца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н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ве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37040" indent="-437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ая Зеланд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http://freekino.org/torrents/images/329531.jpg"/>
          <p:cNvPicPr/>
          <p:nvPr/>
        </p:nvPicPr>
        <p:blipFill>
          <a:blip r:embed="rId1"/>
          <a:stretch/>
        </p:blipFill>
        <p:spPr>
          <a:xfrm>
            <a:off x="3276720" y="2349360"/>
            <a:ext cx="53751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логов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rcRect l="28349" t="42760" r="22931" b="25497"/>
          <a:stretch/>
        </p:blipFill>
        <p:spPr>
          <a:xfrm>
            <a:off x="250920" y="1413000"/>
            <a:ext cx="8642160" cy="50403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755640" y="2852640"/>
            <a:ext cx="201600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6227640" y="2852640"/>
            <a:ext cx="2016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6443640" y="5300640"/>
            <a:ext cx="165744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1042920" y="5300640"/>
            <a:ext cx="1584360" cy="720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1979640" y="3933720"/>
            <a:ext cx="1655640" cy="7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250920" y="3933720"/>
            <a:ext cx="1404720" cy="7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7380360" y="3933720"/>
            <a:ext cx="1404720" cy="7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5364000" y="3933720"/>
            <a:ext cx="1405080" cy="11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920" y="333360"/>
            <a:ext cx="778824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логов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23880" y="1397160"/>
          <a:ext cx="6096240" cy="39672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ло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55640" y="1413000"/>
          <a:ext cx="7704000" cy="4537080"/>
        </p:xfrm>
        <a:graphic>
          <a:graphicData uri="http://schemas.openxmlformats.org/drawingml/2006/table">
            <a:tbl>
              <a:tblPr/>
              <a:tblGrid>
                <a:gridCol w="3852720"/>
                <a:gridCol w="3851280"/>
              </a:tblGrid>
              <a:tr h="5522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ве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 мамы из зарплаты вычли подоходный нало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я бабушка платила налог, когда продала свой дом в деревн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0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па вчера уплатил налог за транспортное средство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рма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ida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» оплатила таможенные сборы при ввозе своих товаров для продажи в РФ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0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й дядя предприниматель, он платит налоги государств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продаже спиртные напитки облагаются дополнительным налого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4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 4,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ны ли суждения о роли государства в экономике? 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. Роль государства в современной экономике сводится к охране правопорядка. 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. Роль государства в экономике – это компенсация потерь разорившимся предпринимателя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Верно только А 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ерно только Б 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Верны оба  суждения 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Оба суждения невер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ведение итог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. Какие из приведенных налогов являются прямыми?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цизный сбор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моженный сбор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оходный налог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ог на продажу товаров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ог на имущество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981000"/>
          <a:ext cx="8713800" cy="545616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545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 уроке я работа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воей работой на уроке 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к для меня показ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е настрое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териал урока мне бы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ктивно/пассив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волен/не довол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ротким/длинны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ло лучше/стало хуж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нятен/не понятен Полезен/бесполезен Интересен/скуч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7928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граф 23стр.193-197, в.1,4,5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йте у своих родителей, какие налоги платит ваша семья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каким видам налогов они относятся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полнитель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.2 «В классе и дома» стр.2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http://www.metod-kopilka.ru/images/doc/22/15944/img4.jpg"/>
          <p:cNvPicPr/>
          <p:nvPr/>
        </p:nvPicPr>
        <p:blipFill>
          <a:blip r:embed="rId1"/>
          <a:stretch/>
        </p:blipFill>
        <p:spPr>
          <a:xfrm>
            <a:off x="7059600" y="0"/>
            <a:ext cx="208440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2T17:03:04Z</dcterms:created>
  <dc:creator>qwerty</dc:creator>
  <dc:description/>
  <dc:language>en-US</dc:language>
  <cp:lastModifiedBy>Irina</cp:lastModifiedBy>
  <dcterms:modified xsi:type="dcterms:W3CDTF">2016-04-20T18:36:46Z</dcterms:modified>
  <cp:revision>26</cp:revision>
  <dc:subject/>
  <dc:title>Роль государства в экономике</dc:title>
</cp:coreProperties>
</file>