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187E-173F-4A29-AA2C-8BB9A05BD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2396-F002-4453-B52B-5509B7F4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D2CF-932E-4018-A7E9-0B6BA369E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176B-C723-4A35-BDFF-857C2273D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CF9D-C509-479A-87C9-61F38381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E263-9843-490A-8E0E-3F158ED3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3828-A78F-4C57-A6A9-91EF6576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4C1F-701F-420E-84E0-F99E2F61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E39B-2370-41E8-8FC2-474FF48C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C75F-F14C-4617-ADD2-16DCD6B7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7868-F12D-4A66-AA74-D6059576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FD38-C988-45F7-8BCC-71AD84EF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02EA-902F-499D-A27C-A918A3FC62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427640" y="1413000"/>
            <a:ext cx="44035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читай несчастным тот день и тот час, в который ты не усвоил ничего нового и ничего не прибавил к своему образованию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н Амос Камен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://lib.znate.ru/pars_docs/refs/193/192224/192224_html_53be6c1d.png"/>
          <p:cNvPicPr/>
          <p:nvPr/>
        </p:nvPicPr>
        <p:blipFill>
          <a:blip r:embed="rId1"/>
          <a:stretch/>
        </p:blipFill>
        <p:spPr>
          <a:xfrm>
            <a:off x="179280" y="549360"/>
            <a:ext cx="401976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Объект 3" descr="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Эпиграф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3"/>
          <p:cNvSpPr/>
          <p:nvPr/>
        </p:nvSpPr>
        <p:spPr>
          <a:xfrm>
            <a:off x="250920" y="1052640"/>
            <a:ext cx="619272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ристотель</a:t>
            </a: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«Цель государства – это совместное продвижение к высокому качеству жизни»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дам Смит </a:t>
            </a: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Великие народы никогда не беднеют из-за расточительности и неблагоразумия частных лиц, но они нередко беднеют в результате расточительности и неблагоразумия государственной власти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http://www.romainteractive.com/immagini/rinascimento/architettura_II/sangallo/aristotele.jpg"/>
          <p:cNvPicPr/>
          <p:nvPr/>
        </p:nvPicPr>
        <p:blipFill>
          <a:blip r:embed="rId1"/>
          <a:stretch/>
        </p:blipFill>
        <p:spPr>
          <a:xfrm>
            <a:off x="6156360" y="695160"/>
            <a:ext cx="2786040" cy="2230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http://givotov.ru/uploads/posts/2013-11/1385463324_img_0737.jpg"/>
          <p:cNvPicPr/>
          <p:nvPr/>
        </p:nvPicPr>
        <p:blipFill>
          <a:blip r:embed="rId2"/>
          <a:stretch/>
        </p:blipFill>
        <p:spPr>
          <a:xfrm>
            <a:off x="6370560" y="2998800"/>
            <a:ext cx="244476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8508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ведение социальной политики: ст.39 Конституции РФ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нсии, пособия по безработице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едоставление общественных благ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2" descr=""/>
          <p:cNvPicPr/>
          <p:nvPr/>
        </p:nvPicPr>
        <p:blipFill>
          <a:blip r:embed="rId1"/>
          <a:stretch/>
        </p:blipFill>
        <p:spPr>
          <a:xfrm>
            <a:off x="426960" y="3938760"/>
            <a:ext cx="3710160" cy="24732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3" descr=""/>
          <p:cNvPicPr/>
          <p:nvPr/>
        </p:nvPicPr>
        <p:blipFill>
          <a:blip r:embed="rId2"/>
          <a:stretch/>
        </p:blipFill>
        <p:spPr>
          <a:xfrm>
            <a:off x="5003640" y="4076640"/>
            <a:ext cx="3954600" cy="24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ровень инфля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826920" y="1268280"/>
          <a:ext cx="7344000" cy="5185080"/>
        </p:xfrm>
        <a:graphic>
          <a:graphicData uri="http://schemas.openxmlformats.org/drawingml/2006/table">
            <a:tbl>
              <a:tblPr/>
              <a:tblGrid>
                <a:gridCol w="3649680"/>
                <a:gridCol w="3694320"/>
              </a:tblGrid>
              <a:tr h="10368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9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644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3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824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4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68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5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68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2T17:03:04Z</dcterms:created>
  <dc:creator>qwerty</dc:creator>
  <dc:description/>
  <dc:language>en-US</dc:language>
  <cp:lastModifiedBy>Irina</cp:lastModifiedBy>
  <dcterms:modified xsi:type="dcterms:W3CDTF">2016-04-20T18:36:27Z</dcterms:modified>
  <cp:revision>26</cp:revision>
  <dc:subject/>
  <dc:title>Роль государства в экономике</dc:title>
</cp:coreProperties>
</file>