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146-335D-43E6-A415-C1E9DA5B6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4B0-FCC7-4A40-9BAE-6D661F7F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127-8A02-4960-8322-566F333D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3334-90F9-45C9-BFB2-E9252E30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ECF6-C214-4D46-9B21-39E75508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E728-0881-4BA9-9409-BE2D682E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948F-916B-411A-93F9-CEEBD5D3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D6D8-028F-40A7-A1E6-A880F847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544-C42A-4507-A46D-B28F932E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1DD1-083F-4532-AB7B-CD4C58E3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373F-81A7-4E75-AC20-E7675671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86B-9588-46E3-BCC1-288AC788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F609-BB60-4F88-83C5-C33388EC7B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427640" y="1413000"/>
            <a:ext cx="44035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читай несчастным тот день и тот час, в который ты не усвоил ничего нового и ничего не прибавил к своему образованию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н Амос Каме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lib.znate.ru/pars_docs/refs/193/192224/192224_html_53be6c1d.png"/>
          <p:cNvPicPr/>
          <p:nvPr/>
        </p:nvPicPr>
        <p:blipFill>
          <a:blip r:embed="rId1"/>
          <a:stretch/>
        </p:blipFill>
        <p:spPr>
          <a:xfrm>
            <a:off x="179280" y="549360"/>
            <a:ext cx="40197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Эпиграф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250920" y="1052640"/>
            <a:ext cx="6192720" cy="55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истотель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«Цель государства – это совместное продвижение к высокому качеству жизни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дам Смит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Великие народы никогда не беднеют из-за расточительности и неблагоразумия частных лиц, но они нередко беднеют в результате расточительности и неблагоразумия государственной власт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www.romainteractive.com/immagini/rinascimento/architettura_II/sangallo/aristotele.jpg"/>
          <p:cNvPicPr/>
          <p:nvPr/>
        </p:nvPicPr>
        <p:blipFill>
          <a:blip r:embed="rId1"/>
          <a:stretch/>
        </p:blipFill>
        <p:spPr>
          <a:xfrm>
            <a:off x="6156360" y="695160"/>
            <a:ext cx="2786040" cy="2230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givotov.ru/uploads/posts/2013-11/1385463324_img_0737.jpg"/>
          <p:cNvPicPr/>
          <p:nvPr/>
        </p:nvPicPr>
        <p:blipFill>
          <a:blip r:embed="rId2"/>
          <a:stretch/>
        </p:blipFill>
        <p:spPr>
          <a:xfrm>
            <a:off x="6370560" y="2998800"/>
            <a:ext cx="2444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8508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ведение социальной политики: ст.39 Конституции РФ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нсии, пособия по безработице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оставление общественных благ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426960" y="3938760"/>
            <a:ext cx="3710160" cy="24732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395460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ровень инфля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26920" y="1268280"/>
          <a:ext cx="7344000" cy="5185080"/>
        </p:xfrm>
        <a:graphic>
          <a:graphicData uri="http://schemas.openxmlformats.org/drawingml/2006/table">
            <a:tbl>
              <a:tblPr/>
              <a:tblGrid>
                <a:gridCol w="3649680"/>
                <a:gridCol w="3694320"/>
              </a:tblGrid>
              <a:tr h="10368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9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4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8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8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3680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2T17:03:04Z</dcterms:created>
  <dc:creator>qwerty</dc:creator>
  <dc:description/>
  <dc:language>en-US</dc:language>
  <cp:lastModifiedBy>Irina</cp:lastModifiedBy>
  <dcterms:modified xsi:type="dcterms:W3CDTF">2016-04-20T18:36:27Z</dcterms:modified>
  <cp:revision>26</cp:revision>
  <dc:subject/>
  <dc:title>Роль государства в экономике</dc:title>
</cp:coreProperties>
</file>