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9EF-3F49-44B4-AF62-092D1DCE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171-5EE1-4040-AE8C-910C389D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F91-A40D-454F-B187-8F9803512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C4D-4D21-45C5-A77F-8B5A22741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5E0-4DEB-42AC-9C6D-43DC7171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61A-404F-4840-9338-CDCD49BF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F58-3768-4137-91C2-D0DC77E0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73C-8D32-4D3D-9C88-F5B5131A6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5A7-DA4A-40D3-9436-826819C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504-CBED-4E4E-A9CA-C30269D5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B6A-996A-42DF-BE85-E979425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24D-A2B3-4166-AD01-3C898FB8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ADE4-0B85-4855-8540-D1A54B917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A:\Мои документы\Таня\РАБОТА\школа\В РАБОТЕ\8а_Славянская письменность\Кирилл и Мефодий.jpg"/>
          <p:cNvPicPr/>
          <p:nvPr/>
        </p:nvPicPr>
        <p:blipFill>
          <a:blip r:embed="rId1">
            <a:lum contrast="10000"/>
          </a:blip>
          <a:stretch/>
        </p:blipFill>
        <p:spPr>
          <a:xfrm rot="60000">
            <a:off x="3214440" y="214200"/>
            <a:ext cx="543564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:\Мои документы\Таня\РАБОТА\школа\В РАБОТЕ\8а_Славянская письменность\Азбука.jpg"/>
          <p:cNvPicPr/>
          <p:nvPr/>
        </p:nvPicPr>
        <p:blipFill>
          <a:blip r:embed="rId1"/>
          <a:stretch/>
        </p:blipFill>
        <p:spPr>
          <a:xfrm>
            <a:off x="217440" y="357120"/>
            <a:ext cx="873144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A:\Мои документы\Таня\РАБОТА\школа\В РАБОТЕ\8а_Славянская письменность\Упражнение 1_2.jpg"/>
          <p:cNvPicPr/>
          <p:nvPr/>
        </p:nvPicPr>
        <p:blipFill>
          <a:blip r:embed="rId1"/>
          <a:stretch/>
        </p:blipFill>
        <p:spPr>
          <a:xfrm>
            <a:off x="428760" y="1785960"/>
            <a:ext cx="8489880" cy="8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A:\Мои документы\Таня\РАБОТА\школа\В РАБОТЕ\8а_Славянская письменность\Упражнение 1_4.jpg"/>
          <p:cNvPicPr/>
          <p:nvPr/>
        </p:nvPicPr>
        <p:blipFill>
          <a:blip r:embed="rId1"/>
          <a:stretch/>
        </p:blipFill>
        <p:spPr>
          <a:xfrm>
            <a:off x="357120" y="1714680"/>
            <a:ext cx="8699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:\Мои документы\Таня\РАБОТА\школа\В РАБОТЕ\8а_Славянская письменность\Упражнение 1_3.jpg"/>
          <p:cNvPicPr/>
          <p:nvPr/>
        </p:nvPicPr>
        <p:blipFill>
          <a:blip r:embed="rId1"/>
          <a:stretch/>
        </p:blipFill>
        <p:spPr>
          <a:xfrm>
            <a:off x="285840" y="2021040"/>
            <a:ext cx="874080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:\Мои документы\Таня\РАБОТА\школа\В РАБОТЕ\8а_Славянская письменность\Упражнение 1_1.jpg"/>
          <p:cNvPicPr/>
          <p:nvPr/>
        </p:nvPicPr>
        <p:blipFill>
          <a:blip r:embed="rId1"/>
          <a:stretch/>
        </p:blipFill>
        <p:spPr>
          <a:xfrm>
            <a:off x="233280" y="1643040"/>
            <a:ext cx="89107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A:\Мои документы\Таня\РАБОТА\школа\В РАБОТЕ\8а_Славянская письменность\Упражнение 2_словарь.jpg"/>
          <p:cNvPicPr/>
          <p:nvPr/>
        </p:nvPicPr>
        <p:blipFill>
          <a:blip r:embed="rId1"/>
          <a:stretch/>
        </p:blipFill>
        <p:spPr>
          <a:xfrm rot="21540000">
            <a:off x="999720" y="285840"/>
            <a:ext cx="4357800" cy="62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:\Мои документы\Таня\РАБОТА\школа\В РАБОТЕ\8а_Славянская письменность\Цыфры.jpg"/>
          <p:cNvPicPr/>
          <p:nvPr/>
        </p:nvPicPr>
        <p:blipFill>
          <a:blip r:embed="rId1"/>
          <a:stretch/>
        </p:blipFill>
        <p:spPr>
          <a:xfrm>
            <a:off x="907920" y="500040"/>
            <a:ext cx="802800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08T16:27:27Z</dcterms:created>
  <dc:creator>ТиЛ</dc:creator>
  <dc:description/>
  <dc:language>en-US</dc:language>
  <cp:lastModifiedBy>ТиЛ</cp:lastModifiedBy>
  <dcterms:modified xsi:type="dcterms:W3CDTF">2016-04-21T10:25:29Z</dcterms:modified>
  <cp:revision>3</cp:revision>
  <dc:subject/>
  <dc:title>Слайд 1</dc:title>
</cp:coreProperties>
</file>