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002-754A-4B53-A6F8-05E9471F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AF2-84BB-4C2E-9AAE-9638813C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546-C041-46F7-A4F8-4D0FD4D9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5EB-52D5-496A-B2E7-A63009AB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CB2-0A3B-4AD1-916A-039841B2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4EA-0E1C-4F2A-A676-23D83FF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30C-C845-44C6-BC72-ADC934C6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412-AD09-45E7-A940-F6D2673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B2A-79EF-4BA4-BA80-C0BD271E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0F-D185-429F-A47F-646A8FD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622-0CB3-4FD0-9671-F9222A11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C78-76CF-4C99-934C-39EC0477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7AB-CFA5-46E8-8690-359340797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:\Мои документы\Таня\РАБОТА\школа\В РАБОТЕ\8а_Славянская письменность\Кирилл и Мефодий.jpg"/>
          <p:cNvPicPr/>
          <p:nvPr/>
        </p:nvPicPr>
        <p:blipFill>
          <a:blip r:embed="rId1">
            <a:lum contrast="10000"/>
          </a:blip>
          <a:stretch/>
        </p:blipFill>
        <p:spPr>
          <a:xfrm rot="60000">
            <a:off x="3214440" y="214200"/>
            <a:ext cx="543564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:\Мои документы\Таня\РАБОТА\школа\В РАБОТЕ\8а_Славянская письменность\Азбука.jpg"/>
          <p:cNvPicPr/>
          <p:nvPr/>
        </p:nvPicPr>
        <p:blipFill>
          <a:blip r:embed="rId1"/>
          <a:stretch/>
        </p:blipFill>
        <p:spPr>
          <a:xfrm>
            <a:off x="217440" y="357120"/>
            <a:ext cx="87314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:\Мои документы\Таня\РАБОТА\школа\В РАБОТЕ\8а_Славянская письменность\Упражнение 1_2.jpg"/>
          <p:cNvPicPr/>
          <p:nvPr/>
        </p:nvPicPr>
        <p:blipFill>
          <a:blip r:embed="rId1"/>
          <a:stretch/>
        </p:blipFill>
        <p:spPr>
          <a:xfrm>
            <a:off x="428760" y="1785960"/>
            <a:ext cx="84898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:\Мои документы\Таня\РАБОТА\школа\В РАБОТЕ\8а_Славянская письменность\Упражнение 1_4.jpg"/>
          <p:cNvPicPr/>
          <p:nvPr/>
        </p:nvPicPr>
        <p:blipFill>
          <a:blip r:embed="rId1"/>
          <a:stretch/>
        </p:blipFill>
        <p:spPr>
          <a:xfrm>
            <a:off x="357120" y="1714680"/>
            <a:ext cx="8699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:\Мои документы\Таня\РАБОТА\школа\В РАБОТЕ\8а_Славянская письменность\Упражнение 1_3.jpg"/>
          <p:cNvPicPr/>
          <p:nvPr/>
        </p:nvPicPr>
        <p:blipFill>
          <a:blip r:embed="rId1"/>
          <a:stretch/>
        </p:blipFill>
        <p:spPr>
          <a:xfrm>
            <a:off x="285840" y="2021040"/>
            <a:ext cx="87408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:\Мои документы\Таня\РАБОТА\школа\В РАБОТЕ\8а_Славянская письменность\Упражнение 1_1.jpg"/>
          <p:cNvPicPr/>
          <p:nvPr/>
        </p:nvPicPr>
        <p:blipFill>
          <a:blip r:embed="rId1"/>
          <a:stretch/>
        </p:blipFill>
        <p:spPr>
          <a:xfrm>
            <a:off x="233280" y="1643040"/>
            <a:ext cx="8910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:\Мои документы\Таня\РАБОТА\школа\В РАБОТЕ\8а_Славянская письменность\Упражнение 2_словарь.jpg"/>
          <p:cNvPicPr/>
          <p:nvPr/>
        </p:nvPicPr>
        <p:blipFill>
          <a:blip r:embed="rId1"/>
          <a:stretch/>
        </p:blipFill>
        <p:spPr>
          <a:xfrm rot="21540000">
            <a:off x="999720" y="285840"/>
            <a:ext cx="43578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:\Мои документы\Таня\РАБОТА\школа\В РАБОТЕ\8а_Славянская письменность\Цыфры.jpg"/>
          <p:cNvPicPr/>
          <p:nvPr/>
        </p:nvPicPr>
        <p:blipFill>
          <a:blip r:embed="rId1"/>
          <a:stretch/>
        </p:blipFill>
        <p:spPr>
          <a:xfrm>
            <a:off x="907920" y="500040"/>
            <a:ext cx="8028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16:27:27Z</dcterms:created>
  <dc:creator>ТиЛ</dc:creator>
  <dc:description/>
  <dc:language>en-US</dc:language>
  <cp:lastModifiedBy>ТиЛ</cp:lastModifiedBy>
  <dcterms:modified xsi:type="dcterms:W3CDTF">2016-04-21T10:25:29Z</dcterms:modified>
  <cp:revision>3</cp:revision>
  <dc:subject/>
  <dc:title>Слайд 1</dc:title>
</cp:coreProperties>
</file>