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3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3.jpeg" ContentType="image/jpeg"/>
  <Override PartName="/ppt/media/image33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1D8-6405-4665-A893-8E49C5B1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10D-C1A8-474E-93F7-C2F72D1A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69B-1504-4D28-998D-2735CB7E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F39-9AC6-46C0-9C9B-BC5C50BE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741-8003-48A7-B960-70A88842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399-2B15-44BA-8F32-1EFCCB63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6FC-A3D4-4564-B74B-65F3F9CA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0FD-B93D-4290-A1A5-23296C98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5B2-B91C-4014-AB02-C3D6E0A8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5FC-ED7B-478B-BD11-9438E7D6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4158-33C1-4C1E-B68D-942E4603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026-2994-4FBE-A8FF-F0D4D661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B1EC-6060-4927-8A34-5C4B6E618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7575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2" descr=""/>
          <p:cNvPicPr/>
          <p:nvPr/>
        </p:nvPicPr>
        <p:blipFill>
          <a:blip r:embed="rId1"/>
          <a:stretch/>
        </p:blipFill>
        <p:spPr>
          <a:xfrm>
            <a:off x="493560" y="231840"/>
            <a:ext cx="8242560" cy="4973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143160" y="5214960"/>
            <a:ext cx="53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ученица 8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СОШ с.Синя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бина Ол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40244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be0e3"/>
                </a:solidFill>
                <a:latin typeface="Arial Black"/>
              </a:rPr>
              <a:t>«У математиков существует свой язык -</a:t>
            </a:r>
            <a:r>
              <a:rPr b="1" lang="ru-RU" sz="4800" spc="-1" strike="noStrike">
                <a:solidFill>
                  <a:srgbClr val="bbe0e3"/>
                </a:solidFill>
                <a:latin typeface="Arial Black"/>
              </a:rPr>
              <a:t> </a:t>
            </a:r>
            <a:r>
              <a:rPr b="1" lang="ru-RU" sz="7200" spc="-1" strike="noStrike">
                <a:solidFill>
                  <a:srgbClr val="bbe0e3"/>
                </a:solidFill>
                <a:latin typeface="Arial Black"/>
              </a:rPr>
              <a:t>это формулы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2"/>
          <a:stretch/>
        </p:blipFill>
        <p:spPr>
          <a:xfrm>
            <a:off x="3492360" y="692280"/>
            <a:ext cx="20685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26028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Она напис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836720" y="893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неск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340000" y="1341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роман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916360" y="2133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дра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443640" y="61628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сти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58920" y="115920"/>
            <a:ext cx="608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«Нельзя быть математиком, не будучи в то же время и поэтом в душ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2303640" y="5229360"/>
            <a:ext cx="70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Ведь грозные боги ревнивы и стро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Их приговор ясен, решенье 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С того человека и взыщется мно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Кому было много талантов д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xopo_spbu"/>
          <p:cNvPicPr/>
          <p:nvPr/>
        </p:nvPicPr>
        <p:blipFill>
          <a:blip r:embed="rId2"/>
          <a:stretch/>
        </p:blipFill>
        <p:spPr>
          <a:xfrm>
            <a:off x="5867280" y="3525840"/>
            <a:ext cx="3168720" cy="1774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vis-jen-kursy"/>
          <p:cNvPicPr/>
          <p:nvPr/>
        </p:nvPicPr>
        <p:blipFill>
          <a:blip r:embed="rId3"/>
          <a:stretch/>
        </p:blipFill>
        <p:spPr>
          <a:xfrm>
            <a:off x="108000" y="2492280"/>
            <a:ext cx="28796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8"/>
          <p:cNvSpPr/>
          <p:nvPr/>
        </p:nvSpPr>
        <p:spPr>
          <a:xfrm>
            <a:off x="2627280" y="189000"/>
            <a:ext cx="42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556000" y="-27000"/>
            <a:ext cx="4392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Муж Софьи покончил жизнь самоубий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НО вскоре её вновь посетила любовь. Ей сделали предложение. Скоро должна была состояться свадьб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мне нагадали.wma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436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розы copy"/>
          <p:cNvPicPr/>
          <p:nvPr/>
        </p:nvPicPr>
        <p:blipFill>
          <a:blip r:embed="rId1"/>
          <a:stretch/>
        </p:blipFill>
        <p:spPr>
          <a:xfrm rot="19625400">
            <a:off x="152280" y="27000"/>
            <a:ext cx="3826080" cy="3668760"/>
          </a:xfrm>
          <a:prstGeom prst="rect">
            <a:avLst/>
          </a:prstGeom>
          <a:ln w="0">
            <a:noFill/>
          </a:ln>
        </p:spPr>
      </p:pic>
      <p:pic>
        <p:nvPicPr>
          <p:cNvPr id="81" name="фрагмент3.wmv" descr=""/>
          <p:cNvPicPr/>
          <p:nvPr/>
        </p:nvPicPr>
        <p:blipFill>
          <a:blip r:embed="rId2"/>
          <a:stretch/>
        </p:blipFill>
        <p:spPr>
          <a:xfrm>
            <a:off x="2879640" y="1952640"/>
            <a:ext cx="6264360" cy="4905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"/>
          <p:cNvSpPr/>
          <p:nvPr/>
        </p:nvSpPr>
        <p:spPr>
          <a:xfrm>
            <a:off x="0" y="4572000"/>
            <a:ext cx="264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 Black"/>
              </a:rPr>
              <a:t>Но не суждено было Софье снова выйти заму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3929040" y="14292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 Black"/>
              </a:rPr>
              <a:t>Этим человеком был ее однофамилец социолог Максим Максимович Ковалев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616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kovalevskaya-sofya1"/>
          <p:cNvPicPr/>
          <p:nvPr/>
        </p:nvPicPr>
        <p:blipFill>
          <a:blip r:embed="rId1"/>
          <a:stretch/>
        </p:blipFill>
        <p:spPr>
          <a:xfrm>
            <a:off x="162000" y="260280"/>
            <a:ext cx="4137120" cy="5516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lilii"/>
          <p:cNvPicPr/>
          <p:nvPr/>
        </p:nvPicPr>
        <p:blipFill>
          <a:blip r:embed="rId2"/>
          <a:stretch/>
        </p:blipFill>
        <p:spPr>
          <a:xfrm flipH="1" rot="20553600">
            <a:off x="2880" y="4840200"/>
            <a:ext cx="5003640" cy="204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kovalevskaya-sofya2"/>
          <p:cNvPicPr/>
          <p:nvPr/>
        </p:nvPicPr>
        <p:blipFill>
          <a:blip r:embed="rId3"/>
          <a:stretch/>
        </p:blipFill>
        <p:spPr>
          <a:xfrm>
            <a:off x="4716360" y="260280"/>
            <a:ext cx="4211640" cy="3159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4824360" y="342900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Black"/>
              </a:rPr>
              <a:t>10 февраля 1891 года, в возрасте 41 года, в самом расцвете творческой жизни, Софья Васильевна Ковалевская умерла во сне.</a:t>
            </a: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 Похоронили ее в Стокголь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7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koval1"/>
          <p:cNvPicPr/>
          <p:nvPr/>
        </p:nvPicPr>
        <p:blipFill>
          <a:blip r:embed="rId1"/>
          <a:stretch/>
        </p:blipFill>
        <p:spPr>
          <a:xfrm>
            <a:off x="0" y="0"/>
            <a:ext cx="4572000" cy="4481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071960" y="333360"/>
            <a:ext cx="50720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Надпись на памятник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«Софья Васильевна! Благодаря вашим знаниям, вашему таланту и вашему характеру Вы всегда были и будете славой нашей Родины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908000" y="622296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Максим Максимович Ковал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-27000" y="2928600"/>
            <a:ext cx="9232920" cy="4258440"/>
            <a:chOff x="-27000" y="2928600"/>
            <a:chExt cx="9232920" cy="4258440"/>
          </a:xfrm>
        </p:grpSpPr>
        <p:pic>
          <p:nvPicPr>
            <p:cNvPr id="92" name="Picture 7" descr="lilii"/>
            <p:cNvPicPr/>
            <p:nvPr/>
          </p:nvPicPr>
          <p:blipFill>
            <a:blip r:embed="rId2"/>
            <a:stretch/>
          </p:blipFill>
          <p:spPr>
            <a:xfrm flipH="1" rot="19817400">
              <a:off x="4023720" y="4033440"/>
              <a:ext cx="500364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8" descr="lilii"/>
            <p:cNvPicPr/>
            <p:nvPr/>
          </p:nvPicPr>
          <p:blipFill>
            <a:blip r:embed="rId3"/>
            <a:stretch/>
          </p:blipFill>
          <p:spPr>
            <a:xfrm rot="1446600">
              <a:off x="158760" y="4249440"/>
              <a:ext cx="4644720" cy="1901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чтовая марка СССР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51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00 году Банк России выпустил памятную монету «150-летие со дня рождения С.В. Ковалевск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barbydas.narod.ru/rus/cbr/5110-0034_a.gif"/>
          <p:cNvPicPr/>
          <p:nvPr/>
        </p:nvPicPr>
        <p:blipFill>
          <a:blip r:embed="rId2"/>
          <a:stretch/>
        </p:blipFill>
        <p:spPr>
          <a:xfrm>
            <a:off x="1643040" y="371484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barbydas.narod.ru/rus/cbr/5110-0034_r.gif"/>
          <p:cNvPicPr/>
          <p:nvPr/>
        </p:nvPicPr>
        <p:blipFill>
          <a:blip r:embed="rId3"/>
          <a:stretch/>
        </p:blipFill>
        <p:spPr>
          <a:xfrm>
            <a:off x="5643720" y="371484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357120" y="59292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е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4429080" y="59292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ве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7" descr="150px-Stamp_of_USSR_1635g.jpg"/>
          <p:cNvPicPr/>
          <p:nvPr/>
        </p:nvPicPr>
        <p:blipFill>
          <a:blip r:embed="rId4"/>
          <a:stretch/>
        </p:blipFill>
        <p:spPr>
          <a:xfrm>
            <a:off x="6000840" y="0"/>
            <a:ext cx="13428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7575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6"/>
          <p:cNvSpPr txBox="1"/>
          <p:nvPr/>
        </p:nvSpPr>
        <p:spPr>
          <a:xfrm>
            <a:off x="250920" y="189000"/>
            <a:ext cx="856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ccff"/>
                    </a:gs>
                    <a:gs pos="50000">
                      <a:srgbClr val="000099"/>
                    </a:gs>
                    <a:gs pos="100000">
                      <a:srgbClr val="99cc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ccff"/>
                  </a:gs>
                  <a:gs pos="50000">
                    <a:srgbClr val="000099"/>
                  </a:gs>
                  <a:gs pos="100000">
                    <a:srgbClr val="99cc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07_Sonet_130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7" descr=""/>
          <p:cNvPicPr/>
          <p:nvPr/>
        </p:nvPicPr>
        <p:blipFill>
          <a:blip r:embed="rId2"/>
          <a:stretch/>
        </p:blipFill>
        <p:spPr>
          <a:xfrm>
            <a:off x="1316160" y="1652760"/>
            <a:ext cx="732132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11573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6"/>
          <p:cNvSpPr txBox="1"/>
          <p:nvPr/>
        </p:nvSpPr>
        <p:spPr>
          <a:xfrm>
            <a:off x="250920" y="189000"/>
            <a:ext cx="856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ccff"/>
                    </a:gs>
                    <a:gs pos="50000">
                      <a:srgbClr val="000099"/>
                    </a:gs>
                    <a:gs pos="100000">
                      <a:srgbClr val="99cc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ccff"/>
                  </a:gs>
                  <a:gs pos="50000">
                    <a:srgbClr val="000099"/>
                  </a:gs>
                  <a:gs pos="100000">
                    <a:srgbClr val="99cc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2840040" cy="4508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3143160" y="121428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«…Среди всех наук, открывавших человечеству путь к познанию законов природы, самая могущественная и </a:t>
            </a:r>
            <a:r>
              <a:rPr b="1" lang="ru-RU" sz="3600" spc="-1" strike="noStrike">
                <a:solidFill>
                  <a:srgbClr val="ff00ff"/>
                </a:solidFill>
                <a:latin typeface="Arial Black"/>
              </a:rPr>
              <a:t>самая важная наука – математи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466560" y="4428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 Black"/>
              </a:rPr>
              <a:t>«3 января родилась, 17 – крещена Софья; родители её – Артиллерии полковник Василий Васильевич сын Круковский и законная жена его Елизавета Фёдоров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140360" y="1557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Black"/>
              </a:rPr>
              <a:t>Муж православного исповедания, а жена лютеранс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356000" y="4797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Arial Black"/>
              </a:rPr>
              <a:t>Это был 1850 г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41"/>
          <p:cNvPicPr/>
          <p:nvPr/>
        </p:nvPicPr>
        <p:blipFill>
          <a:blip r:embed="rId1"/>
          <a:stretch/>
        </p:blipFill>
        <p:spPr>
          <a:xfrm>
            <a:off x="5784840" y="2637000"/>
            <a:ext cx="3179880" cy="410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8351_b1256075995"/>
          <p:cNvPicPr/>
          <p:nvPr/>
        </p:nvPicPr>
        <p:blipFill>
          <a:blip r:embed="rId2"/>
          <a:stretch/>
        </p:blipFill>
        <p:spPr>
          <a:xfrm>
            <a:off x="250920" y="2708280"/>
            <a:ext cx="5184720" cy="4033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51"/>
          <p:cNvPicPr/>
          <p:nvPr/>
        </p:nvPicPr>
        <p:blipFill>
          <a:blip r:embed="rId3"/>
          <a:stretch/>
        </p:blipFill>
        <p:spPr>
          <a:xfrm>
            <a:off x="108000" y="115920"/>
            <a:ext cx="2160360" cy="2017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268360" y="-27000"/>
            <a:ext cx="70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Здесь, в Полибино Невельского уезда Витебской губернии провела свое детство Софья Васильевна Ковалев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442"/>
          <p:cNvPicPr/>
          <p:nvPr/>
        </p:nvPicPr>
        <p:blipFill>
          <a:blip r:embed="rId1"/>
          <a:stretch/>
        </p:blipFill>
        <p:spPr>
          <a:xfrm>
            <a:off x="108000" y="260280"/>
            <a:ext cx="4176720" cy="314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39825307"/>
          <p:cNvPicPr/>
          <p:nvPr/>
        </p:nvPicPr>
        <p:blipFill>
          <a:blip r:embed="rId2"/>
          <a:stretch/>
        </p:blipFill>
        <p:spPr>
          <a:xfrm>
            <a:off x="4875120" y="3537000"/>
            <a:ext cx="4089600" cy="30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98649303"/>
          <p:cNvPicPr/>
          <p:nvPr/>
        </p:nvPicPr>
        <p:blipFill>
          <a:blip r:embed="rId3"/>
          <a:stretch/>
        </p:blipFill>
        <p:spPr>
          <a:xfrm>
            <a:off x="108000" y="3557520"/>
            <a:ext cx="4248000" cy="3040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4248000" y="44280"/>
            <a:ext cx="49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Black"/>
              </a:rPr>
              <a:t>С домашним учителем Иосифом Малевичем Соня прошла весь курс мужской гимназии. Именно Малевич отметил у юной Ковалевской литературный талант, но она серьезно увлеклась математ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8000" y="106200"/>
            <a:ext cx="87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Неутолимая жажда знаний подтолкнула Софью к фиктивному браку с молодым ученым Владимиром Ковалевс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4143240" y="4357800"/>
            <a:ext cx="500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Их свадьба состоялась осенью 1868 года. После свадьбы Ковалевские уехали за границу. Только там Соня смогла осуществить свою меч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4920" y="-27000"/>
            <a:ext cx="4826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В июле 1874 года Ковалевская получила степень доктора философии, математических наук и магистра изящных искусств с отлич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0" y="3929040"/>
            <a:ext cx="5429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888 — лауреат премии Бордена Парижской академии наук за открытие третьего классического случая разрешимости задачи о вращении твёрдого тела вокруг неподвижной т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7575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i.jpg"/>
          <p:cNvPicPr/>
          <p:nvPr/>
        </p:nvPicPr>
        <p:blipFill>
          <a:blip r:embed="rId1"/>
          <a:stretch/>
        </p:blipFill>
        <p:spPr>
          <a:xfrm>
            <a:off x="6929280" y="2000160"/>
            <a:ext cx="1884600" cy="2500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840" y="285840"/>
            <a:ext cx="6643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важные исследова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ятся к теории вращения твёрдого тела. Ковалевская открыла третий классический случай разрешимости задачи о вращении твёрдого тела вокруг неподвижной точки. Этим продвинула вперёд решение задачи, начатое Леонардом Эйлером и Ж. Л. Лагранж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ла существование аналитического решения задачи Коши для систем дифференциальных уравнений с частными производными, исследовала задачу Лапласа о равновесии кольца Сатурна, получила второе прибл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ла задачу о приведении некоторого класса абелевых интегралов третьего ранга к эллиптическим интегралам. Работала также в области теории потенциала, математической физ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математических работ Ковалевской наиболее известн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BZ" sz="1800" spc="-1" strike="noStrike">
                <a:solidFill>
                  <a:srgbClr val="000000"/>
                </a:solidFill>
                <a:latin typeface="Arial"/>
              </a:rPr>
              <a:t>Zur Theorie der partiellen Differentialgleichungen» (18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lang="en-BZ" sz="1800" spc="-1" strike="noStrike">
                <a:solidFill>
                  <a:srgbClr val="000000"/>
                </a:solidFill>
                <a:latin typeface="Arial"/>
              </a:rPr>
              <a:t> «Zusätze und Bemerkungen zu Laplace’s Untersuchung über die Gestalt der Saturnsringe» (1885); «Sur une propriété du système d’equations differentielles qui definit la rotation d’un corps solide autour d’un point fix e» (18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8"/>
          <p:cNvSpPr/>
          <p:nvPr/>
        </p:nvSpPr>
        <p:spPr>
          <a:xfrm>
            <a:off x="3059280" y="-27000"/>
            <a:ext cx="60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«Я чувствую, что предназначена служить истине — науке и прокладывать новый путь женщинам, потому что это значит — служить справедливости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нет.wma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409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5:53:37Z</dcterms:created>
  <dc:creator>Тамара</dc:creator>
  <dc:description/>
  <dc:language>en-US</dc:language>
  <cp:lastModifiedBy>Информатика</cp:lastModifiedBy>
  <dcterms:modified xsi:type="dcterms:W3CDTF">2016-04-04T12:43:43Z</dcterms:modified>
  <cp:revision>65</cp:revision>
  <dc:subject/>
  <dc:title>Слайд 1</dc:title>
</cp:coreProperties>
</file>