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wmf" ContentType="image/x-wmf"/>
  <Override PartName="/ppt/media/image1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7.gif" ContentType="image/gif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B32A-71D9-478A-BDFD-BB5E4CCC8D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F15A-3E08-4038-8D94-5B5D17D65D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AF85-4837-4169-BB0D-B8028A96CB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512-4014-423B-804D-EDBE9324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274-3735-4751-A0B9-0AFF2EE0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973-B281-4852-8682-D4D55A9B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200-28DE-436B-BB9D-5112FD98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57C5-F69F-42D5-A2CC-3375256D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CFD5-53AD-48C8-A1BC-A308401D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A1C-48B3-4105-A31B-B7AD5F23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5419-7A40-47F9-9763-65FD2F98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8504-238B-4D5D-A224-0EA29FC6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2CFA-1272-4195-9C8A-0E04A9D2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2741-2FB7-479A-A81C-2487C641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523-9A19-41B1-A5E9-65C71437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EF75-24AF-4D00-B34B-F44E9F71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8CD7-0ADE-4D77-B180-3F306E5A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B459-100E-4E5A-B2CF-F869B85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34D9-68DD-46FA-B46F-28FC7B28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82F7-7E7C-4EAF-B1AF-19C147BB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790C-2204-4637-84BA-CF483C63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1088-F30E-4C74-A036-073B63B5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57AD-6DF7-4D4F-8048-F78D28A0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D6F6-AE06-4B22-AFCB-16101607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537B-0BF9-41EE-A083-7AEA714F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DA5-C02E-4B2E-B7F1-1179393E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3DDE-A189-4C37-9C44-3FA4F523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C929-6890-4A30-80BB-7A40803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A7C6-E2B1-4FAD-8C59-2F18046C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68F1-C7C6-4EBD-A551-B71E097E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CDE4-68DA-4041-9D0B-A0389223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91CD8-454C-424F-9FFE-8E1EE8F3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C5C0B-77AB-4A01-8892-92F9F4D5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61344-E9FA-4A55-9247-CD364039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4D5E-5349-467A-9BF5-CD14A43F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DE6A-BE11-4743-8553-5BBC861F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076-8428-43B8-B387-1EB3A2D5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DDAE-C054-4600-898C-D59317BC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36DE7-3C46-44C2-89EC-7B3FA366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1136-77D1-4C01-8175-B0C0445D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76A5-F52D-45BB-ABAC-A6817A81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5F4F9-593F-48D6-B434-799F50AA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9AF30-C741-4164-BB74-6FAC5837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50F91-B7EF-45E5-B7A6-83846350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C7209-096C-431C-9A12-218E34AE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C303-C9A3-4ABF-96D5-03B2705C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3AF-A1A7-47EE-89B6-7A31AA3B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F3C-A598-44DE-8D89-CBC8F6CC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A8A-0E31-4BD5-B4CB-46C1F04D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9DE-ACDC-4885-8937-34B1598D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260-F8C8-4DA1-8D24-22F3157C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75FD-D046-4644-A1DA-FE0A26E8562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79CC-7785-455C-921C-D4524E313A2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6253-0880-4488-A504-BF2FBA32E12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F051-637B-4EDE-BECC-59C137E158C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Georgia"/>
              </a:rPr>
              <a:t>Зима. Зимние забавы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3" name="Picture 4" descr="BD08808_"/>
          <p:cNvPicPr/>
          <p:nvPr/>
        </p:nvPicPr>
        <p:blipFill>
          <a:blip r:embed="rId1"/>
          <a:stretch/>
        </p:blipFill>
        <p:spPr>
          <a:xfrm>
            <a:off x="1258920" y="1413000"/>
            <a:ext cx="7056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J:\Рисуночки зима\File1246.jpg"/>
          <p:cNvPicPr/>
          <p:nvPr/>
        </p:nvPicPr>
        <p:blipFill>
          <a:blip r:embed="rId1"/>
          <a:stretch/>
        </p:blipFill>
        <p:spPr>
          <a:xfrm>
            <a:off x="1042920" y="1347840"/>
            <a:ext cx="3241800" cy="3749760"/>
          </a:xfrm>
          <a:prstGeom prst="rect">
            <a:avLst/>
          </a:prstGeom>
          <a:ln w="9360">
            <a:solidFill>
              <a:srgbClr val="00153e"/>
            </a:solidFill>
            <a:miter/>
          </a:ln>
        </p:spPr>
      </p:pic>
      <p:sp>
        <p:nvSpPr>
          <p:cNvPr id="205" name=""/>
          <p:cNvSpPr txBox="1"/>
          <p:nvPr/>
        </p:nvSpPr>
        <p:spPr>
          <a:xfrm>
            <a:off x="5714640" y="785520"/>
            <a:ext cx="297180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На морозе не дрожу я,</a:t>
            </a:r>
            <a:br>
              <a:rPr sz="2000"/>
            </a:b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Нос морковкою держу.</a:t>
            </a:r>
            <a:br>
              <a:rPr sz="2000"/>
            </a:b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Только вот без зимней стужи</a:t>
            </a:r>
            <a:br>
              <a:rPr sz="2000"/>
            </a:b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Горько слёзы лью я в лужи,</a:t>
            </a:r>
            <a:br>
              <a:rPr sz="2000"/>
            </a:b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Но не жалуюсь, привык, как зовусь я … Снеговик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J:\Рисуночки зима\File1257.jpg"/>
          <p:cNvPicPr/>
          <p:nvPr/>
        </p:nvPicPr>
        <p:blipFill>
          <a:blip r:embed="rId1"/>
          <a:stretch/>
        </p:blipFill>
        <p:spPr>
          <a:xfrm>
            <a:off x="6072120" y="4572000"/>
            <a:ext cx="2500560" cy="1857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J:\Рисуночки зима\File1257.jpg"/>
          <p:cNvPicPr/>
          <p:nvPr/>
        </p:nvPicPr>
        <p:blipFill>
          <a:blip r:embed="rId2"/>
          <a:stretch/>
        </p:blipFill>
        <p:spPr>
          <a:xfrm>
            <a:off x="6072120" y="4500720"/>
            <a:ext cx="2500560" cy="1857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J:\Рисуночки зима\File1257.jpg"/>
          <p:cNvPicPr/>
          <p:nvPr/>
        </p:nvPicPr>
        <p:blipFill>
          <a:blip r:embed="rId3"/>
          <a:stretch/>
        </p:blipFill>
        <p:spPr>
          <a:xfrm>
            <a:off x="6000840" y="4572000"/>
            <a:ext cx="2500200" cy="1857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9280" y="-863640"/>
          <a:ext cx="8713800" cy="74613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248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48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48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11" name="Picture 3" descr="J:\Рисуночки зима\File1256.jpg"/>
          <p:cNvPicPr/>
          <p:nvPr/>
        </p:nvPicPr>
        <p:blipFill>
          <a:blip r:embed="rId4"/>
          <a:stretch/>
        </p:blipFill>
        <p:spPr>
          <a:xfrm>
            <a:off x="642960" y="398520"/>
            <a:ext cx="2500200" cy="1958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J:\Рисуночки зима\File1256.jpg"/>
          <p:cNvPicPr/>
          <p:nvPr/>
        </p:nvPicPr>
        <p:blipFill>
          <a:blip r:embed="rId5"/>
          <a:stretch/>
        </p:blipFill>
        <p:spPr>
          <a:xfrm>
            <a:off x="6227640" y="2668680"/>
            <a:ext cx="2273400" cy="1689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J:\Рисуночки зима\File1256.jpg"/>
          <p:cNvPicPr/>
          <p:nvPr/>
        </p:nvPicPr>
        <p:blipFill>
          <a:blip r:embed="rId6"/>
          <a:stretch/>
        </p:blipFill>
        <p:spPr>
          <a:xfrm>
            <a:off x="3286080" y="4572000"/>
            <a:ext cx="2293920" cy="1703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J:\Рисуночки зима\File1257.jpg"/>
          <p:cNvPicPr/>
          <p:nvPr/>
        </p:nvPicPr>
        <p:blipFill>
          <a:blip r:embed="rId7"/>
          <a:stretch/>
        </p:blipFill>
        <p:spPr>
          <a:xfrm>
            <a:off x="826920" y="2690640"/>
            <a:ext cx="2244960" cy="1667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J:\Рисуночки зима\File1257.jpg"/>
          <p:cNvPicPr/>
          <p:nvPr/>
        </p:nvPicPr>
        <p:blipFill>
          <a:blip r:embed="rId8"/>
          <a:stretch/>
        </p:blipFill>
        <p:spPr>
          <a:xfrm>
            <a:off x="3419640" y="442800"/>
            <a:ext cx="2509560" cy="1914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J:\Рисуночки\File1241.jpg"/>
          <p:cNvPicPr/>
          <p:nvPr/>
        </p:nvPicPr>
        <p:blipFill>
          <a:blip r:embed="rId9"/>
          <a:stretch/>
        </p:blipFill>
        <p:spPr>
          <a:xfrm>
            <a:off x="6072120" y="341280"/>
            <a:ext cx="2571840" cy="201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J:\Рисуночки\File1241.jpg"/>
          <p:cNvPicPr/>
          <p:nvPr/>
        </p:nvPicPr>
        <p:blipFill>
          <a:blip r:embed="rId10"/>
          <a:stretch/>
        </p:blipFill>
        <p:spPr>
          <a:xfrm>
            <a:off x="3564000" y="2700360"/>
            <a:ext cx="2293920" cy="165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J:\Рисуночки\File1241.jpg"/>
          <p:cNvPicPr/>
          <p:nvPr/>
        </p:nvPicPr>
        <p:blipFill>
          <a:blip r:embed="rId11"/>
          <a:stretch/>
        </p:blipFill>
        <p:spPr>
          <a:xfrm>
            <a:off x="642960" y="4572000"/>
            <a:ext cx="2128680" cy="1677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5"/>
          <p:cNvSpPr/>
          <p:nvPr/>
        </p:nvSpPr>
        <p:spPr>
          <a:xfrm>
            <a:off x="4418640" y="32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:\Рисуночки зима\File1257.jpg"/>
          <p:cNvPicPr/>
          <p:nvPr/>
        </p:nvPicPr>
        <p:blipFill>
          <a:blip r:embed="rId12"/>
          <a:stretch/>
        </p:blipFill>
        <p:spPr>
          <a:xfrm>
            <a:off x="6072120" y="4572000"/>
            <a:ext cx="2244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Monotype Corsiva"/>
              </a:rPr>
              <a:t>Здравствуй, зимушка – зима!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 rot="10800000">
            <a:off x="457200" y="612612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5" descr="RTEmagicC_elka_18"/>
          <p:cNvPicPr/>
          <p:nvPr/>
        </p:nvPicPr>
        <p:blipFill>
          <a:blip r:embed="rId1"/>
          <a:stretch/>
        </p:blipFill>
        <p:spPr>
          <a:xfrm>
            <a:off x="1332000" y="1052640"/>
            <a:ext cx="669744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J:\Рисуночки зима\File1266.jpg"/>
          <p:cNvPicPr/>
          <p:nvPr/>
        </p:nvPicPr>
        <p:blipFill>
          <a:blip r:embed="rId1"/>
          <a:stretch/>
        </p:blipFill>
        <p:spPr>
          <a:xfrm>
            <a:off x="3132000" y="333360"/>
            <a:ext cx="2714760" cy="257184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  <p:pic>
        <p:nvPicPr>
          <p:cNvPr id="225" name="Picture 24" descr="J:\Рисуночки зима\File1255.jpg"/>
          <p:cNvPicPr/>
          <p:nvPr/>
        </p:nvPicPr>
        <p:blipFill>
          <a:blip r:embed="rId2"/>
          <a:stretch/>
        </p:blipFill>
        <p:spPr>
          <a:xfrm>
            <a:off x="6012000" y="357120"/>
            <a:ext cx="2881080" cy="257184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  <p:pic>
        <p:nvPicPr>
          <p:cNvPr id="226" name="Picture 4" descr="J:\Рисуночки зима\File1270.jpg"/>
          <p:cNvPicPr/>
          <p:nvPr/>
        </p:nvPicPr>
        <p:blipFill>
          <a:blip r:embed="rId3"/>
          <a:stretch/>
        </p:blipFill>
        <p:spPr>
          <a:xfrm>
            <a:off x="428760" y="300024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J:\Рисуночки зима\File1272.jpg"/>
          <p:cNvPicPr/>
          <p:nvPr/>
        </p:nvPicPr>
        <p:blipFill>
          <a:blip r:embed="rId4"/>
          <a:stretch/>
        </p:blipFill>
        <p:spPr>
          <a:xfrm>
            <a:off x="214200" y="528624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J:\Рисуночки зима\File1271.jpg"/>
          <p:cNvPicPr/>
          <p:nvPr/>
        </p:nvPicPr>
        <p:blipFill>
          <a:blip r:embed="rId5"/>
          <a:stretch/>
        </p:blipFill>
        <p:spPr>
          <a:xfrm>
            <a:off x="214200" y="4214880"/>
            <a:ext cx="1133640" cy="1201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5" descr="J:\Рисуночки зима\File1262.jpg"/>
          <p:cNvPicPr/>
          <p:nvPr/>
        </p:nvPicPr>
        <p:blipFill>
          <a:blip r:embed="rId6"/>
          <a:stretch/>
        </p:blipFill>
        <p:spPr>
          <a:xfrm>
            <a:off x="2071800" y="3071880"/>
            <a:ext cx="2071440" cy="1682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J:\Рисуночки зима\File1273.jpg"/>
          <p:cNvPicPr/>
          <p:nvPr/>
        </p:nvPicPr>
        <p:blipFill>
          <a:blip r:embed="rId7"/>
          <a:stretch/>
        </p:blipFill>
        <p:spPr>
          <a:xfrm>
            <a:off x="2143080" y="485784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J:\Рисуночки зима\File1264.jpg"/>
          <p:cNvPicPr/>
          <p:nvPr/>
        </p:nvPicPr>
        <p:blipFill>
          <a:blip r:embed="rId8"/>
          <a:stretch/>
        </p:blipFill>
        <p:spPr>
          <a:xfrm>
            <a:off x="4143240" y="4857840"/>
            <a:ext cx="2071800" cy="1643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8" descr="J:\Рисуночки зима\File1247.jpg"/>
          <p:cNvPicPr/>
          <p:nvPr/>
        </p:nvPicPr>
        <p:blipFill>
          <a:blip r:embed="rId9"/>
          <a:stretch/>
        </p:blipFill>
        <p:spPr>
          <a:xfrm>
            <a:off x="4286160" y="307188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File1267"/>
          <p:cNvPicPr/>
          <p:nvPr/>
        </p:nvPicPr>
        <p:blipFill>
          <a:blip r:embed="rId10"/>
          <a:stretch/>
        </p:blipFill>
        <p:spPr>
          <a:xfrm>
            <a:off x="108000" y="333360"/>
            <a:ext cx="2913120" cy="259092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  <p:pic>
        <p:nvPicPr>
          <p:cNvPr id="234" name="Picture 13" descr="J:\File1276.jpg"/>
          <p:cNvPicPr/>
          <p:nvPr/>
        </p:nvPicPr>
        <p:blipFill>
          <a:blip r:embed="rId11"/>
          <a:stretch/>
        </p:blipFill>
        <p:spPr>
          <a:xfrm>
            <a:off x="6286680" y="3143160"/>
            <a:ext cx="27144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41220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Picture 2" descr="J:\Рисуночки зима\File1251.jpg"/>
          <p:cNvPicPr/>
          <p:nvPr/>
        </p:nvPicPr>
        <p:blipFill>
          <a:blip r:embed="rId1"/>
          <a:stretch/>
        </p:blipFill>
        <p:spPr>
          <a:xfrm>
            <a:off x="5000760" y="571680"/>
            <a:ext cx="3286080" cy="2857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J:\Рисуночки\File1237.jpg"/>
          <p:cNvPicPr/>
          <p:nvPr/>
        </p:nvPicPr>
        <p:blipFill>
          <a:blip r:embed="rId2"/>
          <a:stretch/>
        </p:blipFill>
        <p:spPr>
          <a:xfrm>
            <a:off x="1285920" y="3714840"/>
            <a:ext cx="2643120" cy="2557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J:\Рисуночки\File1236.jpg"/>
          <p:cNvPicPr/>
          <p:nvPr/>
        </p:nvPicPr>
        <p:blipFill>
          <a:blip r:embed="rId3"/>
          <a:stretch/>
        </p:blipFill>
        <p:spPr>
          <a:xfrm>
            <a:off x="642960" y="92880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J:\File1274.jpg"/>
          <p:cNvPicPr/>
          <p:nvPr/>
        </p:nvPicPr>
        <p:blipFill>
          <a:blip r:embed="rId4"/>
          <a:stretch/>
        </p:blipFill>
        <p:spPr>
          <a:xfrm>
            <a:off x="4929120" y="3714840"/>
            <a:ext cx="2928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RTEmagicC_elka_22"/>
          <p:cNvPicPr/>
          <p:nvPr/>
        </p:nvPicPr>
        <p:blipFill>
          <a:blip r:embed="rId1"/>
          <a:stretch/>
        </p:blipFill>
        <p:spPr>
          <a:xfrm>
            <a:off x="1058760" y="1123920"/>
            <a:ext cx="2936880" cy="4111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648320" y="714240"/>
            <a:ext cx="403848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Как хороша новогодняя елка, Как нарядилась она, погляди,</a:t>
            </a:r>
            <a:br>
              <a:rPr sz="2800"/>
            </a:b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Платье у елки – зеленого шелку,</a:t>
            </a:r>
            <a:br>
              <a:rPr sz="2800"/>
            </a:b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Яркие бусы горят на груд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Дорогие ребята!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Счастья и Удачи в Новом году!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Monotype Corsiva"/>
              </a:rPr>
              <a:t>Пусть ярко сверкают на    ёлке огн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Monotype Corsiva"/>
              </a:rPr>
              <a:t>Весь год дарит только счастливые дн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309744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1:49:33Z</dcterms:created>
  <dc:creator>Наталия Анатольевна</dc:creator>
  <dc:description/>
  <dc:language>en-US</dc:language>
  <cp:lastModifiedBy>Наталия</cp:lastModifiedBy>
  <dcterms:modified xsi:type="dcterms:W3CDTF">2016-04-21T16:58:52Z</dcterms:modified>
  <cp:revision>32</cp:revision>
  <dc:subject/>
  <dc:title>Зима. Зимние забавы.</dc:title>
</cp:coreProperties>
</file>