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133C-AB2A-49A7-A518-916166F1D5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3229-F34D-4185-B7B4-2735B030DF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73DD-DF2A-4D41-9D12-3D739644BA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731-079F-404D-971F-D0804B3F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C97-068D-4E7F-B697-A326A789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A1B-BCE9-4D81-89FC-13B63908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B088-0B0B-44B3-B686-04E7A0F7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E29E-B0DE-4782-87AB-700E8701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2456-3618-42AC-94DF-83AABB10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F1A6-9113-4E96-B5AD-7D159C04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90C8-0F6C-4D5F-9FE1-33F34440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903F-24B4-44E4-80A8-9B2D927B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4937-9436-4074-A560-3A70C91F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3B0E-E801-43CC-840E-7806DA59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DF39-E7C9-420A-8345-1A9ACF5C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136E-AEB9-4166-9217-1442C0D5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7128-8460-4B35-94E5-447827CE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ECA5-81FE-458B-B8D3-A32548C1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2BFA-12C8-487F-A704-9A12C462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254C-C615-4E45-8D33-FA303F04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A2B7B-EE84-4708-8DDC-2A17065D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F67A8-BA61-4390-9348-9DFB9B01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BA258-0353-4DEE-9333-9706FED2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3D228-7136-4521-B2D8-D2D79852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BC7F3-44E9-4E18-996D-FC883B3F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378C-71B4-4C13-92F7-55B93401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B0035-EBAF-4F4D-A52C-400212C0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3F0A9-BA06-4051-AD02-3F4EF69F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2364A-655C-4BE7-9845-841D095A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E7143-B305-4BCE-AD84-B6BBC4F9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46404-A50E-44D1-9A19-E2DE4E00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FD4B9-2C31-4DF8-87C8-212F8789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61FCE-FC9D-4C73-BEF2-8809B26E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FA823-8393-4302-8814-3A9120C9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E8508-D5D9-4598-8C5B-62577246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54B34-C188-47D4-9A33-A7A1D51D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361A-0E1E-4A5A-84C4-DACFB12D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3FF01-FFE2-4517-9FCE-FC7E1D37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3C7D0-F4F9-411F-BA43-4EA8FF92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E70D1-664A-4731-A571-2A4BB94D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55A82-5582-4824-8B70-B7AE2BCE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40070-F2CD-45EF-AFCA-1775CF74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78B45-3046-4A1A-B58F-AEF4ED67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529E4-D282-4804-8AF0-57E5BDBB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E71C5-C179-4492-B8B8-17757D4E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E2E06-7CFD-41FD-89E1-F4AB8E9B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E15A5-FC7E-42AC-B1ED-078B4A2D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E4C-BE9C-41E1-90E4-858E3A93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51F81-1920-4B58-89DD-EB58FDDA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C5441-7C03-419A-A06C-1A370D16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E3869-74A2-4CDB-B54C-8BBB72E5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9C0E4-13FD-43AC-8E6B-5BA72C14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F3EDD-2E51-41AD-845B-E2177C1A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786C1-EB89-4D2E-99F6-961526C8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93172-5116-4F48-BD0B-D2E8B532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A72CA-45DA-4AA8-A102-BABC15CC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E0F54-2DE0-4F72-A3D6-96DF3B8D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ACEEF-03BF-439F-B820-4D532311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AC2-B77A-40C2-8718-9B9CC432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BA0C0-3E84-49D4-BD25-58B09C2C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AFC1-9C25-458F-A5F3-83E76A1F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050A-7279-4B30-A9A5-0A8F9ADC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D91-6EAF-4E09-9B00-3AC5F2A8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854D-9246-4B1D-A486-E4C41A5F41B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AD2B-1CB8-4578-85D2-BDF8E1CD7EF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442F-9F27-46AB-91D2-AB28A5987A9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0369-932D-4331-A04A-AFAA66E895D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4836-2679-4429-89D6-F47FC416ADE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ая учебная работ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ладших школьников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000" y="1934640"/>
            <a:ext cx="867564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между учащими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средованное руководство деятельностью ученика со стороны учител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 друг с другом               анализ собственны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н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9" name="Прямая со стрелкой 5"/>
          <p:cNvCxnSpPr/>
          <p:nvPr/>
        </p:nvCxnSpPr>
        <p:spPr>
          <a:xfrm>
            <a:off x="5219280" y="3789360"/>
            <a:ext cx="648360" cy="504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Прямая со стрелкой 8"/>
          <p:cNvCxnSpPr/>
          <p:nvPr/>
        </p:nvCxnSpPr>
        <p:spPr>
          <a:xfrm flipH="1">
            <a:off x="3707640" y="3789360"/>
            <a:ext cx="577080" cy="504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Прямая со стрелкой 15"/>
          <p:cNvCxnSpPr/>
          <p:nvPr/>
        </p:nvCxnSpPr>
        <p:spPr>
          <a:xfrm flipV="1">
            <a:off x="4642200" y="4220640"/>
            <a:ext cx="252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20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абота в парах</a:t>
            </a:r>
            <a:br>
              <a:rPr sz="29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78920" y="1052280"/>
            <a:ext cx="5977080" cy="507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умения слушать друго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казывание собственного м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астие в обсуждении за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вноправный диало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ие задавать вопро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атмосферы доверия в пар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тановка доброжела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заимодиктан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один из работающих в паре читает по предложениям текст, другой записывает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следующий ученик читает, а первый записывает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ребята обмениваются тетрадями  и проверяют работы друг друг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далее учащиеся открывают карточки и по ним совместно проверяют второй раз записанный текст;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) работа над ошибк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ры сменного состава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627280" y="1341000"/>
            <a:ext cx="6059520" cy="424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  каждый участник занятий попеременно выступает в роли то «ученика», то «учителя»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)  ближайшая цель « ученика» и « учителя» – учить всему тому, что он знает са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) деятельность каждого участника занятий имеет общественно-полезную окраску, потому что он не только учится, но и обучает други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) основной принцип работы – все по очереди учат каждого и каждый все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)  каждый отвечает не только за свои знания, но также за знания и успехи товарище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) полное совпадение и единство коллективных и  личных интересов: чем лучше и больше я обучаю других, тем больше и лучше знаю с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205272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9"/>
          <p:cNvSpPr/>
          <p:nvPr/>
        </p:nvSpPr>
        <p:spPr>
          <a:xfrm>
            <a:off x="539640" y="3500280"/>
            <a:ext cx="7993080" cy="24498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7"/>
          <p:cNvSpPr/>
          <p:nvPr/>
        </p:nvSpPr>
        <p:spPr>
          <a:xfrm>
            <a:off x="539640" y="1557360"/>
            <a:ext cx="7993080" cy="20160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абота в парах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4360" y="907920"/>
            <a:ext cx="7632720" cy="5950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: «Имя существительное. (Закрепление)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арточка №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 Что обозначают имена существительные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. Какие слова отвечают на вопрос кто? Приведите приме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. Какие слова отвечают на вопрос что? Приведите примеры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 .Выпиши слова, которые отвечают на вопрос кто? Поставь ударен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едведь, малина, лисица, пенал, ученик, завод, дорога, карандаш, заяц, девочк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арточка №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. На какие вопросы отвечают имена существительные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. Приведите три имени существительных, которые отвечают на вопрос кто? Запишите их в первый столби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. Приведите три имени существительных, которые отвечают на вопрос что? Запишите их во второй столбик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. Выпишите из предложений имена существительные. Докажите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шла зима. Мороз сковал землю. Выпал первый снег. Дует холодный ветер. Птицы мерзнут и голодают. Сделай кормушку и подкорми пернатых друзей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ПОЛАГАЕМЫЕ РЕЗУЛЬТАТЫ РАБОТЫ ПО ФОРМИРОВАНИЮ КОММУНИКАТИВНЫХ НАВЫКОВ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57000"/>
            <a:ext cx="8291520" cy="456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По русскому языку учащиеся научат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ладеть диалоговой формой реч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ывать разные мнения и стремиться к координации различных позиций при работе в пар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говариваться и приходить к общему решению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улировать собственное мнение и позицию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давать вопросы, уточняя непонятое в высказывани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декватно использовать речевые средства для решения коммуникативных задач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Учащиеся получат возможность научить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учётом целей коммуникации достаточно точно, последовательно и полно передавать партнёру необходимую информацию как ориентир для построения действ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уществлять взаимный контроль и оказывать в сотрудничестве необходимую взаимопомощь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декватно использовать речь и речевые средства для эффективного решения разнообразных коммуникативных задач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ПОЛАГАЕМЫЕ РЕЗУЛЬТАТЫ РАБОТЫ ПО ФОРМИРОВАНИЮ КОММУНИКАТИВНЫХ НАВЫКОВ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4360" y="1125360"/>
            <a:ext cx="8013600" cy="5183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По литературному чтению учащиеся научатся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ботая в группе учитывать мнения партнёров, отличные от собственных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ргументировать собственную позицию и координировать её с позицией партнёров при выработке решени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очно и последовательно передавать партнёру необходимую информацию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казывать в сотрудничестве необходимую взаимопомощь, осуществлять взаимоконтроль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ладеть диалогической формой речи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рректно строить речь при решении коммуникативных задач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Учащиеся получат возможность научиться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нимать относительность мнений и подходов к решению поставленной проблемы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аключени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2204640"/>
            <a:ext cx="8675640" cy="403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психолого-педагогических исследований, обзор литературы по данному вопросу и опыт использования учебного диалога в учебном процессе позволил выявить и учесть его педагогические возможности в развитии личности обучающегося, раскрыть методологические аспекты теории диалога как средства формирования коммуникативной культуры обучающихс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писок литературы: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.Абасов В. Диалог в учебном процессе // Народное образование. 1993. -№9-10. -С.43-4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Бабанский Ю.К. Избранные педагогические труды / Сост. М.Б.Бабанский. М.: Педагогика, 1989.-560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Беспалько В.П. Слагаемые педагогической технологии. М.: Педагогика. - 1989.- 192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Божович Л.И. Личность и ее формирование в детском возрасте. - М., 1968.- 164с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 Воронина М.П. Диалог на уроке в начальной школе // Начальная школа. – 2004. – № 6. – С. 45-5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. Педагогика: Большая современная энциклопедия / Сост. Е.С. Рапацевич. – Мн.: «Соврем. слово», 2005. – 720 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7. Сериков В.В. Личностно ориентированное образование // Педагогика, 1994. - №5.-С.16-2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8. Тепищина Е.Ю. Диалогизация образовательного процесса как средства активизация познавательной деятельности учащихся // Начальная школа. – 2003. – № 2. – С. 72-7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. Трегубова Г.В. Развитие творческого мышления на уроках русского языка // Начальная школа. – 1995. – № 6. – С. 45-5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0. Якиманская И.С. Разработка технологии личностно-ориентированного обучения // Вопросы психологии. 1995. -№2. - С.32-4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6:08:01Z</dcterms:created>
  <dc:creator>Kirill</dc:creator>
  <dc:description/>
  <dc:language>en-US</dc:language>
  <cp:lastModifiedBy>777</cp:lastModifiedBy>
  <dcterms:modified xsi:type="dcterms:W3CDTF">2014-11-22T12:00:15Z</dcterms:modified>
  <cp:revision>12</cp:revision>
  <dc:subject/>
  <dc:title>РАБОТА В ПАРАХ</dc:title>
</cp:coreProperties>
</file>