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145F-F817-4758-A40C-02932C8624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2F24-F50D-4853-9372-CD3B6757ED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92F1-AF2D-468A-8BF3-67A9FD27ED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87E-FDF1-4928-8800-15455682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4F9-0832-4FA7-B875-7F730BE0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A4C2-0C4E-4416-8569-BCF43B8D8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92A-AA12-4CE8-A2BC-31A5133A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4482-45F3-4F8C-B8D1-382F5938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FC77-075C-4D39-8456-EC7E8588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D28F-9898-4161-A485-88C6E74D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BD0D-545E-4C07-99EC-0DA56A955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A399-7DFD-4D27-933F-269A00AA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60C1-DD17-4B14-905A-97F86C6A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3C95-72CF-4D6F-8BB6-63D0AB1B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625-2212-4F10-B626-44225614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4A42-CE83-4257-A4FB-0ED53167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2AFE3-8B73-45C4-A8D6-1A8EE1B8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72A4-4C53-425E-9DC4-6049EB3E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D504-074E-4EE5-BF2A-94D6BCB2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D899-8B27-4F61-ADC8-1B53AC6A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E1FB1-4AA3-48E2-9D87-A05397D7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E5C3C-62B1-43AD-BF53-C6D06608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6632E-F26B-43E5-9D03-F7A38651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2832A-75FD-4ADC-9A21-54471381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7AE8A-D039-4EC2-9A9D-02349EF8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D85A-27B9-416D-A877-8F47B971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DB643-F42A-4054-93B0-63C3BACF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8BA03-9269-4324-9003-D92C8822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BA2A5-3E07-4324-9AAF-EB636FF7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8CBB9-2E16-42FE-B81A-B7FC30AA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CD11A-03BE-4512-A818-272EDCB4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5E424-F236-4953-A09F-B7817FCD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0E5A4-D9FA-4066-AA87-97703454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E30EE-AFBC-450F-8430-DE7481E4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8D9BA-EE21-4C42-B39B-8D7252F0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34F90-90E2-4F83-A396-EBFE961D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AD03-9441-4D35-A5D5-C57327E2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CD727-22C1-4D5C-9B77-0CFF80CA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E0E6A-BD92-42C3-A8CF-9872B64A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A50AA-C05E-4025-921C-2025A228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AD8C4-FABD-4DFA-B0FD-D6D815F5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05431-D65F-403F-A694-4F72B1E1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9ED52-4674-4096-A4BC-348F1588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9F4B4-092B-4593-91CB-1B217016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BC060-7CE1-4349-ABE3-DC320BB8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0C334-7A2B-497C-B229-C45040AE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6B78B-96B7-42FE-90DC-7C9C9833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9A33-2094-468F-BDE4-B97AB336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789F7-7CBA-4453-B1ED-5B491B1B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E650A-B158-4364-A317-B7B996AC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C41BA-A090-4E1C-91B5-F1C5F6C1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989DF-9B5A-43EA-B28A-B13EAC7C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55C60-F927-4833-A90F-8038A8B8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5A013-DF59-4217-BF3D-369361AC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F94CC-B99B-401C-92BE-51FA3FC9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B3735-D19D-43BA-9EED-BD2C63E8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B18D3-1B70-4F73-B81F-3C030B18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8BEB9-907D-4B34-A839-21B5866C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1A6-DDBF-411B-9638-AE926249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A9017-E108-4F9F-BCAC-4FFC5CC71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7A7F-485B-4D56-99EF-B0D66E8D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C5ED-4E3C-41BC-936C-79768588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32BB-495C-4F60-ACE0-7F7423F3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FD8D-F5CC-409C-8BE0-5AC43F6E1BC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8DC0-44D8-4599-9834-11FC7B88DD7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7752-6073-4DAA-8875-2BCA898F574F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0077-B366-407B-8206-84F9A44EC73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F9B0-0B92-4BDE-AC57-FD57C9E7E77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овая учебная работ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ладших школьников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000" y="1934640"/>
            <a:ext cx="8675640" cy="4389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между учащимис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средованное руководство деятельностью ученика со стороны учител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рудничество друг с другом               анализ собственны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ни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9" name="Прямая со стрелкой 5"/>
          <p:cNvCxnSpPr/>
          <p:nvPr/>
        </p:nvCxnSpPr>
        <p:spPr>
          <a:xfrm>
            <a:off x="5219280" y="3789360"/>
            <a:ext cx="648360" cy="504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Прямая со стрелкой 8"/>
          <p:cNvCxnSpPr/>
          <p:nvPr/>
        </p:nvCxnSpPr>
        <p:spPr>
          <a:xfrm flipH="1">
            <a:off x="3707640" y="3789360"/>
            <a:ext cx="577080" cy="504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Прямая со стрелкой 15"/>
          <p:cNvCxnSpPr/>
          <p:nvPr/>
        </p:nvCxnSpPr>
        <p:spPr>
          <a:xfrm flipV="1">
            <a:off x="4642200" y="4220640"/>
            <a:ext cx="252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209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абота в парах</a:t>
            </a:r>
            <a:br>
              <a:rPr sz="29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78920" y="1052280"/>
            <a:ext cx="5977080" cy="5073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умения слушать друго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сказывание собственного м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астие в обсуждении за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вноправный диалог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мение задавать вопро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ние атмосферы доверия в пар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тановка доброжела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Взаимодиктан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) один из работающих в паре читает по предложениям текст, другой записывает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) следующий ученик читает, а первый записывает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) ребята обмениваются тетрадями  и проверяют работы друг друга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) далее учащиеся открывают карточки и по ним совместно проверяют второй раз записанный текст;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5) работа над ошибкам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ры сменного состава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627280" y="1341000"/>
            <a:ext cx="6059520" cy="4248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  каждый участник занятий попеременно выступает в роли то «ученика», то «учителя»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)  ближайшая цель « ученика» и « учителя» – учить всему тому, что он знает сам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) деятельность каждого участника занятий имеет общественно-полезную окраску, потому что он не только учится, но и обучает други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) основной принцип работы – все по очереди учат каждого и каждый всех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)  каждый отвечает не только за свои знания, но также за знания и успехи товарищей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) полное совпадение и единство коллективных и  личных интересов: чем лучше и больше я обучаю других, тем больше и лучше знаю са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611280" y="2349360"/>
            <a:ext cx="205272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9"/>
          <p:cNvSpPr/>
          <p:nvPr/>
        </p:nvSpPr>
        <p:spPr>
          <a:xfrm>
            <a:off x="539640" y="3500280"/>
            <a:ext cx="7993080" cy="24498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7"/>
          <p:cNvSpPr/>
          <p:nvPr/>
        </p:nvSpPr>
        <p:spPr>
          <a:xfrm>
            <a:off x="539640" y="1557360"/>
            <a:ext cx="7993080" cy="20160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абота в парах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4360" y="907920"/>
            <a:ext cx="7632720" cy="5950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: «Имя существительное. (Закрепление)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арточка №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 Что обозначают имена существительные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. Какие слова отвечают на вопрос кто? Приведите примеры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. Какие слова отвечают на вопрос что? Приведите примеры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 .Выпиши слова, которые отвечают на вопрос кто? Поставь ударен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едведь, малина, лисица, пенал, ученик, завод, дорога, карандаш, заяц, девочк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арточка №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. На какие вопросы отвечают имена существительные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. Приведите три имени существительных, которые отвечают на вопрос кто? Запишите их в первый столбик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. Приведите три имени существительных, которые отвечают на вопрос что? Запишите их во второй столбик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. Выпишите из предложений имена существительные. Докажите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шла зима. Мороз сковал землю. Выпал первый снег. Дует холодный ветер. Птицы мерзнут и голодают. Сделай кормушку и подкорми пернатых друзей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ПОЛАГАЕМЫЕ РЕЗУЛЬТАТЫ РАБОТЫ ПО ФОРМИРОВАНИЮ КОММУНИКАТИВНЫХ НАВЫКОВ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557000"/>
            <a:ext cx="8291520" cy="4568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По русскому языку учащиеся научат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ладеть диалоговой формой реч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читывать разные мнения и стремиться к координации различных позиций при работе в паре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говариваться и приходить к общему решению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улировать собственное мнение и позицию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давать вопросы, уточняя непонятое в высказывании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декватно использовать речевые средства для решения коммуникативных задач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Учащиеся получат возможность научить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учётом целей коммуникации достаточно точно, последовательно и полно передавать партнёру необходимую информацию как ориентир для построения действия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уществлять взаимный контроль и оказывать в сотрудничестве необходимую взаимопомощь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декватно использовать речь и речевые средства для эффективного решения разнообразных коммуникативных задач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8736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ЕДПОЛАГАЕМЫЕ РЕЗУЛЬТАТЫ РАБОТЫ ПО ФОРМИРОВАНИЮ КОММУНИКАТИВНЫХ НАВЫКОВ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4360" y="1125360"/>
            <a:ext cx="8013600" cy="5183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По литературному чтению учащиеся научатся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ботая в группе учитывать мнения партнёров, отличные от собственных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аргументировать собственную позицию и координировать её с позицией партнёров при выработке решения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точно и последовательно передавать партнёру необходимую информацию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казывать в сотрудничестве необходимую взаимопомощь, осуществлять взаимоконтроль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ладеть диалогической формой речи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рректно строить речь при решении коммуникативных задач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Учащиеся получат возможность научиться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нимать относительность мнений и подходов к решению поставленной проблемы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806436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аключение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2204640"/>
            <a:ext cx="8675640" cy="4032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психолого-педагогических исследований, обзор литературы по данному вопросу и опыт использования учебного диалога в учебном процессе позволил выявить и учесть его педагогические возможности в развитии личности обучающегося, раскрыть методологические аспекты теории диалога как средства формирования коммуникативной культуры обучающихс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писок литературы: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.Абасов В. Диалог в учебном процессе // Народное образование. 1993. -№9-10. -С.43-45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Бабанский Ю.К. Избранные педагогические труды / Сост. М.Б.Бабанский. М.: Педагогика, 1989.-560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Беспалько В.П. Слагаемые педагогической технологии. М.: Педагогика. - 1989.- 192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 Божович Л.И. Личность и ее формирование в детском возрасте. - М., 1968.- 164с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 Воронина М.П. Диалог на уроке в начальной школе // Начальная школа. – 2004. – № 6. – С. 45-5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. Педагогика: Большая современная энциклопедия / Сост. Е.С. Рапацевич. – Мн.: «Соврем. слово», 2005. – 720 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7. Сериков В.В. Личностно ориентированное образование // Педагогика, 1994. - №5.-С.16-21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8. Тепищина Е.Ю. Диалогизация образовательного процесса как средства активизация познавательной деятельности учащихся // Начальная школа. – 2003. – № 2. – С. 72-75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9. Трегубова Г.В. Развитие творческого мышления на уроках русского языка // Начальная школа. – 1995. – № 6. – С. 45-50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0. Якиманская И.С. Разработка технологии личностно-ориентированного обучения // Вопросы психологии. 1995. -№2. - С.32-42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9T16:08:01Z</dcterms:created>
  <dc:creator>Kirill</dc:creator>
  <dc:description/>
  <dc:language>en-US</dc:language>
  <cp:lastModifiedBy>777</cp:lastModifiedBy>
  <dcterms:modified xsi:type="dcterms:W3CDTF">2014-11-22T12:00:15Z</dcterms:modified>
  <cp:revision>12</cp:revision>
  <dc:subject/>
  <dc:title>РАБОТА В ПАРАХ</dc:title>
</cp:coreProperties>
</file>