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D591-FA47-4717-889D-AFA46B17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F68A-B3C8-4FFF-8BF6-98B79363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C277-23E4-4ED7-A966-222863D7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94F4-6D96-4C37-9627-E7044F52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00278-7ACA-4C21-9519-F94E3C63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92AA5-31A3-4876-B51A-0C95A963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8DBEC-E5E6-41D9-9DAF-E4ABC58E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B261A-23F8-4DB5-814B-D52AB304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8C8CA-5D82-4E4A-B261-D86E17B9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4B096-AC1C-4879-A489-9277D6C9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777FB-37DC-41A0-9BE4-7D9056D1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7837-C4A3-4E27-AEA0-B924E372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18FB8-8D91-4AE2-B5D6-E100893C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7499D-7E94-4118-A319-53386B8E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32713-CB39-448B-825B-199C9424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CA34E-65D6-4F97-914B-3D422F36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2A68C-DC8A-4C56-9409-F1F4CA462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7132-4CA9-4EEC-8C25-4C07BC46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329A-66D1-4DEF-9F0F-7561696F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0081-2100-4645-A480-88BD6219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F00-FF76-4E2D-92EC-48646B64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3B43-68BA-4503-AC3D-DCE184DD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F8ED-75A5-4AE5-ADDB-9D93A3FB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D56A-2DC3-4FD4-A588-9A3C34A8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799F-7854-4A10-98AB-97E6816C42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A47D-B347-4A36-868B-24A36F25E3E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оздаём волшебство своими рукам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хника «Холодный фарфор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5" descr="Угощайтесь. Земляника из &quot;холодного фарфора&quot; Страна Мастеров"/>
          <p:cNvPicPr/>
          <p:nvPr/>
        </p:nvPicPr>
        <p:blipFill>
          <a:blip r:embed="rId1"/>
          <a:stretch/>
        </p:blipFill>
        <p:spPr>
          <a:xfrm>
            <a:off x="468360" y="4437000"/>
            <a:ext cx="3056040" cy="2292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Ассамбляж - Итог моей поездки &quot; Поиск мастер классов, поделок своими руками и рукоделия на SearchMasterclass.Net"/>
          <p:cNvPicPr/>
          <p:nvPr/>
        </p:nvPicPr>
        <p:blipFill>
          <a:blip r:embed="rId2"/>
          <a:stretch/>
        </p:blipFill>
        <p:spPr>
          <a:xfrm>
            <a:off x="250920" y="260280"/>
            <a:ext cx="2055600" cy="1541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Увлечения с развлечением!!! &quot; Идеи из холодного фарфора. Очень красиво!"/>
          <p:cNvPicPr/>
          <p:nvPr/>
        </p:nvPicPr>
        <p:blipFill>
          <a:blip r:embed="rId3"/>
          <a:stretch/>
        </p:blipFill>
        <p:spPr>
          <a:xfrm>
            <a:off x="6804000" y="3500280"/>
            <a:ext cx="2158920" cy="2971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Мастер класс по лепке розы - Master class"/>
          <p:cNvPicPr/>
          <p:nvPr/>
        </p:nvPicPr>
        <p:blipFill>
          <a:blip r:embed="rId4"/>
          <a:stretch/>
        </p:blipFill>
        <p:spPr>
          <a:xfrm>
            <a:off x="4067280" y="4724280"/>
            <a:ext cx="2342880" cy="1757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2"/>
          <p:cNvSpPr/>
          <p:nvPr/>
        </p:nvSpPr>
        <p:spPr>
          <a:xfrm>
            <a:off x="3419640" y="620640"/>
            <a:ext cx="484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2987640" y="404640"/>
            <a:ext cx="511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БОУ «НОШ п. Центральный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ёдорова Ирина Виталь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чало волшебства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 выглядят цветы мака перед «сушкой» и «покраско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P1010916"/>
          <p:cNvPicPr/>
          <p:nvPr/>
        </p:nvPicPr>
        <p:blipFill>
          <a:blip r:embed="rId1"/>
          <a:stretch/>
        </p:blipFill>
        <p:spPr>
          <a:xfrm>
            <a:off x="-7165800" y="-5356080"/>
            <a:ext cx="4308120" cy="3230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P1010916"/>
          <p:cNvPicPr/>
          <p:nvPr/>
        </p:nvPicPr>
        <p:blipFill>
          <a:blip r:embed="rId2"/>
          <a:stretch/>
        </p:blipFill>
        <p:spPr>
          <a:xfrm>
            <a:off x="250920" y="3068640"/>
            <a:ext cx="4103640" cy="3303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P1010924"/>
          <p:cNvPicPr/>
          <p:nvPr/>
        </p:nvPicPr>
        <p:blipFill>
          <a:blip r:embed="rId3"/>
          <a:srcRect l="-9211" t="-27838" r="0" b="0"/>
          <a:stretch/>
        </p:blipFill>
        <p:spPr>
          <a:xfrm>
            <a:off x="4284720" y="2133720"/>
            <a:ext cx="474660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расота – своими рукам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хнут изделия из «холодного фарфора» примерно сутки. Они получаются довольно прочными, даже при падении не ломаютс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P1010915"/>
          <p:cNvPicPr/>
          <p:nvPr/>
        </p:nvPicPr>
        <p:blipFill>
          <a:blip r:embed="rId1"/>
          <a:stretch/>
        </p:blipFill>
        <p:spPr>
          <a:xfrm>
            <a:off x="250920" y="267336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P1010923"/>
          <p:cNvPicPr/>
          <p:nvPr/>
        </p:nvPicPr>
        <p:blipFill>
          <a:blip r:embed="rId2"/>
          <a:stretch/>
        </p:blipFill>
        <p:spPr>
          <a:xfrm>
            <a:off x="324000" y="4869000"/>
            <a:ext cx="2520720" cy="1892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P1010918"/>
          <p:cNvPicPr/>
          <p:nvPr/>
        </p:nvPicPr>
        <p:blipFill>
          <a:blip r:embed="rId3"/>
          <a:stretch/>
        </p:blipFill>
        <p:spPr>
          <a:xfrm>
            <a:off x="3132000" y="3645000"/>
            <a:ext cx="2808360" cy="210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P1010922"/>
          <p:cNvPicPr/>
          <p:nvPr/>
        </p:nvPicPr>
        <p:blipFill>
          <a:blip r:embed="rId4"/>
          <a:stretch/>
        </p:blipFill>
        <p:spPr>
          <a:xfrm>
            <a:off x="6300720" y="256536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P1010921"/>
          <p:cNvPicPr/>
          <p:nvPr/>
        </p:nvPicPr>
        <p:blipFill>
          <a:blip r:embed="rId5"/>
          <a:stretch/>
        </p:blipFill>
        <p:spPr>
          <a:xfrm>
            <a:off x="6227640" y="478944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ои рабо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обенно хорошо из фарфора получаются флористические компози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P1010526"/>
          <p:cNvPicPr/>
          <p:nvPr/>
        </p:nvPicPr>
        <p:blipFill>
          <a:blip r:embed="rId1"/>
          <a:srcRect l="696" t="2967" r="0" b="5350"/>
          <a:stretch/>
        </p:blipFill>
        <p:spPr>
          <a:xfrm>
            <a:off x="179280" y="2133720"/>
            <a:ext cx="3629160" cy="4464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P1010525"/>
          <p:cNvPicPr/>
          <p:nvPr/>
        </p:nvPicPr>
        <p:blipFill>
          <a:blip r:embed="rId2"/>
          <a:srcRect l="0" t="-1826" r="0" b="0"/>
          <a:stretch/>
        </p:blipFill>
        <p:spPr>
          <a:xfrm>
            <a:off x="4140360" y="2708280"/>
            <a:ext cx="47876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формление интерье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0755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рзайте, пробуйте, творите — сделайте свою жизнь еще интереснее, добавьте яркости и красок. Не говорите, что вы не художник, что у вас ничего не получится. Было бы желание, а способности есть 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аждог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6" descr="P1010544"/>
          <p:cNvPicPr/>
          <p:nvPr/>
        </p:nvPicPr>
        <p:blipFill>
          <a:blip r:embed="rId1"/>
          <a:srcRect l="3011" t="0" r="0" b="0"/>
          <a:stretch/>
        </p:blipFill>
        <p:spPr>
          <a:xfrm>
            <a:off x="179280" y="3357720"/>
            <a:ext cx="2409840" cy="3311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P1010542"/>
          <p:cNvPicPr/>
          <p:nvPr/>
        </p:nvPicPr>
        <p:blipFill>
          <a:blip r:embed="rId2"/>
          <a:srcRect l="0" t="2152" r="0" b="0"/>
          <a:stretch/>
        </p:blipFill>
        <p:spPr>
          <a:xfrm>
            <a:off x="6443640" y="3357720"/>
            <a:ext cx="2538360" cy="3311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P1010543"/>
          <p:cNvPicPr/>
          <p:nvPr/>
        </p:nvPicPr>
        <p:blipFill>
          <a:blip r:embed="rId3"/>
          <a:stretch/>
        </p:blipFill>
        <p:spPr>
          <a:xfrm>
            <a:off x="2916360" y="3716280"/>
            <a:ext cx="324000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емного фантазии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антазируйте, «холодный фарфор» дает неограниченные возможности для творчества. Немного практики, и у вас получатся настоящие произведения искусства!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P1010825"/>
          <p:cNvPicPr/>
          <p:nvPr/>
        </p:nvPicPr>
        <p:blipFill>
          <a:blip r:embed="rId1"/>
          <a:stretch/>
        </p:blipFill>
        <p:spPr>
          <a:xfrm>
            <a:off x="1835280" y="2421000"/>
            <a:ext cx="54370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цепт тест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изготовления подел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18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-160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м потребуетс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0920" indent="-160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тефлоновая сковород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0920" indent="-160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деревянная лопаточк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0920" indent="-160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2 чайные чашки крахмал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0920" indent="-160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2 чайные чашки клея ПВ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0920" indent="-160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15 мл. глицерин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0920" indent="-160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15 мл. детского масл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0920" indent="-160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15 мл. вазели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Холодный фарфор рецепт"/>
          <p:cNvPicPr/>
          <p:nvPr/>
        </p:nvPicPr>
        <p:blipFill>
          <a:blip r:embed="rId1"/>
          <a:srcRect l="-1301" t="0" r="0" b="0"/>
          <a:stretch/>
        </p:blipFill>
        <p:spPr>
          <a:xfrm>
            <a:off x="5508720" y="4581360"/>
            <a:ext cx="3419280" cy="2175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Холодный фарфор рецепт"/>
          <p:cNvPicPr/>
          <p:nvPr/>
        </p:nvPicPr>
        <p:blipFill>
          <a:blip r:embed="rId2"/>
          <a:stretch/>
        </p:blipFill>
        <p:spPr>
          <a:xfrm>
            <a:off x="5796000" y="1268280"/>
            <a:ext cx="29941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риготовление холодного фарфора для лепки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ПОСОБ ПРИГОТОВЛЕНИЯ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ПВА выливаем в емкость и ставим на небольшой огонь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Затем сразу нужно добавить туда крем и быстро перемешать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Добавить глицерин и помешивать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Затем понемногу всыпать крахмал и непрерывно помешивать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 Масса достаточно скоро загустеет, получится комок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. Этот комок нужно выложить с емкости на смазанную кремом поверхность, дать массе немного остыть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7. Вымешиваем до тех пор, пока масса не будет однородно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Еще один рецепт холодного фарфора Farfor Krakelur"/>
          <p:cNvPicPr/>
          <p:nvPr/>
        </p:nvPicPr>
        <p:blipFill>
          <a:blip r:embed="rId1"/>
          <a:stretch/>
        </p:blipFill>
        <p:spPr>
          <a:xfrm>
            <a:off x="108000" y="4437000"/>
            <a:ext cx="2849400" cy="2139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Лепка - Рецепт ХФ рецепт приготовления рисового крахмала сам…"/>
          <p:cNvPicPr/>
          <p:nvPr/>
        </p:nvPicPr>
        <p:blipFill>
          <a:blip r:embed="rId2"/>
          <a:stretch/>
        </p:blipFill>
        <p:spPr>
          <a:xfrm>
            <a:off x="3132000" y="4437000"/>
            <a:ext cx="2881440" cy="2114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Как сделать фарфор в домашних условиях"/>
          <p:cNvPicPr/>
          <p:nvPr/>
        </p:nvPicPr>
        <p:blipFill>
          <a:blip r:embed="rId3"/>
          <a:stretch/>
        </p:blipFill>
        <p:spPr>
          <a:xfrm>
            <a:off x="6156360" y="4437000"/>
            <a:ext cx="2882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зноцветное тест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о любому из рецептов масса получается белая. Поэтому можно добавлять акрил или пищевой краситель (капельку!) в процессе замеса, а можно красить потом. Понятно, что красить большое количество массы нужно в том случае, когда оно предполагается выработаться. Например, зелень для растений. В остальных случаях — красим готовые высохшие издел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Красить их, вернее тонировать, чтобы сохранить характерную полупрозрачность, лучше декоративной косметикой! Сухими пигментами, например, тенями и румяна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Можно использовать гуашевые краски для окрашивания готовых изделий.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5" descr="Рецепт приготовления холодного фарфора для лепки"/>
          <p:cNvPicPr/>
          <p:nvPr/>
        </p:nvPicPr>
        <p:blipFill>
          <a:blip r:embed="rId1"/>
          <a:stretch/>
        </p:blipFill>
        <p:spPr>
          <a:xfrm>
            <a:off x="4427640" y="4005360"/>
            <a:ext cx="4286160" cy="2705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1330681768_1-kopiya"/>
          <p:cNvPicPr/>
          <p:nvPr/>
        </p:nvPicPr>
        <p:blipFill>
          <a:blip r:embed="rId2"/>
          <a:stretch/>
        </p:blipFill>
        <p:spPr>
          <a:xfrm>
            <a:off x="324000" y="4221000"/>
            <a:ext cx="24858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Инструменты для работы с холодным фарфором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3925073_13xolodnyyfarfor (353x266, 29Kb)"/>
          <p:cNvPicPr/>
          <p:nvPr/>
        </p:nvPicPr>
        <p:blipFill>
          <a:blip r:embed="rId1"/>
          <a:stretch/>
        </p:blipFill>
        <p:spPr>
          <a:xfrm>
            <a:off x="250920" y="1700280"/>
            <a:ext cx="3651120" cy="2751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3925073_14xolodnyyfarfor (600x430, 63Kb)"/>
          <p:cNvPicPr/>
          <p:nvPr/>
        </p:nvPicPr>
        <p:blipFill>
          <a:blip r:embed="rId2"/>
          <a:stretch/>
        </p:blipFill>
        <p:spPr>
          <a:xfrm>
            <a:off x="4716360" y="1700280"/>
            <a:ext cx="4176720" cy="273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3925073_12xolodnyyfarfor (556x353, 21Kb)"/>
          <p:cNvPicPr/>
          <p:nvPr/>
        </p:nvPicPr>
        <p:blipFill>
          <a:blip r:embed="rId3"/>
          <a:stretch/>
        </p:blipFill>
        <p:spPr>
          <a:xfrm>
            <a:off x="2340000" y="4653000"/>
            <a:ext cx="38163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еимущества леп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29600" cy="24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имущества лепки цветов и других поделок из холодного фарфора очевидны : он не токсичен и безвреден ,что делает его популярным для занятий лепкой с детьми, очень пластичен, твердеет на воздухе после изготовления поделки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 мнению многих мастеров, холодный фарфор является идеальным материалом, из которого можно лепить самые разные цветы любых размеров. Цветы из холодного фарфора выглядят очень реалистично и используются для декорирования объектов интерьера, фото рамок, шкатулок, женских украшений.  Цветочные композиции из холодного фарфора можно часто встретить на выставках, посвященных декоративно-прикладному искусству. 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дно из важнейших свойств этого материала для мастеров - возможность менять форму лепестков цветка даже после высыхания поделки, так как холодный фарфор чрезвычайно пластичный и прочный . Лепить цветок из мягкого холодного фарфора своими руками легко и просто . Цветы можно окрашивать масляными красками, придавая лепесткам и листикам натуральный цвет, добиваясь естественных переходов и оттенков, что повышает реалистичность поделки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6" descr="цветы из холодного фарфора своими руками - фото и видео"/>
          <p:cNvPicPr/>
          <p:nvPr/>
        </p:nvPicPr>
        <p:blipFill>
          <a:blip r:embed="rId1"/>
          <a:stretch/>
        </p:blipFill>
        <p:spPr>
          <a:xfrm>
            <a:off x="395280" y="3789360"/>
            <a:ext cx="3838680" cy="2843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Композиция цветов их холодного фарфора - FLORITTA.RU - цветы из полимерной глины"/>
          <p:cNvPicPr/>
          <p:nvPr/>
        </p:nvPicPr>
        <p:blipFill>
          <a:blip r:embed="rId2"/>
          <a:stretch/>
        </p:blipFill>
        <p:spPr>
          <a:xfrm>
            <a:off x="4788000" y="3789360"/>
            <a:ext cx="395424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ще простого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жнейшие существа на планете — цветы. И они поддались магии золотых рук. Изделия в технике холодного фарфора заполонили весь мир. А особенно цветы. Потому что только с помощью этого пластичного материала можно передать природную красоту. В плане декора интерьера холодный фарфор сейчас на пике моды. Работы в этой технике уместны в любом интерьере, потому что легко компонуются со всеми возможными стиля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7" descr="Керамическая флористика: цветы ручной работы на вашей свадьбе."/>
          <p:cNvPicPr/>
          <p:nvPr/>
        </p:nvPicPr>
        <p:blipFill>
          <a:blip r:embed="rId1"/>
          <a:stretch/>
        </p:blipFill>
        <p:spPr>
          <a:xfrm>
            <a:off x="2556000" y="3933720"/>
            <a:ext cx="372096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епка цвет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19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пка розы. Отщипывается небольшой кусочек массы и раскатывается в ладонях. Затем разминается, придается нужная форма, лишнее отрезается. С помощью инструмента с круглым наконечником разглаживается край лепестка. Он делается тонким: гораздо тоньше с края, чем в середине. Лепка цветов из холодного фарфора - занятие кропотливое и требующее терп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цветы из холодного фарфора"/>
          <p:cNvPicPr/>
          <p:nvPr/>
        </p:nvPicPr>
        <p:blipFill>
          <a:blip r:embed="rId1"/>
          <a:stretch/>
        </p:blipFill>
        <p:spPr>
          <a:xfrm>
            <a:off x="324000" y="3213000"/>
            <a:ext cx="2879640" cy="2376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лепка цветов из холодного фарфора"/>
          <p:cNvPicPr/>
          <p:nvPr/>
        </p:nvPicPr>
        <p:blipFill>
          <a:blip r:embed="rId2"/>
          <a:stretch/>
        </p:blipFill>
        <p:spPr>
          <a:xfrm>
            <a:off x="5651640" y="4437000"/>
            <a:ext cx="3163680" cy="2146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цветы из холодного фарфора"/>
          <p:cNvPicPr/>
          <p:nvPr/>
        </p:nvPicPr>
        <p:blipFill>
          <a:blip r:embed="rId3"/>
          <a:stretch/>
        </p:blipFill>
        <p:spPr>
          <a:xfrm>
            <a:off x="2987640" y="3860640"/>
            <a:ext cx="28544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5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тебель и листь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бы оформить так называемую зелень, потребуется масса зеленого цвета. Ее можно приобрести, можно в свой фарфор белого цвета добавить немного краски и вымесить до равномерного распределения цвета. Для листиков есть специальные формочки, их можно применить. Раскатывается на досочке, смазанной кремом, пласт толщиной 1 – 1,5 мм. С помощью формочки выдавливаются листики. На них следует сделать насечки и придать вид настоящих, живых листиков. Делая цветы из холодного фарфора, надо запастись и тоненькой проволокой, на которую будет приклеиваться зелень. Проволока оборачивается приготовленной флористической лентой. Кончик смазывается клеем и вдавливается в фарфоровый листик. Излишки клея вытираются салфеткой. Затем лист прикрепляется к стеблю роз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6" descr="холодный фарфор лепка цветов"/>
          <p:cNvPicPr/>
          <p:nvPr/>
        </p:nvPicPr>
        <p:blipFill>
          <a:blip r:embed="rId1"/>
          <a:stretch/>
        </p:blipFill>
        <p:spPr>
          <a:xfrm>
            <a:off x="900000" y="4508640"/>
            <a:ext cx="3097440" cy="2181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холодный фарфор лепка цветов"/>
          <p:cNvPicPr/>
          <p:nvPr/>
        </p:nvPicPr>
        <p:blipFill>
          <a:blip r:embed="rId2"/>
          <a:stretch/>
        </p:blipFill>
        <p:spPr>
          <a:xfrm>
            <a:off x="5219640" y="4437000"/>
            <a:ext cx="3178080" cy="22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4T16:50:05Z</dcterms:created>
  <dc:creator>usr</dc:creator>
  <dc:description/>
  <dc:language>en-US</dc:language>
  <cp:lastModifiedBy>User</cp:lastModifiedBy>
  <dcterms:modified xsi:type="dcterms:W3CDTF">2016-04-22T17:31:36Z</dcterms:modified>
  <cp:revision>7</cp:revision>
  <dc:subject/>
  <dc:title>Создаём волшебство своими руками</dc:title>
</cp:coreProperties>
</file>