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FE9-C972-429E-B6EE-DFEBA3B14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747-F52F-433A-A4E4-2C7F8720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345-0944-4006-8940-ED904DB8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F09-64BF-4ED4-AF51-9AB5E022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D98-4E0F-4C3E-AA7F-D13E2371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03C2-6653-41CA-90DF-2318BCB6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A981-0F9F-4193-A11A-81C727CA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125-CEF4-448D-9D6D-C2FCD1FC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2698-81A8-4B7F-A704-43300EA7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89B-8F5C-469C-9660-EF160637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048-AB15-4E14-8EE5-EBB7F18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E06-8363-4805-8A22-02137C95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49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5181-60B7-4F80-A1FE-7994A1DB38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0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684360" y="206244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53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7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04 км = 104 000 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 1 м 27 см = 127 с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(150 см = 15 дм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250920" y="623160"/>
            <a:ext cx="866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5"/>
          <p:cNvSpPr/>
          <p:nvPr/>
        </p:nvSpPr>
        <p:spPr>
          <a:xfrm>
            <a:off x="250920" y="26028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             I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ая соединительная линия 3"/>
          <p:cNvSpPr/>
          <p:nvPr/>
        </p:nvSpPr>
        <p:spPr>
          <a:xfrm>
            <a:off x="1403280" y="386064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5"/>
          <p:cNvSpPr/>
          <p:nvPr/>
        </p:nvSpPr>
        <p:spPr>
          <a:xfrm>
            <a:off x="140328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6"/>
          <p:cNvSpPr/>
          <p:nvPr/>
        </p:nvSpPr>
        <p:spPr>
          <a:xfrm>
            <a:off x="644364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7"/>
          <p:cNvSpPr/>
          <p:nvPr/>
        </p:nvSpPr>
        <p:spPr>
          <a:xfrm>
            <a:off x="4643280" y="3357720"/>
            <a:ext cx="0" cy="86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8"/>
          <p:cNvSpPr/>
          <p:nvPr/>
        </p:nvSpPr>
        <p:spPr>
          <a:xfrm>
            <a:off x="1569600" y="4005360"/>
            <a:ext cx="555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300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г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1300 – 400 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Левая круглая скобка 12"/>
          <p:cNvSpPr/>
          <p:nvPr/>
        </p:nvSpPr>
        <p:spPr>
          <a:xfrm rot="5400000">
            <a:off x="3526920" y="225000"/>
            <a:ext cx="792360" cy="5040360"/>
          </a:xfrm>
          <a:custGeom>
            <a:avLst/>
            <a:gdLst>
              <a:gd name="textAreaLeft" fmla="*/ 232920 w 792360"/>
              <a:gd name="textAreaRight" fmla="*/ 792720 w 792360"/>
              <a:gd name="textAreaTop" fmla="*/ 32760 h 5040360"/>
              <a:gd name="textAreaBottom" fmla="*/ 5007600 h 50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42"/>
                  <a:pt x="0" y="283"/>
                </a:cubicBezTo>
                <a:lnTo>
                  <a:pt x="0" y="21317"/>
                </a:lnTo>
                <a:cubicBezTo>
                  <a:pt x="0" y="21459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5"/>
          <p:cNvSpPr/>
          <p:nvPr/>
        </p:nvSpPr>
        <p:spPr>
          <a:xfrm>
            <a:off x="250920" y="18900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539640" y="704520"/>
            <a:ext cx="7993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кг 300 г = 13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 130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400 = 900 (г) ― масса второго куска колба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912240" y="2854080"/>
            <a:ext cx="71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 1300 + 900 = 2200 (г) – всего колб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949680" y="3577320"/>
            <a:ext cx="6791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200 г = 2 кг 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обоих кусках 2 кг 200 г колбас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5"/>
          <p:cNvSpPr/>
          <p:nvPr/>
        </p:nvSpPr>
        <p:spPr>
          <a:xfrm>
            <a:off x="250920" y="18900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755640" y="858240"/>
            <a:ext cx="7777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кг 700 г = 17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) 1700 + 500 = 2200 (г) – винограда   купил Вас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2) 2200 + 1700 = 3900 (г) – всего виногра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3900 г = 3 кг 9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30040"/>
                <a:tab algn="l" pos="58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22097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тя и Вася купили 3 кг 900 г виногра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5"/>
          <p:cNvSpPr/>
          <p:nvPr/>
        </p:nvSpPr>
        <p:spPr>
          <a:xfrm>
            <a:off x="250920" y="26028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0" y="235944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(1700 + 500) +1700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= 3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кг 900 г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0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187280" y="1340280"/>
            <a:ext cx="26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1101600"/>
                <a:tab algn="l" pos="2009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  <a:ea typeface="Arial"/>
              </a:rPr>
              <a:t>15 км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24360" y="1341360"/>
            <a:ext cx="26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04b00"/>
                </a:solidFill>
                <a:latin typeface="Arial"/>
                <a:ea typeface="Arial"/>
              </a:rPr>
              <a:t>15 000 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25080" y="2780280"/>
            <a:ext cx="266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1101600"/>
                <a:tab algn="l" pos="2009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  <a:ea typeface="Arial"/>
              </a:rPr>
              <a:t>15 дм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003640" y="2781360"/>
            <a:ext cx="2159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04b00"/>
                </a:solidFill>
                <a:latin typeface="Arial"/>
                <a:ea typeface="Arial"/>
              </a:rPr>
              <a:t>150 с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3278160" y="4042440"/>
            <a:ext cx="235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1101600"/>
                <a:tab algn="l" pos="2009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66"/>
                </a:solidFill>
                <a:latin typeface="Arial"/>
                <a:ea typeface="Arial"/>
              </a:rPr>
              <a:t>15 кг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5580000" y="3789360"/>
            <a:ext cx="1152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e04b00"/>
                </a:solidFill>
                <a:latin typeface="Arial"/>
                <a:ea typeface="Arial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250920" y="486720"/>
            <a:ext cx="866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единица измерения массы, единицы масс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http://evpatoria.80lvl.ru/download/file.php?id=14&amp;sid=28ad06e17e22a3eae768460a6619cad9"/>
          <p:cNvPicPr/>
          <p:nvPr/>
        </p:nvPicPr>
        <p:blipFill>
          <a:blip r:embed="rId1"/>
          <a:stretch/>
        </p:blipFill>
        <p:spPr>
          <a:xfrm>
            <a:off x="3992400" y="3133800"/>
            <a:ext cx="429768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10"/>
          <p:cNvSpPr/>
          <p:nvPr/>
        </p:nvSpPr>
        <p:spPr>
          <a:xfrm>
            <a:off x="0" y="189000"/>
            <a:ext cx="914400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716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 меньшие единицы массы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s://www.colourbox.com/preview/5191237-clever-owl-with-books.jpg"/>
          <p:cNvPicPr/>
          <p:nvPr/>
        </p:nvPicPr>
        <p:blipFill>
          <a:blip r:embed="rId1"/>
          <a:stretch/>
        </p:blipFill>
        <p:spPr>
          <a:xfrm>
            <a:off x="822240" y="396720"/>
            <a:ext cx="28908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8"/>
          <p:cNvSpPr/>
          <p:nvPr/>
        </p:nvSpPr>
        <p:spPr>
          <a:xfrm>
            <a:off x="179280" y="449280"/>
            <a:ext cx="878544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127320" y="620640"/>
            <a:ext cx="24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П</a:t>
            </a:r>
            <a:r>
              <a:rPr b="1" lang="ru-RU" sz="4800" spc="-1" strike="noStrike" u="sng">
                <a:solidFill>
                  <a:srgbClr val="e04b00"/>
                </a:solidFill>
                <a:uFillTx/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л</a:t>
            </a:r>
            <a:r>
              <a:rPr b="1" lang="ru-RU" sz="4800" spc="-1" strike="noStrike" u="sng">
                <a:solidFill>
                  <a:srgbClr val="e04b00"/>
                </a:solidFill>
                <a:uFillTx/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а</a:t>
            </a:r>
            <a:r>
              <a:rPr b="1" lang="ru-RU" sz="4800" spc="-1" strike="noStrike" u="sng">
                <a:solidFill>
                  <a:srgbClr val="e04b00"/>
                </a:solidFill>
                <a:uFillTx/>
                <a:latin typeface="Comic Sans MS"/>
              </a:rPr>
              <a:t> </a:t>
            </a:r>
            <a:r>
              <a:rPr b="1" lang="en-US" sz="4800" spc="-1" strike="noStrike" u="sng">
                <a:solidFill>
                  <a:srgbClr val="e04b00"/>
                </a:solidFill>
                <a:uFillTx/>
                <a:latin typeface="Comic Sans MS"/>
              </a:rPr>
              <a:t>н</a:t>
            </a:r>
            <a:r>
              <a:rPr b="1" lang="en-US" sz="4800" spc="-1" strike="noStrike">
                <a:solidFill>
                  <a:srgbClr val="e04b00"/>
                </a:solidFill>
                <a:latin typeface="Comic Sans MS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140120" y="1989000"/>
            <a:ext cx="487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КИЛОМЕТР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0"/>
          <p:cNvSpPr/>
          <p:nvPr/>
        </p:nvSpPr>
        <p:spPr>
          <a:xfrm>
            <a:off x="1258920" y="1989000"/>
            <a:ext cx="232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3492360" y="1989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Дуга 22"/>
          <p:cNvSpPr/>
          <p:nvPr/>
        </p:nvSpPr>
        <p:spPr>
          <a:xfrm rot="19733400">
            <a:off x="2508120" y="1982520"/>
            <a:ext cx="3444840" cy="244620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236600" y="3645000"/>
            <a:ext cx="542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КИЛОГРА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4"/>
          <p:cNvSpPr/>
          <p:nvPr/>
        </p:nvSpPr>
        <p:spPr>
          <a:xfrm>
            <a:off x="1403280" y="3645000"/>
            <a:ext cx="2222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ая соединительная линия 25"/>
          <p:cNvSpPr/>
          <p:nvPr/>
        </p:nvSpPr>
        <p:spPr>
          <a:xfrm>
            <a:off x="3635280" y="3645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Дуга 26"/>
          <p:cNvSpPr/>
          <p:nvPr/>
        </p:nvSpPr>
        <p:spPr>
          <a:xfrm rot="19733400">
            <a:off x="2289240" y="3579480"/>
            <a:ext cx="4405320" cy="270684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6380640" y="1916280"/>
            <a:ext cx="17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(К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7170120" y="3573360"/>
            <a:ext cx="117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7774f"/>
                </a:solidFill>
                <a:latin typeface="Times New Roman"/>
                <a:ea typeface="Arial"/>
              </a:rPr>
              <a:t>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8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8"/>
          <p:cNvSpPr/>
          <p:nvPr/>
        </p:nvSpPr>
        <p:spPr>
          <a:xfrm>
            <a:off x="179280" y="260280"/>
            <a:ext cx="8785440" cy="6408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2195640" y="3716280"/>
            <a:ext cx="2520720" cy="1008000"/>
          </a:xfrm>
          <a:prstGeom prst="roundRect">
            <a:avLst>
              <a:gd name="adj" fmla="val 36273"/>
            </a:avLst>
          </a:prstGeom>
          <a:solidFill>
            <a:srgbClr val="ffffcc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4859280" y="1413000"/>
            <a:ext cx="1873440" cy="1008000"/>
          </a:xfrm>
          <a:prstGeom prst="roundRect">
            <a:avLst>
              <a:gd name="adj" fmla="val 36273"/>
            </a:avLst>
          </a:prstGeom>
          <a:solidFill>
            <a:srgbClr val="ffffcc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755640" y="1413000"/>
            <a:ext cx="1944720" cy="1008000"/>
          </a:xfrm>
          <a:prstGeom prst="roundRect">
            <a:avLst>
              <a:gd name="adj" fmla="val 36273"/>
            </a:avLst>
          </a:prstGeom>
          <a:solidFill>
            <a:srgbClr val="ffffcc">
              <a:alpha val="8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rcRect l="42618" t="25292" r="21160" b="18168"/>
          <a:stretch/>
        </p:blipFill>
        <p:spPr>
          <a:xfrm>
            <a:off x="5219640" y="2852640"/>
            <a:ext cx="338796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f8649"/>
              </a:solidFill>
              <a:latin typeface="Comic Sans M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447920" y="3962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6"/>
          <p:cNvSpPr/>
          <p:nvPr/>
        </p:nvSpPr>
        <p:spPr>
          <a:xfrm rot="16200000">
            <a:off x="3160440" y="1095120"/>
            <a:ext cx="1022400" cy="3816360"/>
          </a:xfrm>
          <a:custGeom>
            <a:avLst/>
            <a:gdLst>
              <a:gd name="textAreaLeft" fmla="*/ 300600 w 1022400"/>
              <a:gd name="textAreaRight" fmla="*/ 1022760 w 1022400"/>
              <a:gd name="textAreaTop" fmla="*/ 954000 h 3816360"/>
              <a:gd name="textAreaBottom" fmla="*/ 286236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5400"/>
                  <a:pt x="0" y="10800"/>
                </a:cubicBezTo>
                <a:lnTo>
                  <a:pt x="0" y="10800"/>
                </a:lnTo>
                <a:cubicBezTo>
                  <a:pt x="0" y="162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971640" y="1341360"/>
            <a:ext cx="604836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omic Sans MS"/>
                <a:ea typeface="Arial"/>
              </a:rPr>
              <a:t>1 кг          1 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3300"/>
                </a:solidFill>
                <a:latin typeface="Comic Sans MS"/>
                <a:ea typeface="Arial"/>
              </a:rPr>
              <a:t>     </a:t>
            </a:r>
            <a:r>
              <a:rPr b="1" lang="ru-RU" sz="5400" spc="-1" strike="noStrike">
                <a:solidFill>
                  <a:srgbClr val="663300"/>
                </a:solidFill>
                <a:latin typeface="Comic Sans MS"/>
                <a:ea typeface="Arial"/>
              </a:rPr>
              <a:t>10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8"/>
          <p:cNvSpPr/>
          <p:nvPr/>
        </p:nvSpPr>
        <p:spPr>
          <a:xfrm>
            <a:off x="358920" y="449280"/>
            <a:ext cx="878508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00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8 000 г =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 00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1214280" y="1075680"/>
            <a:ext cx="64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 кг =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39 к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47 кг =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6 кг 628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433880" y="5002200"/>
            <a:ext cx="58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9675 г =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14 30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959200" y="14040"/>
            <a:ext cx="322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9675 г = 9 кг 675 г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Calibri"/>
              </a:rPr>
              <a:t>б) 14 300 г = 14 кг 300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5"/>
          <p:cNvSpPr/>
          <p:nvPr/>
        </p:nvSpPr>
        <p:spPr>
          <a:xfrm>
            <a:off x="250920" y="189000"/>
            <a:ext cx="8640720" cy="6408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324000" y="1122840"/>
            <a:ext cx="820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   </a:t>
            </a:r>
            <a:r>
              <a:rPr b="1" i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№ </a:t>
            </a:r>
            <a:r>
              <a:rPr b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4 (а, б), </a:t>
            </a:r>
            <a:r>
              <a:rPr b="1" i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стр. </a:t>
            </a:r>
            <a:r>
              <a:rPr b="1" lang="en-US" sz="5400" spc="-1" strike="noStrike" u="sng">
                <a:solidFill>
                  <a:srgbClr val="27774f"/>
                </a:solidFill>
                <a:uFillTx/>
                <a:latin typeface="Arial"/>
                <a:ea typeface="Arial"/>
              </a:rPr>
              <a:t>101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774f"/>
                </a:solidFill>
                <a:latin typeface="Arial"/>
                <a:ea typeface="Arial"/>
              </a:rPr>
              <a:t>а) 9675 г = 9 кг 675 г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774f"/>
                </a:solidFill>
                <a:latin typeface="Arial"/>
                <a:ea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390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7774f"/>
                </a:solidFill>
                <a:latin typeface="Arial"/>
                <a:ea typeface="Arial"/>
              </a:rPr>
              <a:t>б) 14 300 г = 14 кг 300 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3"/>
          <p:cNvSpPr/>
          <p:nvPr/>
        </p:nvSpPr>
        <p:spPr>
          <a:xfrm>
            <a:off x="179280" y="189000"/>
            <a:ext cx="8785440" cy="6408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60600" y="438840"/>
            <a:ext cx="4462200" cy="2179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№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(2 стр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 в гра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д)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 5 кг 200 г = 5 200 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е)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 5 кг 20 г = 5 020 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ж)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 5 кг 2 г = 5 002 г.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4" descr=""/>
          <p:cNvPicPr/>
          <p:nvPr/>
        </p:nvPicPr>
        <p:blipFill>
          <a:blip r:embed="rId2">
            <a:lum contrast="6000"/>
          </a:blip>
          <a:srcRect l="23424" t="21640" r="31463" b="22235"/>
          <a:stretch/>
        </p:blipFill>
        <p:spPr>
          <a:xfrm>
            <a:off x="5219640" y="1052640"/>
            <a:ext cx="3673440" cy="3024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9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500200" y="4643280"/>
            <a:ext cx="6081840" cy="1838520"/>
          </a:xfrm>
          <a:prstGeom prst="roundRect">
            <a:avLst>
              <a:gd name="adj" fmla="val 22468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№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(в, г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 в килограммах и гра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в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21 060 г = 21 кг 60 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12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г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7004 г = 7 кг 4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71720" y="2714760"/>
            <a:ext cx="4929120" cy="1827000"/>
          </a:xfrm>
          <a:prstGeom prst="roundRect">
            <a:avLst>
              <a:gd name="adj" fmla="val 21231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№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3 (2 строч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ырази в килограмм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г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920 000 г = 920 к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2205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д)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  <a:ea typeface="Arial"/>
              </a:rPr>
              <a:t>1 000 000 г = 1000 к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Харитонова Л.Ю.</dc:creator>
  <dc:description/>
  <dc:language>en-US</dc:language>
  <cp:lastModifiedBy>Надежда</cp:lastModifiedBy>
  <dcterms:modified xsi:type="dcterms:W3CDTF">2015-11-13T04:19:47Z</dcterms:modified>
  <cp:revision>18</cp:revision>
  <dc:subject/>
  <dc:title>PowerPoint Presentation</dc:title>
</cp:coreProperties>
</file>