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9736-9EC6-4E47-AD1B-63858B5ED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E3B0-D8A0-47D0-9CCB-4B61424F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17B1-9E29-4473-B825-2D423BCE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83E2-4B9F-44FF-AE68-DA9C835CD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3416-DA97-4B67-A3F8-47548B59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4887-4786-4C2A-BDAF-D856A33E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CDB8-6421-4E16-A17B-46599E3E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CFD6-CF12-4463-9AE9-082D21C5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AC00-D116-4E45-B3BD-DD2C075E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F0EB-24B2-4B7E-AC12-857601EE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165D-E513-4BAB-BE99-2E038BB7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0E5F-B527-4814-BBA3-D0152A92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1EDD-17B6-408B-903B-29962E0770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 одном изобретателе эпохи Екатерины Вто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дохновенно кто ,  умел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обретателем стал смел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крет английский разгада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сплав готовить для зерк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 в технику был погружён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мастерством вооружё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красно пел, стихи пис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фортепьяно он игр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уки многие пости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в технике высот дости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66960" y="981000"/>
            <a:ext cx="5410080" cy="57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жектору дал прототип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ёл же  знания  из кни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 изготовил водох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запустил на полный х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сы такие смасте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всех в России уди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чь идёт о Кулиби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9640" y="1197000"/>
            <a:ext cx="7848720" cy="39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 в Эрмитаже один з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ранит часы, что он созда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рудился из последних сил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кой театр в часы вместил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лёгкий труд. Но не напрасн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Фигурки двигались прекрас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9T09:36:10Z</dcterms:created>
  <dc:creator>IDIA-LU</dc:creator>
  <dc:description/>
  <dc:language>en-US</dc:language>
  <cp:lastModifiedBy>IDIA-LU</cp:lastModifiedBy>
  <dcterms:modified xsi:type="dcterms:W3CDTF">2016-02-23T14:49:15Z</dcterms:modified>
  <cp:revision>515</cp:revision>
  <dc:subject/>
  <dc:title>Работа Луценко И.В.</dc:title>
</cp:coreProperties>
</file>