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03A-36D5-4486-8AE2-015326D0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044C-6FD4-4766-B400-3ED6032C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6565-2D1A-4970-A188-A552EED80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B6A-3071-4F1F-A6CD-7C81E35A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315-ECEC-4D34-9621-A4EF762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9C2C-172A-4750-A937-63145E13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E4B6-8875-490D-8BF4-8B9617E1C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CB86-1DCD-4505-BBED-8714EE28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A17-6D48-4FA8-8DD7-ADABF944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575-0353-4B05-944B-15D1A10A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731-35FD-48C1-95A1-C3048F43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9AF4-CDA2-4D0B-AD79-9E3091CA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5B7D-01EE-4FB2-B140-58157A3D42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 одном изобретателе эпохи Екатерины Вто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дохновенно кто ,  умел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тателем стал сме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рет английский разгад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сплав готовить для зерк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 в технику был погружён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мастерством вооружё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красно пел, стихи писа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фортепьяно он игр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уки многие пости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 в технике высот дости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866960" y="981000"/>
            <a:ext cx="5410080" cy="57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жектору дал прототип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ёл же  знания  из кни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 изготовил водоход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запустил на полный х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сы такие смастерил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то всех в России удив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чь идёт о Кулиб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9640" y="1197000"/>
            <a:ext cx="7848720" cy="39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 в Эрмитаже один з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ранит часы, что он созда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удился из последних сил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й театр в часы вместил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лёгкий труд. Но не напрас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игурки двигались прекрас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09:36:10Z</dcterms:created>
  <dc:creator>IDIA-LU</dc:creator>
  <dc:description/>
  <dc:language>en-US</dc:language>
  <cp:lastModifiedBy>IDIA-LU</cp:lastModifiedBy>
  <dcterms:modified xsi:type="dcterms:W3CDTF">2016-02-23T14:49:15Z</dcterms:modified>
  <cp:revision>515</cp:revision>
  <dc:subject/>
  <dc:title>Работа Луценко И.В.</dc:title>
</cp:coreProperties>
</file>