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8650-9EC0-4092-A9CF-2678583B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3353-DC8D-4B2C-9D17-9D5312A4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4031-0E74-419B-9EF8-CEB72D02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6732-9757-4AD9-A550-15FDCE3B3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BE11-C71C-400F-914E-BB654058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4D5C-E1A3-4FC8-A245-1E8181C1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894-1AC4-4B27-985B-F5CE5629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0059-8AE0-40B8-969C-518339EF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ACE3-CB4E-48C4-9C03-CCD05C25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0EA8-F62F-4957-8584-1D4B4766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031F-CBBC-438A-A218-C5CF7CA7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110-60D5-45FA-9ED0-EB4AF0EA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CCE5-297D-47F7-83B9-068F182AEF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Documents/&#1055;&#1088;&#1077;&#1079;&#1077;&#1085;&#1090;&#1072;&#1094;&#1080;&#1103;1.pptx" TargetMode="External"/><Relationship Id="rId3" Type="http://schemas.openxmlformats.org/officeDocument/2006/relationships/hyperlink" Target="file:///../Documents/&#1055;&#1088;&#1077;&#1079;&#1077;&#1085;&#1090;&#1072;&#1094;&#1080;&#1103;2.pptx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Шаблон для презентации по химии скачать бесплатн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Users\Пользователь\Desktop\DSCF9275.JPG"/>
          <p:cNvPicPr/>
          <p:nvPr/>
        </p:nvPicPr>
        <p:blipFill>
          <a:blip r:embed="rId2"/>
          <a:stretch/>
        </p:blipFill>
        <p:spPr>
          <a:xfrm>
            <a:off x="2971800" y="3603600"/>
            <a:ext cx="3352680" cy="1000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E:\анимашки\анимашки\bd7290f40478fb57e194a1b64c85e434.gif"/>
          <p:cNvPicPr/>
          <p:nvPr/>
        </p:nvPicPr>
        <p:blipFill>
          <a:blip r:embed="rId3"/>
          <a:stretch/>
        </p:blipFill>
        <p:spPr>
          <a:xfrm>
            <a:off x="2666880" y="2362320"/>
            <a:ext cx="399276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4"/>
          <p:cNvSpPr/>
          <p:nvPr/>
        </p:nvSpPr>
        <p:spPr>
          <a:xfrm>
            <a:off x="3276720" y="1522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2060"/>
                </a:solidFill>
                <a:latin typeface="Arial"/>
              </a:rPr>
              <a:t>тес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463680" y="1627200"/>
            <a:ext cx="2498760" cy="85392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609480" y="16765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ь окисления алюм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7"/>
          <p:cNvSpPr/>
          <p:nvPr/>
        </p:nvSpPr>
        <p:spPr>
          <a:xfrm>
            <a:off x="4495680" y="1676520"/>
            <a:ext cx="838440" cy="76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8"/>
          <p:cNvSpPr/>
          <p:nvPr/>
        </p:nvSpPr>
        <p:spPr>
          <a:xfrm>
            <a:off x="5943600" y="1676520"/>
            <a:ext cx="838080" cy="76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9"/>
          <p:cNvSpPr/>
          <p:nvPr/>
        </p:nvSpPr>
        <p:spPr>
          <a:xfrm>
            <a:off x="7238880" y="1676520"/>
            <a:ext cx="838440" cy="76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4724280" y="1828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6095880" y="18288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7315200" y="1828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5-конечная звезда 13"/>
          <p:cNvSpPr/>
          <p:nvPr/>
        </p:nvSpPr>
        <p:spPr>
          <a:xfrm>
            <a:off x="5943600" y="160020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кругленный прямоугольник 16" descr=""/>
          <p:cNvPicPr/>
          <p:nvPr/>
        </p:nvPicPr>
        <p:blipFill>
          <a:blip r:embed="rId2"/>
          <a:stretch/>
        </p:blipFill>
        <p:spPr>
          <a:xfrm>
            <a:off x="542880" y="2766960"/>
            <a:ext cx="2492280" cy="10130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7"/>
          <p:cNvSpPr/>
          <p:nvPr/>
        </p:nvSpPr>
        <p:spPr>
          <a:xfrm>
            <a:off x="762120" y="28195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юминий проявляет 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18"/>
          <p:cNvSpPr/>
          <p:nvPr/>
        </p:nvSpPr>
        <p:spPr>
          <a:xfrm>
            <a:off x="4114800" y="2971800"/>
            <a:ext cx="1143000" cy="83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19"/>
          <p:cNvSpPr/>
          <p:nvPr/>
        </p:nvSpPr>
        <p:spPr>
          <a:xfrm>
            <a:off x="5562720" y="2971800"/>
            <a:ext cx="1371600" cy="83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20"/>
          <p:cNvSpPr/>
          <p:nvPr/>
        </p:nvSpPr>
        <p:spPr>
          <a:xfrm>
            <a:off x="7162920" y="297180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1"/>
          <p:cNvSpPr/>
          <p:nvPr/>
        </p:nvSpPr>
        <p:spPr>
          <a:xfrm>
            <a:off x="411480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станов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2"/>
          <p:cNvSpPr/>
          <p:nvPr/>
        </p:nvSpPr>
        <p:spPr>
          <a:xfrm>
            <a:off x="571500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исл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3"/>
          <p:cNvSpPr/>
          <p:nvPr/>
        </p:nvSpPr>
        <p:spPr>
          <a:xfrm>
            <a:off x="7391520" y="304812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кислителя и восстанови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5-конечная звезда 24"/>
          <p:cNvSpPr/>
          <p:nvPr/>
        </p:nvSpPr>
        <p:spPr>
          <a:xfrm>
            <a:off x="4191120" y="289548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Скругленный прямоугольник 26" descr=""/>
          <p:cNvPicPr/>
          <p:nvPr/>
        </p:nvPicPr>
        <p:blipFill>
          <a:blip r:embed="rId3"/>
          <a:stretch/>
        </p:blipFill>
        <p:spPr>
          <a:xfrm>
            <a:off x="542880" y="3986280"/>
            <a:ext cx="2492280" cy="1085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7"/>
          <p:cNvSpPr/>
          <p:nvPr/>
        </p:nvSpPr>
        <p:spPr>
          <a:xfrm>
            <a:off x="762120" y="41148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юминий в природе встреч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28"/>
          <p:cNvSpPr/>
          <p:nvPr/>
        </p:nvSpPr>
        <p:spPr>
          <a:xfrm>
            <a:off x="3657600" y="4114800"/>
            <a:ext cx="16765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29"/>
          <p:cNvSpPr/>
          <p:nvPr/>
        </p:nvSpPr>
        <p:spPr>
          <a:xfrm>
            <a:off x="5562720" y="411480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30"/>
          <p:cNvSpPr/>
          <p:nvPr/>
        </p:nvSpPr>
        <p:spPr>
          <a:xfrm>
            <a:off x="7238880" y="411480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1"/>
          <p:cNvSpPr/>
          <p:nvPr/>
        </p:nvSpPr>
        <p:spPr>
          <a:xfrm>
            <a:off x="3657600" y="4191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лько в соедин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2"/>
          <p:cNvSpPr/>
          <p:nvPr/>
        </p:nvSpPr>
        <p:spPr>
          <a:xfrm>
            <a:off x="5638680" y="41911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лько в чистом в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3"/>
          <p:cNvSpPr/>
          <p:nvPr/>
        </p:nvSpPr>
        <p:spPr>
          <a:xfrm>
            <a:off x="7238880" y="4267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оединениях и чистом в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5-конечная звезда 34"/>
          <p:cNvSpPr/>
          <p:nvPr/>
        </p:nvSpPr>
        <p:spPr>
          <a:xfrm>
            <a:off x="3962520" y="411480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Скругленный прямоугольник 35" descr=""/>
          <p:cNvPicPr/>
          <p:nvPr/>
        </p:nvPicPr>
        <p:blipFill>
          <a:blip r:embed="rId4"/>
          <a:stretch/>
        </p:blipFill>
        <p:spPr>
          <a:xfrm>
            <a:off x="542880" y="5353200"/>
            <a:ext cx="2492280" cy="13287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6"/>
          <p:cNvSpPr/>
          <p:nvPr/>
        </p:nvSpPr>
        <p:spPr>
          <a:xfrm>
            <a:off x="609480" y="55627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имическая активность алюм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38"/>
          <p:cNvSpPr/>
          <p:nvPr/>
        </p:nvSpPr>
        <p:spPr>
          <a:xfrm>
            <a:off x="3809880" y="57150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39"/>
          <p:cNvSpPr/>
          <p:nvPr/>
        </p:nvSpPr>
        <p:spPr>
          <a:xfrm>
            <a:off x="5867280" y="571500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40"/>
          <p:cNvSpPr/>
          <p:nvPr/>
        </p:nvSpPr>
        <p:spPr>
          <a:xfrm>
            <a:off x="7620120" y="571500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1"/>
          <p:cNvSpPr/>
          <p:nvPr/>
        </p:nvSpPr>
        <p:spPr>
          <a:xfrm>
            <a:off x="3962520" y="5791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з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2"/>
          <p:cNvSpPr/>
          <p:nvPr/>
        </p:nvSpPr>
        <p:spPr>
          <a:xfrm>
            <a:off x="5943600" y="5867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3"/>
          <p:cNvSpPr/>
          <p:nvPr/>
        </p:nvSpPr>
        <p:spPr>
          <a:xfrm>
            <a:off x="7696080" y="5867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о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5-конечная звезда 44"/>
          <p:cNvSpPr/>
          <p:nvPr/>
        </p:nvSpPr>
        <p:spPr>
          <a:xfrm>
            <a:off x="7924680" y="55627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Шаблон для презентации по химии скачать бесплатн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5" descr=""/>
          <p:cNvPicPr/>
          <p:nvPr/>
        </p:nvPicPr>
        <p:blipFill>
          <a:blip r:embed="rId2"/>
          <a:stretch/>
        </p:blipFill>
        <p:spPr>
          <a:xfrm>
            <a:off x="500040" y="1268280"/>
            <a:ext cx="783900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Шаблон для презентации по химии скачать бесплатн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7" name="TextBox 4"/>
          <p:cNvGrpSpPr/>
          <p:nvPr/>
        </p:nvGrpSpPr>
        <p:grpSpPr>
          <a:xfrm>
            <a:off x="1785960" y="92160"/>
            <a:ext cx="6059520" cy="1303200"/>
            <a:chOff x="1785960" y="92160"/>
            <a:chExt cx="6059520" cy="1303200"/>
          </a:xfrm>
        </p:grpSpPr>
        <p:pic>
          <p:nvPicPr>
            <p:cNvPr id="48" name="TextBox 4" descr=""/>
            <p:cNvPicPr/>
            <p:nvPr/>
          </p:nvPicPr>
          <p:blipFill>
            <a:blip r:embed="rId2"/>
            <a:stretch/>
          </p:blipFill>
          <p:spPr>
            <a:xfrm>
              <a:off x="1785960" y="92160"/>
              <a:ext cx="6059520" cy="13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209680" y="304920"/>
              <a:ext cx="5562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ffffff"/>
                  </a:solidFill>
                  <a:latin typeface="Arial"/>
                </a:rPr>
                <a:t>вопрос - ответ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Box 6"/>
          <p:cNvSpPr/>
          <p:nvPr/>
        </p:nvSpPr>
        <p:spPr>
          <a:xfrm>
            <a:off x="2057400" y="1523880"/>
            <a:ext cx="3200400" cy="1557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юминий металл?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5943600" y="1600200"/>
            <a:ext cx="1828800" cy="3682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057400" y="2133720"/>
            <a:ext cx="3200400" cy="8254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юминий жёлтого цве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5943600" y="2362320"/>
            <a:ext cx="1905120" cy="3682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2133720" y="3124080"/>
            <a:ext cx="3124080" cy="8254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юминий лёгкий метал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5943600" y="3200400"/>
            <a:ext cx="1905120" cy="3682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3"/>
          <p:cNvSpPr/>
          <p:nvPr/>
        </p:nvSpPr>
        <p:spPr>
          <a:xfrm>
            <a:off x="2133720" y="4114800"/>
            <a:ext cx="3124080" cy="11912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юминий можно растворить в кисло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4"/>
          <p:cNvSpPr/>
          <p:nvPr/>
        </p:nvSpPr>
        <p:spPr>
          <a:xfrm>
            <a:off x="6019920" y="4495680"/>
            <a:ext cx="1828800" cy="3682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1828800" y="5410080"/>
            <a:ext cx="3657600" cy="11912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юминий можно использовать для производства посу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6"/>
          <p:cNvSpPr/>
          <p:nvPr/>
        </p:nvSpPr>
        <p:spPr>
          <a:xfrm>
            <a:off x="6095880" y="5867280"/>
            <a:ext cx="1905120" cy="3682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.           Н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Шаблон для презентации по химии скачать бесплатн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1" name="TextBox 4"/>
          <p:cNvGrpSpPr/>
          <p:nvPr/>
        </p:nvGrpSpPr>
        <p:grpSpPr>
          <a:xfrm>
            <a:off x="1566720" y="878040"/>
            <a:ext cx="6907320" cy="4359240"/>
            <a:chOff x="1566720" y="878040"/>
            <a:chExt cx="6907320" cy="4359240"/>
          </a:xfrm>
        </p:grpSpPr>
        <p:pic>
          <p:nvPicPr>
            <p:cNvPr id="62" name="TextBox 4" descr=""/>
            <p:cNvPicPr/>
            <p:nvPr/>
          </p:nvPicPr>
          <p:blipFill>
            <a:blip r:embed="rId2"/>
            <a:stretch/>
          </p:blipFill>
          <p:spPr>
            <a:xfrm>
              <a:off x="1566720" y="878040"/>
              <a:ext cx="6907320" cy="435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981080" y="1143000"/>
              <a:ext cx="617220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Можно ли готовить пищу в алюминиевой посуде?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Шаблон для презентации по химии скачать бесплатн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99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137124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алюминия в ПСХЭ, строение ато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ческие свойства алюми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свойства алюми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юминий в при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Шаблон для презентации по химии скачать бесплатно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TextBox 4"/>
          <p:cNvSpPr/>
          <p:nvPr/>
        </p:nvSpPr>
        <p:spPr>
          <a:xfrm>
            <a:off x="1066680" y="22860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руппа. Положение алюминия в ПСХЭ, строение ат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962520" y="228600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3505320" y="2286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358128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5562720" y="28195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 период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А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0"/>
          <p:cNvSpPr/>
          <p:nvPr/>
        </p:nvSpPr>
        <p:spPr>
          <a:xfrm>
            <a:off x="3657600" y="4419720"/>
            <a:ext cx="4419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13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 )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 8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.О.  +3  восстанов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Шаблон для презентации по химии скачать бесплатн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1295280" y="2286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группа. Физические свойства алюми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1447920" y="914400"/>
            <a:ext cx="670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сталлическая решёт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металл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вет –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ебристо – 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тность -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ёгкий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2,702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 к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.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легкоплавкий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. 660 г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стичность –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стичный, уступает     только зол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ктро- и теплопровод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Шаблон для презентации по химии скачать бесплатн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1219320" y="3049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группа. Химические свойства алюми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4191120" y="914400"/>
            <a:ext cx="144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7"/>
          <p:cNvCxnSpPr/>
          <p:nvPr/>
        </p:nvCxnSpPr>
        <p:spPr>
          <a:xfrm flipH="1">
            <a:off x="3428640" y="2438280"/>
            <a:ext cx="534240" cy="6105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Прямая со стрелкой 9"/>
          <p:cNvCxnSpPr/>
          <p:nvPr/>
        </p:nvCxnSpPr>
        <p:spPr>
          <a:xfrm>
            <a:off x="5181480" y="2438280"/>
            <a:ext cx="534240" cy="6105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TextBox 11"/>
          <p:cNvSpPr/>
          <p:nvPr/>
        </p:nvSpPr>
        <p:spPr>
          <a:xfrm>
            <a:off x="1371600" y="2971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ые в-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5410080" y="3048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ые в-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1447920" y="3581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немет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5562720" y="3657600"/>
            <a:ext cx="289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кислоты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щёл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оксиды мет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р-ры со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3276720" y="2057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осстанов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3733920" y="2666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.О. 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Шаблон для презентации по химии скачать бесплатн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1066680" y="380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уппа. Алюминий в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Диаграмма 5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743200" cy="220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380880" y="1219320"/>
          <a:ext cx="6172200" cy="3576600"/>
        </p:xfrm>
        <a:graphic>
          <a:graphicData uri="http://schemas.openxmlformats.org/drawingml/2006/table">
            <a:tbl>
              <a:tblPr/>
              <a:tblGrid>
                <a:gridCol w="3086280"/>
                <a:gridCol w="3085920"/>
              </a:tblGrid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ел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a K)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Al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SiO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ол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3N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кси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H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ол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SiO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H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инозё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SiO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H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CaCO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CO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4-11T11:56:01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