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A1A-FDB6-4646-9363-D82C27C7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9CA-60B7-4308-B3BD-62BFDAEA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431-833A-4CA6-A14A-6C43C6CA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DA3-8488-4109-B9C5-7BEFB18E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96F-33B0-4814-BC24-3471BFF8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A88-BF09-4A9F-8AF9-7384D74D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8AD-8475-4C6D-8FFC-9713C616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33B-6619-4E2F-821F-5757B7DA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99C-5634-4EE2-9D15-59814ED8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3A8-690A-400B-99AD-FEF8657C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51D-118F-42CD-A218-39BDAA72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B7E-EFB2-411D-AB99-1996EB60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7943-DFE1-4DED-A813-702FB0CC2B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Monotype Corsiva"/>
              </a:rPr>
              <a:t>Математический ерала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Times New Roman"/>
              </a:rPr>
              <a:t>ГБОУ ООШ с. Сухие Авр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Times New Roman"/>
              </a:rPr>
              <a:t>2014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 №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уда мы идем, придем куд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знаем сами никогд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 к другу мы стремимся вечн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две сестры, бок о бок мы идё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 под прямым углом, прямая рассека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ё отрезок слиться нам меша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му везде одна и та же мер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сократит её нам силы не да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1403280" y="5516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араллельные прям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№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3348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встречаются прямы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гда я буду между ни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771640" y="3429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Уго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 №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ую площадь я измерить рад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дь у меня четыре сторон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у меня равны диагона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лы они мне делят попол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298764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 №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ность вы нарисова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ней две точки разных взя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езком их соедини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му название вы да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езок именуют горд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дь он не что — нибудь, а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998720" y="53323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ор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Разгадайте  реб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http://player.myshared.ru/47023/data/images/img30.jpg"/>
          <p:cNvPicPr/>
          <p:nvPr/>
        </p:nvPicPr>
        <p:blipFill>
          <a:blip r:embed="rId1"/>
          <a:stretch/>
        </p:blipFill>
        <p:spPr>
          <a:xfrm>
            <a:off x="324000" y="1484280"/>
            <a:ext cx="2914560" cy="2295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player.myshared.ru/47023/data/images/img33.jpg"/>
          <p:cNvPicPr/>
          <p:nvPr/>
        </p:nvPicPr>
        <p:blipFill>
          <a:blip r:embed="rId2"/>
          <a:stretch/>
        </p:blipFill>
        <p:spPr>
          <a:xfrm>
            <a:off x="4932360" y="1484280"/>
            <a:ext cx="3076560" cy="235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player.myshared.ru/47023/data/images/img32.jpg"/>
          <p:cNvPicPr/>
          <p:nvPr/>
        </p:nvPicPr>
        <p:blipFill>
          <a:blip r:embed="rId3"/>
          <a:stretch/>
        </p:blipFill>
        <p:spPr>
          <a:xfrm>
            <a:off x="539640" y="4005360"/>
            <a:ext cx="3076560" cy="2390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player.myshared.ru/47023/data/images/img26.jpg"/>
          <p:cNvPicPr/>
          <p:nvPr/>
        </p:nvPicPr>
        <p:blipFill>
          <a:blip r:embed="rId4"/>
          <a:stretch/>
        </p:blipFill>
        <p:spPr>
          <a:xfrm>
            <a:off x="4572000" y="3957480"/>
            <a:ext cx="31431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оверь точность глазомер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242100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мерить 30 см на глаз.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то точне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Каждой   руке  -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вое   дело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204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ая  рука  чертит окружность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левая – треугольни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"/>
          <p:cNvSpPr/>
          <p:nvPr/>
        </p:nvSpPr>
        <p:spPr>
          <a:xfrm>
            <a:off x="476280" y="4437000"/>
            <a:ext cx="1800360" cy="180036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 rot="7959000">
            <a:off x="3599280" y="5055120"/>
            <a:ext cx="1944720" cy="2016000"/>
          </a:xfrm>
          <a:prstGeom prst="rtTriangl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6208560" y="3573360"/>
            <a:ext cx="2934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mg_957c2e782934944233c4c01f5bac086e"/>
          <p:cNvPicPr/>
          <p:nvPr/>
        </p:nvPicPr>
        <p:blipFill>
          <a:blip r:embed="rId1"/>
          <a:stretch/>
        </p:blipFill>
        <p:spPr>
          <a:xfrm>
            <a:off x="5334120" y="209556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11118"/>
          <p:cNvPicPr/>
          <p:nvPr/>
        </p:nvPicPr>
        <p:blipFill>
          <a:blip r:embed="rId2"/>
          <a:stretch/>
        </p:blipFill>
        <p:spPr>
          <a:xfrm>
            <a:off x="609480" y="380880"/>
            <a:ext cx="279720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WordArt 7"/>
          <p:cNvSpPr txBox="1"/>
          <p:nvPr/>
        </p:nvSpPr>
        <p:spPr>
          <a:xfrm rot="20475000">
            <a:off x="247320" y="1214280"/>
            <a:ext cx="8229600" cy="308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гадай Фокус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12"/>
          <p:cNvSpPr txBox="1"/>
          <p:nvPr/>
        </p:nvSpPr>
        <p:spPr>
          <a:xfrm>
            <a:off x="3048120" y="3200400"/>
            <a:ext cx="21333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ай число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бавь это ж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множь на 4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дели на первое задуманно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училось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2700360" y="5300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Занимательные вопрос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Сколько получится десятков, если к 2 десяткам прибавить 2 десят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Сколько будет пять в квадрате, шесть в квадрате, семь в квадрате,  угол в квадрате? 3.Какое число надо разделить на два, чтобы получить четыр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ему равно произведение всех целых чисел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Конкурс пантомим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участник для своей команды жестами объясняет  математическое понятие по выбранной карточке, а команда в течении 1 мин старается угадать правильный отв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Какое число делится на все числа без остат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В одной семье 2 отца и 2 сына. Сколько это человек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. Одно яйцо варят 5 минут. Сколько времени надо варить 5 яи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.Какие часы показывают верное время 2 раза в сутк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.Мотоциклист ехал в поселок. По дороге он встретил 3 легковые машины и грузовик. Сколько машин шло в посёлок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.Написать сухая трава четырьмя буквам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оставьте скобки чтобы равенство было верны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1 : 8 – 5 • 2 + 6 : 3 =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Решите анаграмму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) РИПЕТ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) БОДЬ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Заполните пустые клетки квадрата, вписав 1, 2, 3, 4 так, чтобы по горизонтали и по вертикали не было одинаковых цифр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032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“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онкурс капитанов”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за одну минуту сосчитает больше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5" descr="http://festival.1september.ru/articles/314402/image1.gif"/>
          <p:cNvPicPr/>
          <p:nvPr/>
        </p:nvPicPr>
        <p:blipFill>
          <a:blip r:embed="rId1"/>
          <a:stretch/>
        </p:blipFill>
        <p:spPr>
          <a:xfrm>
            <a:off x="826920" y="1773360"/>
            <a:ext cx="756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 №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невидимка. В этом моя суть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тя меня нельзя измери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только я ничтожна и ма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всё собранье я могу увери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геометрии я пользу принесл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ух линий я пересечень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у всегда вершиною угл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832920" y="5626080"/>
            <a:ext cx="13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оч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Огурешникова</cp:lastModifiedBy>
  <dcterms:modified xsi:type="dcterms:W3CDTF">2014-02-03T08:27:57Z</dcterms:modified>
  <cp:revision>68</cp:revision>
  <dc:subject/>
  <dc:title>Слайд 1</dc:title>
</cp:coreProperties>
</file>