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2055-717C-475C-BF57-B053E537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3FF8-A6FA-46A3-99EB-2C005350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01E-1FDB-4AB3-B56B-42898069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024-481F-406E-80B0-2F49971B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E486-DA6C-4919-8875-E56F0140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D20-41BF-4BBD-8A6C-2632CE8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25E5-5334-4B41-8921-003D5A35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245-BC95-41FF-8F17-62BCCD77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5AD-3222-4668-A950-A49261CA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2FCE-9052-41C1-98F2-4B25A5A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122-16F8-42EC-9E12-9AE653C7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B3A-1160-4662-AE5C-B7106F2F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D3F1-AC1A-49BC-8328-7B753DA58B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561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Monotype Corsiva"/>
              </a:rPr>
              <a:t>Математический ералаш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076280"/>
            <a:ext cx="481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Times New Roman"/>
              </a:rPr>
              <a:t>ГБОУ ООШ с. Сухие Авра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Times New Roman"/>
              </a:rPr>
              <a:t>2014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гадка №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уда мы идем, придем куда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знаем сами никогд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руг к другу мы стремимся вечно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две сестры, бок о бок мы идё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 под прямым углом, прямая рассекае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ё отрезок слиться нам мешае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му везде одна и та же мера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сократит её нам силы не дано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1403280" y="551664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араллельные прямы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гадка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№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33480" y="1413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гда встречаются прямы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гда я буду между ни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2771640" y="3429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Уго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гадка №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ую площадь я измерить рад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дь у меня четыре сторон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у меня равны диагона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лы они мне делят попол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2987640" y="414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Квадра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гадка №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ружность вы нарисова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ней две точки разных взял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езком их соедини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му название вы дал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езок именуют гордо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дь он не что — нибудь, а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998720" y="53323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Хор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Разгадайте  ребу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http://player.myshared.ru/47023/data/images/img30.jpg"/>
          <p:cNvPicPr/>
          <p:nvPr/>
        </p:nvPicPr>
        <p:blipFill>
          <a:blip r:embed="rId1"/>
          <a:stretch/>
        </p:blipFill>
        <p:spPr>
          <a:xfrm>
            <a:off x="324000" y="1484280"/>
            <a:ext cx="2914560" cy="2295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player.myshared.ru/47023/data/images/img33.jpg"/>
          <p:cNvPicPr/>
          <p:nvPr/>
        </p:nvPicPr>
        <p:blipFill>
          <a:blip r:embed="rId2"/>
          <a:stretch/>
        </p:blipFill>
        <p:spPr>
          <a:xfrm>
            <a:off x="4932360" y="1484280"/>
            <a:ext cx="3076560" cy="2352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http://player.myshared.ru/47023/data/images/img32.jpg"/>
          <p:cNvPicPr/>
          <p:nvPr/>
        </p:nvPicPr>
        <p:blipFill>
          <a:blip r:embed="rId3"/>
          <a:stretch/>
        </p:blipFill>
        <p:spPr>
          <a:xfrm>
            <a:off x="539640" y="4005360"/>
            <a:ext cx="3076560" cy="2390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player.myshared.ru/47023/data/images/img26.jpg"/>
          <p:cNvPicPr/>
          <p:nvPr/>
        </p:nvPicPr>
        <p:blipFill>
          <a:blip r:embed="rId4"/>
          <a:stretch/>
        </p:blipFill>
        <p:spPr>
          <a:xfrm>
            <a:off x="4572000" y="3957480"/>
            <a:ext cx="31431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оверь точность глазомера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Прямоугольник 2"/>
          <p:cNvSpPr/>
          <p:nvPr/>
        </p:nvSpPr>
        <p:spPr>
          <a:xfrm>
            <a:off x="755640" y="2421000"/>
            <a:ext cx="74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мерить 30 см на глаз.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то точне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гр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Каждой   руке  - 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свое   дело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204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авая  рука  чертит окружность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левая – треугольник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"/>
          <p:cNvSpPr/>
          <p:nvPr/>
        </p:nvSpPr>
        <p:spPr>
          <a:xfrm>
            <a:off x="476280" y="4437000"/>
            <a:ext cx="1800360" cy="180036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 rot="7959000">
            <a:off x="3599280" y="5055120"/>
            <a:ext cx="1944720" cy="2016000"/>
          </a:xfrm>
          <a:prstGeom prst="rtTriangl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6208560" y="3573360"/>
            <a:ext cx="2934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136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mg_957c2e782934944233c4c01f5bac086e"/>
          <p:cNvPicPr/>
          <p:nvPr/>
        </p:nvPicPr>
        <p:blipFill>
          <a:blip r:embed="rId1"/>
          <a:stretch/>
        </p:blipFill>
        <p:spPr>
          <a:xfrm>
            <a:off x="5334120" y="2095560"/>
            <a:ext cx="3809880" cy="476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11118"/>
          <p:cNvPicPr/>
          <p:nvPr/>
        </p:nvPicPr>
        <p:blipFill>
          <a:blip r:embed="rId2"/>
          <a:stretch/>
        </p:blipFill>
        <p:spPr>
          <a:xfrm>
            <a:off x="609480" y="380880"/>
            <a:ext cx="2797200" cy="2971800"/>
          </a:xfrm>
          <a:prstGeom prst="rect">
            <a:avLst/>
          </a:prstGeom>
          <a:ln w="0">
            <a:noFill/>
          </a:ln>
        </p:spPr>
      </p:pic>
      <p:sp>
        <p:nvSpPr>
          <p:cNvPr id="88" name="WordArt 7"/>
          <p:cNvSpPr txBox="1"/>
          <p:nvPr/>
        </p:nvSpPr>
        <p:spPr>
          <a:xfrm rot="20475000">
            <a:off x="247320" y="1214280"/>
            <a:ext cx="8229600" cy="308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гадай Фокус!!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12"/>
          <p:cNvSpPr txBox="1"/>
          <p:nvPr/>
        </p:nvSpPr>
        <p:spPr>
          <a:xfrm>
            <a:off x="3048120" y="3200400"/>
            <a:ext cx="21333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5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228240"/>
            <a:ext cx="8540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ай число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бавь это ж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Умножь на 4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дели на первое задуманно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лучилось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2700360" y="5300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Занимательные вопрос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Сколько получится десятков, если к 2 десяткам прибавить 2 десят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Сколько будет пять в квадрате, шесть в квадрате, семь в квадрате,  угол в квадрате? 3.Какое число надо разделить на два, чтобы получить четыре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Чему равно произведение всех целых чисел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Конкурс пантомим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ин участник для своей команды жестами объясняет  математическое понятие по выбранной карточке, а команда в течении 1 мин старается угадать правильный ответ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Какое число делится на все числа без остат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6.В одной семье 2 отца и 2 сына. Сколько это человек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7. Одно яйцо варят 5 минут. Сколько времени надо варить 5 яи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8.Какие часы показывают верное время 2 раза в сутк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9.Мотоциклист ехал в поселок. По дороге он встретил 3 легковые машины и грузовик. Сколько машин шло в посёлок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0.Написать сухая трава четырьмя буквам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оставьте скобки чтобы равенство было верны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1 : 8 – 5 • 2 + 6 : 3 = 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Решите анаграмму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) РИПЕТР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) БОДЬ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Заполните пустые клетки квадрата, вписав 1, 2, 3, 4 так, чтобы по горизонтали и по вертикали не было одинаковых цифр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56000" y="3357720"/>
            <a:ext cx="4032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803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“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онкурс капитанов”</a:t>
            </a:r>
            <a:br>
              <a:rPr sz="44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за одну минуту сосчитает больше чисе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Рисунок 5" descr="http://festival.1september.ru/articles/314402/image1.gif"/>
          <p:cNvPicPr/>
          <p:nvPr/>
        </p:nvPicPr>
        <p:blipFill>
          <a:blip r:embed="rId1"/>
          <a:stretch/>
        </p:blipFill>
        <p:spPr>
          <a:xfrm>
            <a:off x="826920" y="1773360"/>
            <a:ext cx="756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Загадка №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невидимка. В этом моя суть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тя меня нельзя измери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столько я ничтожна и мала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 всё собранье я могу увери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геометрии я пользу принесла: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ух линий я пересеченье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ужу всегда вершиною угл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3832920" y="5626080"/>
            <a:ext cx="13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очк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Огурешникова</cp:lastModifiedBy>
  <dcterms:modified xsi:type="dcterms:W3CDTF">2014-02-03T08:27:57Z</dcterms:modified>
  <cp:revision>68</cp:revision>
  <dc:subject/>
  <dc:title>Слайд 1</dc:title>
</cp:coreProperties>
</file>