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822D-7DC7-4BA2-AFDC-A3AE475DC6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1C1D-ED91-400C-953C-5C6416F47A9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8C86-0551-4659-AA22-3EF85150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4D7-E729-45C9-9260-E0E48E2E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19E-B99C-424C-9FF8-6AADA2C3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670-A8B7-4379-BE75-EC99F037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DF43-716C-4067-8418-25FCFBBE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4DF7-8DF2-4252-92F3-EAF1FF93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72AE-95F0-455E-8B2A-D8BA2319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B737-78D5-4290-AE09-BAEF7483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4503-0FDF-4BBB-804A-6F123220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04ED-E844-49EF-8268-124A9EA7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FA24-3DB0-47E3-8601-E989E3F1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13F-D884-432A-8292-B30109F9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936E-7A55-45FF-B4BE-AE889F7D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43EA-9B7F-44D2-AB7E-62FBBBCF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4766-077E-44DC-BC03-73080A1B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722C-872E-420B-B888-BE41390F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1419-4C0F-4AA1-A7EC-ACEA49D9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9D8-FB0E-4CEC-8128-5E9583E1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281-6EF2-43D8-9E9E-302A6EAE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297-F207-4E51-924F-324A1D71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EE6-B3EE-403E-851A-CC877E76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F27-0BB4-4B43-8380-F9062123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FD8-381A-49AB-AFF7-063AD8DC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2C8C-A660-4391-9529-237984BD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68D8-D5C7-4D39-B002-B90345D4C67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011C-FB08-46DA-8B23-DF253CF3199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1670040"/>
            <a:ext cx="8699760" cy="3749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242560" cy="1390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Выписки – выписывают факты, цифры, схемы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Тезирование – краткое изложение основных мыслей прочитанного. Различают два вида тезирования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извлечение авторских тезисов из текста,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формирование основных положений своими словами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Репетирование – написание краткого отзыва с выражением своего отношения о прочитанном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Цитирование – дословная выдержка из текста (обязательно указываются выходные данные)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Составление справки – сведений о чем-нибудь, полученных после поисков. Справки бывают статистические, биографические, терминологические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)   Конспект – краткое изложение прочитанного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7) Реферат – конспектирование, нескольких произведений с целью глубже, всесторонне  изучить определённую проблему. Для реферата подбирают литературу и изучают её по плану, творчески перерабатывают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8)  Составление плана – план может быть простой и сложный. Для составления плана необходимо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внимательно прочитать изучаемый материал и осмыслить его логическую структуру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логически чётко разделить его на составные части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сформулировать пункты плана. В сложном плане главные части делятся на дополнительные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9)   Составление таблиц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90720" y="28191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Благодарю за внимание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 Пути формирования ключевых компетенций у школьников с помощью элементов исследовательской работы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1.1   Применение исследовательского метода с точки зрения педагогики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1.2.    Психологические основы исследовательского метода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3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тличия исследования и проекта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4      Применение элементов исследовательской работы          на уроках обществознания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5     Уровни исследовательской работы учащихся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6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словия применения элементов исследования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7      О видах и содержании исследовательской работы школьников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8      Приемы исследовательской работы, с печатными источниками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762120" y="19926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труктура школьного исследования представляет собой следующие элементы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Calibri"/>
              </a:rPr>
              <a:t>ПРОБЛЕМА – ГИПОТЕЗА-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Calibri"/>
              </a:rPr>
              <a:t>–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Calibri"/>
              </a:rPr>
              <a:t>ИССЛЕДОВАНИЕ - РЕШЕНИЕ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530280" y="225360"/>
            <a:ext cx="8242200" cy="1609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исследовательского обучения лежит биологически предопределённая потребность в исследовательском поведении человеческой психики. Ориентировочно – исследовательский рефлекс живых существ был выявлен русским физиологом И.П.Павловым. Этот рефлекс является безусловным и рассматривается как первоначальная психическая реакция на новый стимул. Исследовательское поведение характерно для всех живых существ и чем выше уровень психической организации, тем выше уровень поисковой активности. Главное отличие человеческого исследовательского поведения от аналогичных проявлений у животных в том, что потребность в поиске, исследовательская активность у человека проявляется не столько в борьбе за выживание, сколько в творчестве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1372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следование носит вневременный характер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ым продуктом исследования являются знания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ым продуктом проектирования является прое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следование направлено на идеальный объект, проектирование – на организационную форм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360360" y="378000"/>
            <a:ext cx="8466120" cy="1152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апы исследования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облемы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иск возможных путей решения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рка данных решений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воды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ение выводов к новым данным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бщение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и уровня исследовательского обучения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подаватель ставит проблему и намечает пути её решения. Само решение осуществляют учащиеся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подаватель ставит проблему, методы и  решения – всё это учащиеся находят самостоятельно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ащиеся самостоятельно ставят проблему и находят методы её решения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669520" cy="1446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ля успешного применения элементов исследования необходимы следующие условия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блема должна соответствовать потребностям и интересам данной группы учащихся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ащиеся должны принимать участие в отборе проблем и разработке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ана действий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бранные проблемы должны допускать выбор способов решения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блема должна быть обычной и повторяющейся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блема должна быть серьёзной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блема должна соответствовать возрастным особенностям учащихся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выборе проблем важно учитывать наличие необходимых материалов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выборе проблем важно учитывать наличие необходимых материалов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530280" y="249120"/>
            <a:ext cx="8242200" cy="1433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За основу группировки видов исследовательской работы, с одной стороны принимается характер деятельности учащихся (подражание, реконструкция, творчество) и, с другой  -  виды источников знаний (работа с учебником, историческими документами, картой и др.).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Виды исследовательских работ: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следовательские работы (воспроизводящие)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конструктивные работы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ворческие работы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</cp:lastModifiedBy>
  <dcterms:modified xsi:type="dcterms:W3CDTF">2009-11-17T12:15:28Z</dcterms:modified>
  <cp:revision>23</cp:revision>
  <dc:subject/>
  <dc:title>Элементы исследовательской деятельности на уроках обществознания, как способ формирования у учащихся ключевых компетенций. </dc:title>
</cp:coreProperties>
</file>