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61C0-F4E0-447A-A0EC-4C638DDFC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7736-521F-41C3-A61F-8F1A7812A9A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0374-E7E9-4A61-810D-9C5C053A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9988-3099-45E6-9764-24782230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F1D7-FEE0-47D4-ABDC-5135DD4ED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72B9-2B89-4C4E-A1DF-FA93A5D7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D07-82A7-483C-9CB6-780E21E8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7D57-D5E9-4D22-939B-C283C6C27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0015-F0D2-48A1-B231-A61A69AD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4D1E-26E5-4780-B77A-FAAE55AC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B227-F148-43A7-959F-D6D93EFE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A945-2EC0-4244-BDC3-A06A7808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B22-4328-4E98-8403-86B4B20E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CFA6-15AB-4E25-B89A-2F589522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B0BD-5FB0-4304-8944-F827FC8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B81-FDA3-49CF-B72F-9E48177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91D6-0BA8-4C30-B07D-6AEBAE4F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3AA8-B9DE-4E79-9829-1D65FAF3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4A5A2-EED3-4231-9D77-CD75065A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64EE-BCDD-4595-9FE3-12925683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437-8D16-41D7-9865-8EB51BB7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3E8-38E6-4BFE-BC23-2C15C59C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9AE-6F33-4774-9601-8C735223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5D8-6AF9-44C1-8AA3-8568718D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522C-E426-4487-A942-762BED48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6FF1-5986-4AA7-98D9-C6911E5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7E16-3449-4016-B42A-855E5EA0187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8ABD-A9A0-440B-8071-E74D91C61AF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1670040"/>
            <a:ext cx="8699760" cy="3749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242560" cy="13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) Выписки – выписывают факты, цифры, схемы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) Тезирование – краткое изложение основных мыслей прочитанного. Различают два вида тезирования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извлечение авторских тезисов из текста,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формирование основных положений своими словами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) Репетирование – написание краткого отзыва с выражением своего отношения о прочитанном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4) Цитирование – дословная выдержка из текста (обязательно указываются выходные данные)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)  Составление справки – сведений о чем-нибудь, полученных после поисков. Справки бывают статистические, биографические, терминологические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)   Конспект – краткое изложение прочитанного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) Реферат – конспектирование, нескольких произведений с целью глубже, всесторонне  изучить определённую проблему. Для реферата подбирают литературу и изучают её по плану, творчески перерабатывают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8)  Составление плана – план может быть простой и сложный. Для составления плана необходимо: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внимательно прочитать изучаемый материал и осмыслить его логическую структуру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логически чётко разделить его на составные части;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- сформулировать пункты плана. В сложном плане главные части делятся на дополнительные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9)   Составление таблиц.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28191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Благодарю за внимание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 Пути формирования ключевых компетенций у школьников с помощью элементов исследовательской работы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1.1   Применение исследовательского метода с точки зрения педагогики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1.2.    Психологические основы исследовательского метода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3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Отличия исследования и проекта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4      Применение элементов исследовательской работы          на уроках обществознани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5     Уровни исследовательской работы учащихс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 Antiqua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6 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Условия применения элементов исследования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7      О видах и содержании исследовательской работы школьников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.8      Приемы исследовательской работы, с печатными источниками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762120" y="1992600"/>
            <a:ext cx="8001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труктура школьного исследования представляет собой следующие элементы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ПРОБЛЕМА – ГИПОТЕЗА-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– </a:t>
            </a: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Calibri"/>
              </a:rPr>
              <a:t>ИССЛЕДОВАНИЕ - РЕШЕНИЕ 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530280" y="225360"/>
            <a:ext cx="8242200" cy="1609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исследовательского обучения лежит биологически предопределённая потребность в исследовательском поведении человеческой психики. Ориентировочно – исследовательский рефлекс живых существ был выявлен русским физиологом И.П.Павловым. Этот рефлекс является безусловным и рассматривается как первоначальная психическая реакция на новый стимул. Исследовательское поведение характерно для всех живых существ и чем выше уровень психической организации, тем выше уровень поисковой активности. Главное отличие человеческого исследовательского поведения от аналогичных проявлений у животных в том, что потребность в поиске, исследовательская активность у человека проявляется не столько в борьбе за выживание, сколько в творчестве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11040" y="268200"/>
            <a:ext cx="861372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носит вневременный характер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 продуктом исследования являются зна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ым продуктом проектирования является проек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е направлено на идеальный объект, проектирование – на организационную форм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360360" y="378000"/>
            <a:ext cx="8466120" cy="1152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тапы исследования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деление проблемы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иск возможных путей решения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верка данных решений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воды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нение выводов к новым данным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общение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и уровня исследовательского обучения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ставит проблему и намечает пути её решения. Само решение осуществляют учащиеся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подаватель ставит проблему, методы и  решения – всё это учащиеся находят самостоятельно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ащиеся самостоятельно ставят проблему и находят методы её решения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669520" cy="1446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ля успешного применения элементов исследования необходимы следующие условия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соответствовать потребностям и интересам данной группы учащих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чащиеся должны принимать участие в отборе проблем и разработке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лана действий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бранные проблемы должны допускать выбор способов решени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быть обычной и повторяющей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быть серьёзной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блема должна соответствовать возрастным особенностям учащихся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выборе проблем важно учитывать наличие необходимых материалов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 выборе проблем важно учитывать наличие необходимых материалов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530280" y="249120"/>
            <a:ext cx="8242200" cy="1433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За основу группировки видов исследовательской работы, с одной стороны принимается характер деятельности учащихся (подражание, реконструкция, творчество) и, с другой  -  виды источников знаний (работа с учебником, историческими документами, картой и др.).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</a:rPr>
              <a:t>Виды исследовательских работ: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следовательские работы (воспроизводящие)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конструктивные работы;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ворческие работы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XX</cp:lastModifiedBy>
  <dcterms:modified xsi:type="dcterms:W3CDTF">2009-11-17T12:15:28Z</dcterms:modified>
  <cp:revision>23</cp:revision>
  <dc:subject/>
  <dc:title>Элементы исследовательской деятельности на уроках обществознания, как способ формирования у учащихся ключевых компетенций. </dc:title>
</cp:coreProperties>
</file>