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228-F858-4171-B361-1FD11905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722-884F-470C-B909-318A483F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59D-0401-4491-9D25-57D87085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BE0-030E-4C98-8768-8248218D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EAD-176E-41B8-A6AF-241F4A93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FD0-4D79-4D7F-A6A1-40591232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2D6-1AD6-4BAA-ABEC-97363C1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66D-515A-49ED-82E9-253D6FCC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CE8-60A4-46B3-9F32-64CF2DA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77D-C3C0-4DD1-859B-D4E42BFD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C57-D749-40DF-999C-563C950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1C4-BEEC-4354-ACF6-60D3370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B957-26F6-488F-991C-5CE85852C3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>
                <a:solidFill>
                  <a:srgbClr val="000000"/>
                </a:solidFill>
                <a:latin typeface="Calibri"/>
              </a:rPr>
              <a:t>Ерҙә һәр тел – бөйөк хазинаһы халыҡтың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24876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agit1.jpg"/>
          <p:cNvPicPr/>
          <p:nvPr/>
        </p:nvPicPr>
        <p:blipFill>
          <a:blip r:embed="rId1"/>
          <a:srcRect l="0" t="10371" r="0" b="13827"/>
          <a:stretch/>
        </p:blipFill>
        <p:spPr>
          <a:xfrm>
            <a:off x="826920" y="2565360"/>
            <a:ext cx="7921800" cy="38163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115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ерегите чистоту языка как святыню! Никогда не употребляйте иностранных слов. Русский язык так богат и гибок, что нам нечего брать у тех, кто беднее на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. С. Тургенев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DSC04333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Тел – милләтте милләт иткән иң мөһим шар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Ш.Ана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Туған телде белмәй тороп, ят телдә булмай эш ҡыры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Р.Шәғәли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8f438d60c6ff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то такое язык? Прежде всего, это не только способ выражать свои мысли, но и творить свои мысли. Язык имеет обратное действие. Человек, превращающий свои мысли, свои идеи, свои чувства в язык… он также как бы пронизывается этим способом выражения.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. Н. Толст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74447772_large_cde3b1154db8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Әгәр телем йәшәй икән, йәшәйәсәк халҡым 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И.Кинйәбулатова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Туған тел – ул ата-әсәнең теле, донъяла тәү ишеткән һүҙҙең, асылған телең, рухи моңоң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Ғ.Хөсәйенов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Туғанынан яҙған – ярты йәтим, туған теленән яҙған – мең яти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Р.Бикба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festival.jpg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193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Обращаться с языком кое-как — значит и мыслить кое-как: приблизительно, неточно, неверн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.Н.Толстой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пособность читать хорошие книги вовсе не равнозначна знанию грам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1" i="1" lang="ba-RU" sz="2500" spc="-1" strike="noStrike">
                <a:solidFill>
                  <a:srgbClr val="000000"/>
                </a:solidFill>
                <a:latin typeface="Calibri"/>
              </a:rPr>
              <a:t>А.Герцен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Речь должна отвечать законам логик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Язык есть исповедь народа, его душа и быт родно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.П.Вязем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3173.jpg"/>
          <p:cNvPicPr/>
          <p:nvPr/>
        </p:nvPicPr>
        <p:blipFill>
          <a:blip r:embed="rId1"/>
          <a:srcRect l="0" t="0" r="0" b="5665"/>
          <a:stretch/>
        </p:blipFill>
        <p:spPr>
          <a:xfrm>
            <a:off x="468360" y="260280"/>
            <a:ext cx="8207280" cy="63374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x_2dc2cdcf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усский язык — язык, созданный для поэзии, он необычайно богат и примечателен главным образом тонкостью оттенков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П. Мери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69385453_molodezh_bashkirii.jpg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63356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ba-RU" sz="4800" spc="-1" strike="noStrike">
                <a:solidFill>
                  <a:srgbClr val="000000"/>
                </a:solidFill>
                <a:latin typeface="Calibri"/>
              </a:rPr>
              <a:t>Ерҙә һәр тел – ғүмер буйы йыйған бөйөк хазинаһы халыҡтың.                                     М.Ямалетдин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5943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ивишься драгоценности нашего языка: что ни звук, то и подарок: все зернисто, крупно, как сам жемчуг, и, право, иное названье еще драгоценней самой вещи.                                                                                            Н. В. Гого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30-10-2012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Һәр кем үҙ телендә уҡый-яҙа белергә тейеш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М.Ҡулаев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Телдән дә көслө нәмә юҡ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Ғ. Хөсәйе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6:36:43Z</dcterms:created>
  <dc:creator>User</dc:creator>
  <dc:description/>
  <dc:language>en-US</dc:language>
  <cp:lastModifiedBy>User</cp:lastModifiedBy>
  <dcterms:modified xsi:type="dcterms:W3CDTF">2013-02-02T07:57:42Z</dcterms:modified>
  <cp:revision>8</cp:revision>
  <dc:subject/>
  <dc:title>Ерҙә һәр тел – бөйөк хазинаһы халыҡтың.</dc:title>
</cp:coreProperties>
</file>