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12.wmf" ContentType="image/x-wmf"/>
  <Override PartName="/ppt/media/image13.png" ContentType="image/png"/>
  <Override PartName="/ppt/media/image9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F475-E03B-4088-B28F-A40F3354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E68-8213-4718-AEC6-2F8F8639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FE8E-ECF0-47B2-B760-76EA1012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E7C-A6E3-48C1-ADCF-EAF63E21F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7C67A-87BE-48FB-9469-E5F7EDAE2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B92AA-9346-487A-9413-5671BF6D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9FD8-5F5E-4560-9AF5-D75C724A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E3805-C3C2-4792-813C-D39AC117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F68B-2368-42BF-89D1-F94C5BF4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396F3-C84A-430B-BF77-8626135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63E7-E1B6-4FCD-BCDC-C0BF14EA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90A6C-6DC0-443A-9C2A-BC6ED820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22D4-CFA1-4C66-9C6F-C3B39471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9B304-B949-4661-B8A0-50255254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EAB-F17C-4D11-9F95-7BCCF6BF3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616B4-4E37-4638-A4ED-5F578AD8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070AF-A646-45EF-9BEF-CD9E726B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68518-4343-4F9F-B01B-E7091BF6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52F5D-E9FF-4BC9-B795-D3C56E04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0F61-093D-4D9B-9DBD-1458C456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4C10-B982-4A0B-BF84-ED93902B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E012-BDEB-4480-8EF4-3C7DC3D8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BE40-8A32-4860-A90A-64B624E5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E6E7E-BFCA-49E1-AE56-6A4021CA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3840-572D-4FDC-A59C-ED6D22FE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2624-3298-4661-917C-22F90BB5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E98E8-34E5-44C5-8503-6739C267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FCEAF-A474-47B2-9E76-DE3858524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5FB1F-AED8-4F90-A83D-F3184197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30F50-07A3-433B-9A0C-E4F26280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0D641-822F-4A4D-AF15-1245D1DC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F5B90-7AC6-41A2-A98C-B3E26710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7D4C-899A-4881-B671-CE28D5F3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B766F-A979-44C0-BD3E-4D204002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13155-9FF2-4467-BA49-824D39CB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419FB-6AB6-4566-96F7-5D73547A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E7BB-4840-4B4E-9B0E-2913E9B5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2791E-135B-4FC3-B722-B29F9695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A8E7D-2D81-40BA-AA96-279B739E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C7A0D-318B-4887-BEDA-7E9362E4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7165A-DEAC-4D39-99ED-5CF179AE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A5970-2669-4EAC-9FEB-453E7F2E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3494F-371F-4CBF-A543-3C601381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91FBE-4527-4C7B-8017-C26D6743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4187C-848E-4F6A-8123-3974E7B4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9001C-35A0-4677-BBFA-B3865F9A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FE272-C82D-41B2-91A0-57446F2C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521A-4038-40B6-AD20-66AB448C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01FA2-A9DC-4E86-8567-864BCAC2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0D5A6-71B4-44ED-BD50-C6410471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2B73D-1249-4CC8-B7A2-5BD6E1D7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F9B74-307F-44B8-B8DF-0857D542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09EF82-0283-4118-A085-EEF931C1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87114-EC84-43EF-A621-EBDB2F1E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9A4F9-5076-469B-8C2D-6D95FE38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611DC-A798-48ED-89A0-72B89663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C3095-8A32-4373-BC03-D2FA2EB1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03F3C-C106-4A7E-96A0-88F420BB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A8AA-87E1-451B-B729-97F910A7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D8C34-9F67-4AF0-BCDA-C4848503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E9007-A5F4-427C-9F4C-D31A2AD90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409FB-549D-4B7C-8780-3E01EC4B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DD5CB-1232-4EC1-97E6-714A93EC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4B25CC-413B-4A2D-B08B-CD2C49BC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1CA06-42A5-4AF7-AA67-77A81E47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61A5-D55D-443B-8AAB-4BBA618B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99432-A6BA-41AC-BACE-7778A743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8BC68-70C4-4147-B0E3-AFDC626A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6B11E-00B0-4B22-8020-1D864FF8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3D3C-1154-41BE-BA8B-6B884119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16548-A8D3-4C7E-AEDB-A9A027D2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CB909-88BB-41C4-8129-BBCAEF28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8ACB0-7602-4304-B1E0-15B94518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6B128-90DF-44E7-AE27-A96C72BD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17137-4C33-4F3D-A9B7-1670F3E4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D9118-4F24-403B-A18F-FDE79233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00BFF-BAA2-473A-A631-28BDE1B9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3760-0AD5-4AEF-9884-45C2CAFB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BD192-F0C5-44C5-9770-D4ACEA5F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6561A-FA86-4044-B505-4854535F9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8124-24A1-49F2-A35F-6E03EE9D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FE95E-801E-4B5F-946F-E1AA7DB6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7AC50C-9A81-4D25-AA6E-5FDF7DD0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0F031-77D3-42AF-9777-2F02FA11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7991E-96CD-4F6C-9D8D-2184924E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998D5-A3BA-4C33-909A-89CFC6E1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FF08F-10EC-41C3-9E93-B17088B5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64F0B-0F86-4310-98E0-683CBF9D5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A4D6F-C1CB-40D7-8306-FDB81AF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DB608-53DF-4105-AE93-92BCE046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D55FB-B248-461B-A368-6F7DF9FE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9D31-6671-4D16-986B-6A105A4F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6A648-7A38-4BEC-8EB4-E7584BB8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28D84-8D57-43D7-8D23-6DCB6EDB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5CB54-DA5F-4FAC-A99C-2B6ACE80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915C1-8EA3-4AD2-B672-88466378D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3E06D-CE45-4AF9-BCA3-DD04C422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D1B9C-32C4-4A00-A178-EBE5C15D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932EBD-4AC5-4B45-A791-8E742A0E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A15C6-2880-490C-AC93-5C63F83F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FF641-30CB-4637-9243-E16AE7EF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19796-BB2B-40D4-8C17-D214BB4E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F10-4CBC-4DD2-8DBD-32579E69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A8A0-F206-4335-A023-6819640A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CBC53-7941-4ED5-AC2A-73C4F4C2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A2EF46-B840-4427-8FA5-33CCD871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A479B-7051-45C0-A51C-8FD4B1CF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1B828-ED69-40D2-A6E1-33E09123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70DB76-2B89-4E29-89F5-3AB202C73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CF972-3415-4AEB-8D89-7E8B486B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5F325-3A96-4011-9E94-A202F4B2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55078-FCE3-427D-B001-C22DCA7A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8AF3D-005D-4F72-AC76-4EE3CB62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3184E-480F-475E-9B2C-7DAE80AF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1618-9113-4A5D-A8F1-3B607E1F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A6858-1564-4348-B46E-8899130B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CD06D-C35D-44F2-9BD3-D6BA1735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C49F11-3A70-4456-833A-73C3E39F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18BB1-B845-47DF-9CB1-05077C24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29993-51C2-4925-BB9D-060F9CDF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4FD3E-12CA-413B-AAD6-65413C84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24805-98D7-48C9-A6BF-061AF0BA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CC4B8-CC18-485A-904B-E3FD3830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7EBB3-CF59-4538-9C97-F09A4DBD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67A05-3158-4FC5-A0C9-817447F0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58F2-026E-4084-ACC6-AC161637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D1B1C-10C7-4622-9050-0C30DDDB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03625-6F27-4506-B670-CAAC550D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9D383-093A-4EB1-9B3C-549D2024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124C2-8235-4503-9ED0-64A2B92E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5AB49-E55B-490D-B9B6-6B02ED3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DD61A-FE70-46F1-BEEC-2D6F3288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BFC10-5734-4CA5-9304-1740D574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9C132-4605-4398-A1ED-41E737D2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BEE3D-9AFC-4025-891D-74BE43A7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6434C-EFA3-4543-B11E-93C16BBB2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21F6-C565-48FE-8286-1BEA627EE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A26012-2AFF-4C7A-BC5B-321E4A9E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0DDCF-75E7-488B-8B4D-37FD8E58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E979F-B0AA-46C9-AF68-49AD1C62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5E1A3-CBA6-48F9-92A7-BF3DDC77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5B18B6-C800-4203-896B-8B721F25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B1E48-981A-46C2-B83F-E29FAAB3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F5EC5-B303-471E-BC19-0B74A4EB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3940B-E7B0-4F18-BB71-636DDD5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69D0E-112A-46AD-BA02-632A126B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62957-C8DB-4B09-9325-093E850C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5985-8624-4042-9BB0-6225813E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0B156-44D2-4C46-ADE9-48FDD91C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D0D-57A3-4F41-A3FD-F646B3B5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DFBA-23EF-4EAB-97D0-35D53365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123-A754-4683-8A49-F39D5B73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088-DD2A-4610-9668-14996B84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4281-5879-45BD-9257-416D6F1E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F32-32A1-4F44-B870-69EAF04EA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1AF-30E2-4117-8460-8FA8B91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37BD-48FE-419E-A60D-89FF1BD6E3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EC44-9121-47F9-AFEB-1FC10A047D8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AC1A-3055-490D-9A23-8B02404D516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2FC2-5116-445E-B90C-8C78DFBE493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9BA6-5FFE-4E2B-8C3F-55F12C61A312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D099-A65C-4975-AED1-26A6F07B0D41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97BB-16A2-4302-95E7-FFEF9CCDE77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52BD-0B99-4D6B-A580-B9F1C5A6046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0073-2366-466C-98EA-05FC67371A1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E745-9F2A-4E47-BBE7-FE487F1E888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354D-C284-4349-83D1-2A0F85026E8D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6E96-CB78-4023-8176-ABB8A7AD575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7800" indent="-3078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570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42880" indent="-2044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54360" indent="-20484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2E39-53ED-46EE-A06C-0E9D0717309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Documents and Settings\Admin\Рабочий стол\угадай\Зелёный.gif"/>
          <p:cNvPicPr/>
          <p:nvPr/>
        </p:nvPicPr>
        <p:blipFill>
          <a:blip r:embed="rId3"/>
          <a:stretch/>
        </p:blipFill>
        <p:spPr>
          <a:xfrm>
            <a:off x="7500960" y="6507000"/>
            <a:ext cx="1643040" cy="351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 rot="21297000">
            <a:off x="3001680" y="3149640"/>
            <a:ext cx="5209920" cy="27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ambria"/>
              </a:rPr>
              <a:t>Урок обучения грамоте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801" name="Picture 5" descr="C:\Users\ру.юст\Documents\Клипарты\Клипарт пейзажи\0_78910_684a155e_M.jpg"/>
          <p:cNvPicPr/>
          <p:nvPr/>
        </p:nvPicPr>
        <p:blipFill>
          <a:blip r:embed="rId1"/>
          <a:stretch/>
        </p:blipFill>
        <p:spPr>
          <a:xfrm>
            <a:off x="601200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5" descr="C:\Users\ру.юст\Documents\Клипарты\Клипарт пейзажи\0_78910_684a155e_M.jpg"/>
          <p:cNvPicPr/>
          <p:nvPr/>
        </p:nvPicPr>
        <p:blipFill>
          <a:blip r:embed="rId2"/>
          <a:stretch/>
        </p:blipFill>
        <p:spPr>
          <a:xfrm>
            <a:off x="6732720" y="5961240"/>
            <a:ext cx="2411280" cy="8967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5" descr="C:\Users\ру.юст\Documents\Клипарты\Клипарт пейзажи\0_78910_684a155e_M.jpg"/>
          <p:cNvPicPr/>
          <p:nvPr/>
        </p:nvPicPr>
        <p:blipFill>
          <a:blip r:embed="rId3"/>
          <a:stretch/>
        </p:blipFill>
        <p:spPr>
          <a:xfrm>
            <a:off x="6875640" y="5961240"/>
            <a:ext cx="2412720" cy="8967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3" descr="C:\Users\ру.юст\Documents\Клипарты\Клипарты анимированые\2387216t99994h92p.gif"/>
          <p:cNvPicPr/>
          <p:nvPr/>
        </p:nvPicPr>
        <p:blipFill>
          <a:blip r:embed="rId4"/>
          <a:stretch/>
        </p:blipFill>
        <p:spPr>
          <a:xfrm>
            <a:off x="7020000" y="5516640"/>
            <a:ext cx="1285920" cy="1171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Box 18"/>
          <p:cNvSpPr/>
          <p:nvPr/>
        </p:nvSpPr>
        <p:spPr>
          <a:xfrm>
            <a:off x="2000160" y="357120"/>
            <a:ext cx="71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Назовите тему нашего урок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TextBox 19"/>
          <p:cNvSpPr/>
          <p:nvPr/>
        </p:nvSpPr>
        <p:spPr>
          <a:xfrm>
            <a:off x="1643040" y="150012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Какие были ваши цел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TextBox 20"/>
          <p:cNvSpPr/>
          <p:nvPr/>
        </p:nvSpPr>
        <p:spPr>
          <a:xfrm>
            <a:off x="1500120" y="2643120"/>
            <a:ext cx="700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Достигли ли вы этих цел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21"/>
          <p:cNvSpPr/>
          <p:nvPr/>
        </p:nvSpPr>
        <p:spPr>
          <a:xfrm>
            <a:off x="1285920" y="3857760"/>
            <a:ext cx="75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Что узнали о букве  «и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TextBox 22"/>
          <p:cNvSpPr/>
          <p:nvPr/>
        </p:nvSpPr>
        <p:spPr>
          <a:xfrm>
            <a:off x="1143000" y="5143680"/>
            <a:ext cx="714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Возникали ли трудности? Как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39640" cy="685800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4" descr=""/>
          <p:cNvPicPr/>
          <p:nvPr/>
        </p:nvPicPr>
        <p:blipFill>
          <a:blip r:embed="rId2"/>
          <a:stretch/>
        </p:blipFill>
        <p:spPr>
          <a:xfrm>
            <a:off x="8604360" y="0"/>
            <a:ext cx="620640" cy="6858000"/>
          </a:xfrm>
          <a:prstGeom prst="rect">
            <a:avLst/>
          </a:prstGeom>
          <a:ln w="0">
            <a:noFill/>
          </a:ln>
        </p:spPr>
      </p:pic>
      <p:pic>
        <p:nvPicPr>
          <p:cNvPr id="807" name="TextBox 22" descr=""/>
          <p:cNvPicPr/>
          <p:nvPr/>
        </p:nvPicPr>
        <p:blipFill>
          <a:blip r:embed="rId3"/>
          <a:stretch/>
        </p:blipFill>
        <p:spPr>
          <a:xfrm>
            <a:off x="706320" y="-133200"/>
            <a:ext cx="7656480" cy="2309760"/>
          </a:xfrm>
          <a:prstGeom prst="rect">
            <a:avLst/>
          </a:prstGeom>
          <a:ln w="0">
            <a:noFill/>
          </a:ln>
        </p:spPr>
      </p:pic>
      <p:cxnSp>
        <p:nvCxnSpPr>
          <p:cNvPr id="808" name="Прямая со стрелкой 24"/>
          <p:cNvCxnSpPr/>
          <p:nvPr/>
        </p:nvCxnSpPr>
        <p:spPr>
          <a:xfrm flipH="1">
            <a:off x="1785600" y="1500120"/>
            <a:ext cx="7149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9" name="TextBox 25"/>
          <p:cNvSpPr/>
          <p:nvPr/>
        </p:nvSpPr>
        <p:spPr>
          <a:xfrm>
            <a:off x="285840" y="1857240"/>
            <a:ext cx="3857400" cy="13129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ознакомились с буквой «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0" name="Прямая со стрелкой 28"/>
          <p:cNvCxnSpPr/>
          <p:nvPr/>
        </p:nvCxnSpPr>
        <p:spPr>
          <a:xfrm>
            <a:off x="5285880" y="1500120"/>
            <a:ext cx="71532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1" name="TextBox 31"/>
          <p:cNvSpPr/>
          <p:nvPr/>
        </p:nvSpPr>
        <p:spPr>
          <a:xfrm>
            <a:off x="4286160" y="1857240"/>
            <a:ext cx="4572000" cy="13129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ознакомились со звуками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] [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’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2" name="Прямая со стрелкой 33"/>
          <p:cNvCxnSpPr/>
          <p:nvPr/>
        </p:nvCxnSpPr>
        <p:spPr>
          <a:xfrm flipH="1">
            <a:off x="1999440" y="3214800"/>
            <a:ext cx="2520" cy="357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3" name="TextBox 34"/>
          <p:cNvSpPr/>
          <p:nvPr/>
        </p:nvSpPr>
        <p:spPr>
          <a:xfrm>
            <a:off x="285840" y="3643200"/>
            <a:ext cx="3857400" cy="13129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бозначает два разных зву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4" name="Прямая со стрелкой 38"/>
          <p:cNvCxnSpPr/>
          <p:nvPr/>
        </p:nvCxnSpPr>
        <p:spPr>
          <a:xfrm flipH="1">
            <a:off x="1999440" y="5000400"/>
            <a:ext cx="2520" cy="286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5" name="TextBox 39"/>
          <p:cNvSpPr/>
          <p:nvPr/>
        </p:nvSpPr>
        <p:spPr>
          <a:xfrm>
            <a:off x="357120" y="5357880"/>
            <a:ext cx="8215560" cy="1312920"/>
          </a:xfrm>
          <a:prstGeom prst="rect">
            <a:avLst/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бозначает парные по твердости – мягкости зву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Box 4"/>
          <p:cNvSpPr/>
          <p:nvPr/>
        </p:nvSpPr>
        <p:spPr>
          <a:xfrm>
            <a:off x="1785960" y="28584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тя был ма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н траву мял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видела мать-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Не велела траву мять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5"/>
          <p:cNvSpPr/>
          <p:nvPr/>
        </p:nvSpPr>
        <p:spPr>
          <a:xfrm>
            <a:off x="1285920" y="435780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ал, мял, мать, мя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8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8366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5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83664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6" descr=""/>
          <p:cNvPicPr/>
          <p:nvPr/>
        </p:nvPicPr>
        <p:blipFill>
          <a:blip r:embed="rId3"/>
          <a:stretch/>
        </p:blipFill>
        <p:spPr>
          <a:xfrm>
            <a:off x="0" y="6021360"/>
            <a:ext cx="4643280" cy="83664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7" descr=""/>
          <p:cNvPicPr/>
          <p:nvPr/>
        </p:nvPicPr>
        <p:blipFill>
          <a:blip r:embed="rId4"/>
          <a:stretch/>
        </p:blipFill>
        <p:spPr>
          <a:xfrm>
            <a:off x="4572000" y="6021360"/>
            <a:ext cx="4572000" cy="836640"/>
          </a:xfrm>
          <a:prstGeom prst="rect">
            <a:avLst/>
          </a:prstGeom>
          <a:ln w="0">
            <a:noFill/>
          </a:ln>
        </p:spPr>
      </p:pic>
      <p:sp>
        <p:nvSpPr>
          <p:cNvPr id="822" name=""/>
          <p:cNvSpPr txBox="1"/>
          <p:nvPr/>
        </p:nvSpPr>
        <p:spPr>
          <a:xfrm>
            <a:off x="0" y="160020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ИТЬ ЗНАКОМТСВО СО …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УЧИТЬСЯ ОТЛИЧА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4640"/>
                <a:tab algn="l" pos="809640"/>
                <a:tab algn="l" pos="121428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ОПРЕДЕЛЯТЬ РАБОТУ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Прямоугольник 10" descr=""/>
          <p:cNvPicPr/>
          <p:nvPr/>
        </p:nvPicPr>
        <p:blipFill>
          <a:blip r:embed="rId5"/>
          <a:stretch/>
        </p:blipFill>
        <p:spPr>
          <a:xfrm>
            <a:off x="1279440" y="579600"/>
            <a:ext cx="670104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Прямоугольник 12" descr=""/>
          <p:cNvPicPr/>
          <p:nvPr/>
        </p:nvPicPr>
        <p:blipFill>
          <a:blip r:embed="rId1"/>
          <a:stretch/>
        </p:blipFill>
        <p:spPr>
          <a:xfrm>
            <a:off x="1925640" y="-66600"/>
            <a:ext cx="4359240" cy="111420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 txBox="1"/>
          <p:nvPr/>
        </p:nvSpPr>
        <p:spPr>
          <a:xfrm>
            <a:off x="457200" y="1604880"/>
            <a:ext cx="8578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1262160" indent="-36216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должить знакомство со звуками [ м ]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буквой, которая их обозначает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2160" indent="-36216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иться отличать  звуки  [ м ]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и букву М м от других звуков и букв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2160" indent="-36216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1619280"/>
                <a:tab algn="l" pos="202392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читься определять работу гласных бук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2" descr="C:\Users\user\AppData\Local\Microsoft\Windows\Temporary Internet Files\Content.IE5\M5RREJ7Q\MC900383600[1].wmf"/>
          <p:cNvPicPr/>
          <p:nvPr/>
        </p:nvPicPr>
        <p:blipFill>
          <a:blip r:embed="rId2"/>
          <a:stretch/>
        </p:blipFill>
        <p:spPr>
          <a:xfrm>
            <a:off x="6500880" y="285840"/>
            <a:ext cx="211284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Box 15"/>
          <p:cNvSpPr/>
          <p:nvPr/>
        </p:nvSpPr>
        <p:spPr>
          <a:xfrm>
            <a:off x="2000160" y="714240"/>
            <a:ext cx="5572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аш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уму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итя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Группа 1"/>
          <p:cNvGrpSpPr/>
          <p:nvPr/>
        </p:nvGrpSpPr>
        <p:grpSpPr>
          <a:xfrm>
            <a:off x="0" y="6308640"/>
            <a:ext cx="9144000" cy="549360"/>
            <a:chOff x="0" y="6308640"/>
            <a:chExt cx="9144000" cy="549360"/>
          </a:xfrm>
        </p:grpSpPr>
        <p:pic>
          <p:nvPicPr>
            <p:cNvPr id="829" name="Picture 6" descr=""/>
            <p:cNvPicPr/>
            <p:nvPr/>
          </p:nvPicPr>
          <p:blipFill>
            <a:blip r:embed="rId1"/>
            <a:stretch/>
          </p:blipFill>
          <p:spPr>
            <a:xfrm>
              <a:off x="0" y="6308640"/>
              <a:ext cx="4643280" cy="54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7" descr=""/>
            <p:cNvPicPr/>
            <p:nvPr/>
          </p:nvPicPr>
          <p:blipFill>
            <a:blip r:embed="rId2"/>
            <a:stretch/>
          </p:blipFill>
          <p:spPr>
            <a:xfrm>
              <a:off x="4572000" y="6308640"/>
              <a:ext cx="4572000" cy="549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1" name="Picture 2" descr=""/>
          <p:cNvPicPr/>
          <p:nvPr/>
        </p:nvPicPr>
        <p:blipFill>
          <a:blip r:embed="rId3"/>
          <a:stretch/>
        </p:blipFill>
        <p:spPr>
          <a:xfrm>
            <a:off x="0" y="-22320"/>
            <a:ext cx="9144000" cy="426960"/>
          </a:xfrm>
          <a:prstGeom prst="rect">
            <a:avLst/>
          </a:prstGeom>
          <a:ln w="0">
            <a:noFill/>
          </a:ln>
        </p:spPr>
      </p:pic>
      <p:sp>
        <p:nvSpPr>
          <p:cNvPr id="832" name="Овал 21"/>
          <p:cNvSpPr/>
          <p:nvPr/>
        </p:nvSpPr>
        <p:spPr>
          <a:xfrm>
            <a:off x="214200" y="571680"/>
            <a:ext cx="1071720" cy="1000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Прямоугольник 22"/>
          <p:cNvSpPr/>
          <p:nvPr/>
        </p:nvSpPr>
        <p:spPr>
          <a:xfrm>
            <a:off x="1500120" y="571680"/>
            <a:ext cx="100008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Овал 23"/>
          <p:cNvSpPr/>
          <p:nvPr/>
        </p:nvSpPr>
        <p:spPr>
          <a:xfrm>
            <a:off x="7786800" y="571680"/>
            <a:ext cx="1071360" cy="1000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Овал 24"/>
          <p:cNvSpPr/>
          <p:nvPr/>
        </p:nvSpPr>
        <p:spPr>
          <a:xfrm>
            <a:off x="4000680" y="571680"/>
            <a:ext cx="1071360" cy="100008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Прямоугольник 25"/>
          <p:cNvSpPr/>
          <p:nvPr/>
        </p:nvSpPr>
        <p:spPr>
          <a:xfrm>
            <a:off x="6572160" y="571680"/>
            <a:ext cx="100008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Прямоугольник 26"/>
          <p:cNvSpPr/>
          <p:nvPr/>
        </p:nvSpPr>
        <p:spPr>
          <a:xfrm>
            <a:off x="2786040" y="571680"/>
            <a:ext cx="1000080" cy="92844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Левая круглая скобка 27"/>
          <p:cNvSpPr/>
          <p:nvPr/>
        </p:nvSpPr>
        <p:spPr>
          <a:xfrm rot="16200000">
            <a:off x="1249920" y="1178280"/>
            <a:ext cx="142920" cy="107136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1071360"/>
              <a:gd name="textAreaBottom" fmla="*/ 106560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0"/>
                  <a:pt x="0" y="240"/>
                </a:cubicBezTo>
                <a:lnTo>
                  <a:pt x="0" y="21360"/>
                </a:lnTo>
                <a:cubicBezTo>
                  <a:pt x="0" y="2148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Левая круглая скобка 28"/>
          <p:cNvSpPr/>
          <p:nvPr/>
        </p:nvSpPr>
        <p:spPr>
          <a:xfrm rot="16200000">
            <a:off x="7608240" y="1250280"/>
            <a:ext cx="142560" cy="1071360"/>
          </a:xfrm>
          <a:custGeom>
            <a:avLst/>
            <a:gdLst>
              <a:gd name="textAreaLeft" fmla="*/ 41760 w 142560"/>
              <a:gd name="textAreaRight" fmla="*/ 142920 w 142560"/>
              <a:gd name="textAreaTop" fmla="*/ 5760 h 1071360"/>
              <a:gd name="textAreaBottom" fmla="*/ 1065600 h 107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0"/>
                  <a:pt x="0" y="240"/>
                </a:cubicBezTo>
                <a:lnTo>
                  <a:pt x="0" y="21360"/>
                </a:lnTo>
                <a:cubicBezTo>
                  <a:pt x="0" y="2148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Левая круглая скобка 29"/>
          <p:cNvSpPr/>
          <p:nvPr/>
        </p:nvSpPr>
        <p:spPr>
          <a:xfrm rot="16200000">
            <a:off x="3893400" y="1249920"/>
            <a:ext cx="142560" cy="1071720"/>
          </a:xfrm>
          <a:custGeom>
            <a:avLst/>
            <a:gdLst>
              <a:gd name="textAreaLeft" fmla="*/ 41760 w 142560"/>
              <a:gd name="textAreaRight" fmla="*/ 142920 w 142560"/>
              <a:gd name="textAreaTop" fmla="*/ 5760 h 1071720"/>
              <a:gd name="textAreaBottom" fmla="*/ 106596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20"/>
                  <a:pt x="0" y="240"/>
                </a:cubicBezTo>
                <a:lnTo>
                  <a:pt x="0" y="21360"/>
                </a:lnTo>
                <a:cubicBezTo>
                  <a:pt x="0" y="2148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30"/>
          <p:cNvSpPr/>
          <p:nvPr/>
        </p:nvSpPr>
        <p:spPr>
          <a:xfrm>
            <a:off x="1571760" y="64296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31"/>
          <p:cNvSpPr/>
          <p:nvPr/>
        </p:nvSpPr>
        <p:spPr>
          <a:xfrm>
            <a:off x="6429240" y="571680"/>
            <a:ext cx="121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MS Gothic"/>
              </a:rPr>
              <a:t>’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32"/>
          <p:cNvSpPr/>
          <p:nvPr/>
        </p:nvSpPr>
        <p:spPr>
          <a:xfrm>
            <a:off x="857160" y="1785960"/>
            <a:ext cx="17859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ам                 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м                 э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ым                  и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TextBox 33"/>
          <p:cNvSpPr/>
          <p:nvPr/>
        </p:nvSpPr>
        <p:spPr>
          <a:xfrm>
            <a:off x="3429000" y="1785960"/>
            <a:ext cx="1285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TextBox 34"/>
          <p:cNvSpPr/>
          <p:nvPr/>
        </p:nvSpPr>
        <p:spPr>
          <a:xfrm>
            <a:off x="7286760" y="2357280"/>
            <a:ext cx="10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Box 4"/>
          <p:cNvSpPr/>
          <p:nvPr/>
        </p:nvSpPr>
        <p:spPr>
          <a:xfrm>
            <a:off x="3786120" y="-642960"/>
            <a:ext cx="1785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MS Gothic"/>
              </a:rPr>
              <a:t>и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7" name="Прямая со стрелкой 6"/>
          <p:cNvCxnSpPr/>
          <p:nvPr/>
        </p:nvCxnSpPr>
        <p:spPr>
          <a:xfrm flipH="1">
            <a:off x="2499840" y="1571760"/>
            <a:ext cx="1215360" cy="107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8" name="TextBox 7"/>
          <p:cNvSpPr/>
          <p:nvPr/>
        </p:nvSpPr>
        <p:spPr>
          <a:xfrm>
            <a:off x="1357200" y="3000240"/>
            <a:ext cx="264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[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и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MS Gothic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9" name="Прямая со стрелкой 10"/>
          <p:cNvCxnSpPr/>
          <p:nvPr/>
        </p:nvCxnSpPr>
        <p:spPr>
          <a:xfrm>
            <a:off x="5143320" y="1571400"/>
            <a:ext cx="12150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0" name="TextBox 12"/>
          <p:cNvSpPr/>
          <p:nvPr/>
        </p:nvSpPr>
        <p:spPr>
          <a:xfrm>
            <a:off x="4929120" y="2928960"/>
            <a:ext cx="3429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бозначает мягкость согласног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Box 5"/>
          <p:cNvSpPr/>
          <p:nvPr/>
        </p:nvSpPr>
        <p:spPr>
          <a:xfrm>
            <a:off x="1571760" y="1285920"/>
            <a:ext cx="70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ама мыла Милу мылом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Мила мыло не любил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21:45:48Z</dcterms:created>
  <dc:creator>Драма</dc:creator>
  <dc:description/>
  <dc:language>en-US</dc:language>
  <cp:lastModifiedBy>Пользователь</cp:lastModifiedBy>
  <dcterms:modified xsi:type="dcterms:W3CDTF">2015-10-11T19:40:17Z</dcterms:modified>
  <cp:revision>136</cp:revision>
  <dc:subject/>
  <dc:title>Набираемся житейской мудрости.  Эзоп «Рыбак и рыбешка»,  «Соловей и ястреб».</dc:title>
</cp:coreProperties>
</file>