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147-D0C7-4A22-A1FD-2966B014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A1D-22B2-41E8-8B30-925C29F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298D-642F-4A37-A738-F5662AD0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2A5-E8F1-45D6-9B25-E5A40B88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7CFE5-0A5C-4E07-956F-CD20EDD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FC0A-DF58-4C65-889B-8E90EE3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293B-DCE0-4D93-B1E1-044F6BE4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12C6-DE1F-4114-BA73-192EAF9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4F33A-664C-40D6-82EB-6C477C7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D2FF-9581-4D6C-93EF-7CE1E8AF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A29E-36A6-43AA-A091-D178452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BD8F-C568-4B46-B077-1619C76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A247-AC08-40DF-94F6-1A870A9F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388D-EE90-40F3-B275-2AD9666D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735-A7F2-4539-BC1B-D3CCC71F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F21B-71C1-4C08-B2A0-1CD417A9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0F27-F44D-4E7E-91B7-B0EB8FBA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C536-A91F-4349-9CCE-A8013E7B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D6ED-1463-4A91-9818-5B3B5B5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1AF26-6F01-45D9-A02B-36026E4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9334-03CB-4192-98DA-5717916E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AC2F-CD8F-4CF4-8E53-C0EF6D36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7651-FB05-4B63-A2DB-B5B0101B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F25A-CB53-4FC9-BDAE-746DFC36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E23A-F223-47E5-921A-92233E69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6B4-7CD6-4343-801C-B7E258B1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5FE8C-50B2-426A-9066-7021E74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DAEC-49A6-42AF-9DDB-BD157D64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9EF1A-EAA1-46B7-8026-2BA14CF3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C0E7-215C-4355-A9AB-939A12A8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1E2F-0138-40DA-9DBF-812DB1D4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8292-ACDE-4F27-8FBC-4E13FADF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B0722-791F-490B-8EB1-E11510C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94EB-B579-42B2-9C0A-B691F7EB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3A8A-F5E0-40A9-9B3C-78A34AAF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4675D-FC9E-4155-8D7D-5D39ED7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C9A0-9B97-4F3E-833C-29255B8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8E05-D9D3-4827-9083-A4D879F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B499-B083-4EF2-8684-85B12E9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F602-B7D2-42FF-9050-F1DAEB2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0E17-042D-4829-ACD1-A5F01FA2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ED90-DE64-452D-AA77-31768DB0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E435C-4DC6-46E7-A3A9-C1B667E3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916F-3A59-43CD-BE72-B9CDBA7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8481-2166-40B3-AE02-25B1CFA0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D9C1-6BAC-49DB-B81A-286E7FB1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839AE-E06C-4B09-B3E5-100B07F2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FA2E-26EC-4DA5-836B-27BC525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CDEE-EABE-4F28-AD77-8EF5CD05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C8D6-D7C7-46DF-A621-0C0B630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2FC0-6800-46ED-9A1F-132E0EA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6DFE-F69F-4863-811E-87E8C2C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AE19-E3E4-4542-911E-48558F97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5F4C-BADA-4A2C-8424-17CE049E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2C50-01E0-4088-96B4-E7550533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48D45-6576-4775-82DE-64D45F71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410B-36AD-42FC-898E-2CDBE09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02CB-2BED-40BC-B933-EBEAFEB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914E-A632-49AD-8BD4-57C6BD9E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974B5-DBDF-48AB-A411-5AC100D0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0CA0-5625-442D-AEFB-0AF9596C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C1DB-CBE4-45DD-89D8-B342A390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4CBC-B480-49AA-ADE8-5638D89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A586-EF5F-4BE8-B41C-7DDDCB9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99EF1-3AF5-48C4-95F0-516FD8C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BB91D-E125-44E4-8FD6-4730F32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B571B-F6AA-4969-B462-B1CACBB8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70C3-C144-4E60-9A22-D2DE29F3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DECB-A5CB-449F-8340-83FC5A0A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92BC-1FBE-412F-B2E8-D48AD57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EEEA-3BCF-410F-B4AD-CFC47B11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4B7E-3306-4DD6-88C5-B3031C4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072B-76CC-4089-9E56-D901F93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DDC8-21FD-450E-8259-28CF7CE7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8A19-3369-4CE0-95FD-2556273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312B8-2505-47B9-835C-ACDB13E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CCE4B-B189-404F-9019-C59BA42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6BDD8-1522-401E-A933-C31ED92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42BA2-985B-49A1-9700-5CAFACC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5872-5CFC-4E95-95DF-5A4D5215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C62-6F40-4827-B17B-A6C5C5DB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589F-1177-4938-9310-A9CD8835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12C3-F34C-47F8-8252-AF05411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C4EA-44BE-45D9-8840-9A4A895A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1458-EFD1-446B-93B0-D4F4493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0E4C9-BF01-40DE-8EE3-AABE527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E7BC4-1A64-44E3-8B8B-85534888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4146-0C47-45EB-A49B-AACBD1FB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A1720-A1EE-42B5-8509-F3524FA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D5BC3-6152-47D0-B7A1-EBBE496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27704-B47A-4511-ABC2-0CC1AF6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ED9-6641-4337-8C35-20262FE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7BD37-66F7-485B-B4DA-13BC621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D66BA-6525-49D9-90B4-085936BE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6B23-8D31-4A4D-8531-17F11115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26DBF-0D5E-4A45-B0AF-D43422C0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BAF1A-A1AC-41BB-A685-10B59E8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6E1EE-744C-4F9A-8A58-F1F4A42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B9DEB-8A4C-4E93-9A97-37B6F9B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413AC-0D3B-45C1-AF6F-63FAF30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8DC17-FAB3-4D4C-8AEE-1E831F75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C28CC-A727-458A-A415-FF90C57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0B0-BE36-40A4-8EDF-0FCF6E1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DB8-06E5-4819-AEE7-A8726CB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2192B-6864-435F-A3AE-681031E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71D1C-A769-491F-B6FB-E9AE000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BF13F-3169-4DB4-AAB0-28D84FF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693E-9D6D-4E4D-8A0F-1BFB5984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2A30-0B5D-4A11-A6FF-0F347E3F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BB532-63A4-4DCF-B5BD-BC29D3B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5CA86-4830-4F12-8BA0-CC36C2C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F5E67-9316-4EDD-9AC9-257D7A9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70C4E-0B7D-4AA7-9D41-FF644A05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91626-092C-4644-9B82-7FEA37C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D41-3D66-40A9-BBC2-C0BD77F8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4D2AB-2E96-40DE-BFA6-0841119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1F44A-05F6-46F7-B63A-3873E9B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FC3B6-0B98-451F-B26C-1330945F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FA937-4B8A-4AB8-8172-8A78E331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6543-17F4-483D-8A05-5A11FEFA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EADCF-2A3A-470C-ACF8-A52AF0ED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9A304-1339-4AAB-B0FB-DE9B78DD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270A1-E6F3-4D0F-B719-0DA50A95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53BEA-517A-4932-B1C6-B78A2CF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E8DB5-8C8D-4A51-B3FD-0DC9734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9ED8-0EF2-4E7F-A8B5-770896E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B6399-CCB2-432F-BB42-A5CBB47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2BE70-BEBF-4BEE-B482-02D6369A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20B38-6FF5-468B-ADC4-F56496A0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297DE-43DD-4FAE-9436-EB462F0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6EEF9-377B-4ACB-A0A9-E1214E8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99499-65B2-4B28-A01B-9C9F539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1DF13-2979-41A3-BD5A-FD41B1E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B236B-63F6-468C-BED4-A7DC1693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D29B7-2C31-4B92-A5E6-A3560DCD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E8199-0C7A-4A98-9B07-A48E9F73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D287-C087-45F3-A383-1DF38107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3403B-73CD-402E-8B15-05660171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9839F-03AD-4B7C-A38A-B55713F5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A7C44-AAA9-4B89-B37D-ACD937D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3A7EA-970B-4E1D-BBFE-F5A94C23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F208D-5DB2-4178-9296-E18A3BF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0A49C-5B73-4350-B5A4-0835C1AE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8705A-1969-47B0-A180-4E1E52F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0B899-7109-4C46-ACBC-69872C6A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C6DA2-4DE8-4D28-8310-79BF457E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0268D-C523-4AB6-A038-37D11861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BA1A-C820-45AB-BA3C-ADF5FEC0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932C1-38A3-4831-80DA-A633ACAC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768-72A2-4896-B789-1701AE8C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653-2F69-4749-8BD8-B33702BF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939-E344-4F1B-BD10-2A88663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BD1-1704-4FEE-8680-A16E536C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7FC-9441-4760-90DD-5789CDC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97B-E1AD-4D8C-9FC4-E2162936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758-D3C0-422E-ADFE-847814B2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5849-0ABF-473B-9AEE-96AC738192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B400-341B-45C0-9358-88C6918F528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3F0B-DFE3-4938-9D37-7936A513A51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6CB8-92BF-49B2-97C6-21904FABB0B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8C5-83D9-496A-8EA9-1681F3CB093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02F-F4F3-47B0-AF1C-3EB05B33E4D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52F1-FEDF-4C32-B8B5-ECE6060C9EB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1FC-57E7-4BF8-A595-EDAAE79D87D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0EC-3FC4-4CB0-AFF2-DACBC1EDB26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194-0198-4B55-B9ED-2E2DE52EB8D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696-FCEF-4C14-9940-85C297B211B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3BB1-667C-4BE4-A77D-3DF46D0981B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43A-EDAC-4254-A96F-6B9953D0427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 rot="21297000">
            <a:off x="3001680" y="3149640"/>
            <a:ext cx="5209920" cy="27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mbria"/>
              </a:rPr>
              <a:t>Урок обучения грамоте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1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18"/>
          <p:cNvSpPr/>
          <p:nvPr/>
        </p:nvSpPr>
        <p:spPr>
          <a:xfrm>
            <a:off x="2000160" y="3571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азовите тему нашего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19"/>
          <p:cNvSpPr/>
          <p:nvPr/>
        </p:nvSpPr>
        <p:spPr>
          <a:xfrm>
            <a:off x="1643040" y="15001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акие были ваши це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0"/>
          <p:cNvSpPr/>
          <p:nvPr/>
        </p:nvSpPr>
        <p:spPr>
          <a:xfrm>
            <a:off x="1500120" y="264312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остигли ли вы этих це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1"/>
          <p:cNvSpPr/>
          <p:nvPr/>
        </p:nvSpPr>
        <p:spPr>
          <a:xfrm>
            <a:off x="1285920" y="385776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узнали о букве  «и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2"/>
          <p:cNvSpPr/>
          <p:nvPr/>
        </p:nvSpPr>
        <p:spPr>
          <a:xfrm>
            <a:off x="1143000" y="51436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озникали ли трудности? Как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4" descr=""/>
          <p:cNvPicPr/>
          <p:nvPr/>
        </p:nvPicPr>
        <p:blipFill>
          <a:blip r:embed="rId2"/>
          <a:stretch/>
        </p:blipFill>
        <p:spPr>
          <a:xfrm>
            <a:off x="8604360" y="0"/>
            <a:ext cx="620640" cy="6858000"/>
          </a:xfrm>
          <a:prstGeom prst="rect">
            <a:avLst/>
          </a:prstGeom>
          <a:ln w="0">
            <a:noFill/>
          </a:ln>
        </p:spPr>
      </p:pic>
      <p:pic>
        <p:nvPicPr>
          <p:cNvPr id="807" name="TextBox 22" descr=""/>
          <p:cNvPicPr/>
          <p:nvPr/>
        </p:nvPicPr>
        <p:blipFill>
          <a:blip r:embed="rId3"/>
          <a:stretch/>
        </p:blipFill>
        <p:spPr>
          <a:xfrm>
            <a:off x="706320" y="-133200"/>
            <a:ext cx="7656480" cy="2309760"/>
          </a:xfrm>
          <a:prstGeom prst="rect">
            <a:avLst/>
          </a:prstGeom>
          <a:ln w="0">
            <a:noFill/>
          </a:ln>
        </p:spPr>
      </p:pic>
      <p:cxnSp>
        <p:nvCxnSpPr>
          <p:cNvPr id="808" name="Прямая со стрелкой 24"/>
          <p:cNvCxnSpPr/>
          <p:nvPr/>
        </p:nvCxnSpPr>
        <p:spPr>
          <a:xfrm flipH="1">
            <a:off x="1785600" y="1500120"/>
            <a:ext cx="7149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9" name="TextBox 25"/>
          <p:cNvSpPr/>
          <p:nvPr/>
        </p:nvSpPr>
        <p:spPr>
          <a:xfrm>
            <a:off x="285840" y="1857240"/>
            <a:ext cx="38574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ознакомились с буквой «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0" name="Прямая со стрелкой 28"/>
          <p:cNvCxnSpPr/>
          <p:nvPr/>
        </p:nvCxnSpPr>
        <p:spPr>
          <a:xfrm>
            <a:off x="5285880" y="1500120"/>
            <a:ext cx="7153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1" name="TextBox 31"/>
          <p:cNvSpPr/>
          <p:nvPr/>
        </p:nvSpPr>
        <p:spPr>
          <a:xfrm>
            <a:off x="4286160" y="1857240"/>
            <a:ext cx="45720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ознакомились со звукам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 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’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Прямая со стрелкой 33"/>
          <p:cNvCxnSpPr/>
          <p:nvPr/>
        </p:nvCxnSpPr>
        <p:spPr>
          <a:xfrm flipH="1">
            <a:off x="1999440" y="321480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3" name="TextBox 34"/>
          <p:cNvSpPr/>
          <p:nvPr/>
        </p:nvSpPr>
        <p:spPr>
          <a:xfrm>
            <a:off x="285840" y="3643200"/>
            <a:ext cx="38574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два разных зв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4" name="Прямая со стрелкой 38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5" name="TextBox 39"/>
          <p:cNvSpPr/>
          <p:nvPr/>
        </p:nvSpPr>
        <p:spPr>
          <a:xfrm>
            <a:off x="357120" y="5357880"/>
            <a:ext cx="821556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парные по твердости – мягкости зву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785960" y="28584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тя был ма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н траву мя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видела мать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е велела траву мят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1285920" y="43578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л, мял, мать, мя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836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836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"/>
          <p:cNvPicPr/>
          <p:nvPr/>
        </p:nvPicPr>
        <p:blipFill>
          <a:blip r:embed="rId3"/>
          <a:stretch/>
        </p:blipFill>
        <p:spPr>
          <a:xfrm>
            <a:off x="0" y="6021360"/>
            <a:ext cx="4643280" cy="836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"/>
          <p:cNvPicPr/>
          <p:nvPr/>
        </p:nvPicPr>
        <p:blipFill>
          <a:blip r:embed="rId4"/>
          <a:stretch/>
        </p:blipFill>
        <p:spPr>
          <a:xfrm>
            <a:off x="4572000" y="6021360"/>
            <a:ext cx="4572000" cy="8366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ЗНАКОМТСВО СО …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УЧИТЬСЯ ОТЛИЧ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ПРЕДЕЛЯТЬ РАБОТУ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Прямоугольник 10" descr=""/>
          <p:cNvPicPr/>
          <p:nvPr/>
        </p:nvPicPr>
        <p:blipFill>
          <a:blip r:embed="rId5"/>
          <a:stretch/>
        </p:blipFill>
        <p:spPr>
          <a:xfrm>
            <a:off x="1279440" y="579600"/>
            <a:ext cx="670104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Прямоугольник 12" descr=""/>
          <p:cNvPicPr/>
          <p:nvPr/>
        </p:nvPicPr>
        <p:blipFill>
          <a:blip r:embed="rId1"/>
          <a:stretch/>
        </p:blipFill>
        <p:spPr>
          <a:xfrm>
            <a:off x="1925640" y="-66600"/>
            <a:ext cx="4359240" cy="111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 txBox="1"/>
          <p:nvPr/>
        </p:nvSpPr>
        <p:spPr>
          <a:xfrm>
            <a:off x="457200" y="1604880"/>
            <a:ext cx="857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должить знакомство со звуками [ м ]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буквой, которая их обознача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ься отличать  звуки  [ м ]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букву М м от других звуков и бук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иться определять работу гласных бук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C:\Users\user\AppData\Local\Microsoft\Windows\Temporary Internet Files\Content.IE5\M5RREJ7Q\MC900383600[1].wmf"/>
          <p:cNvPicPr/>
          <p:nvPr/>
        </p:nvPicPr>
        <p:blipFill>
          <a:blip r:embed="rId2"/>
          <a:stretch/>
        </p:blipFill>
        <p:spPr>
          <a:xfrm>
            <a:off x="6500880" y="285840"/>
            <a:ext cx="21128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Box 15"/>
          <p:cNvSpPr/>
          <p:nvPr/>
        </p:nvSpPr>
        <p:spPr>
          <a:xfrm>
            <a:off x="2000160" y="714240"/>
            <a:ext cx="5572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ш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ум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т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Группа 1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pic>
          <p:nvPicPr>
            <p:cNvPr id="829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464328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7" descr=""/>
            <p:cNvPicPr/>
            <p:nvPr/>
          </p:nvPicPr>
          <p:blipFill>
            <a:blip r:embed="rId2"/>
            <a:stretch/>
          </p:blipFill>
          <p:spPr>
            <a:xfrm>
              <a:off x="4572000" y="6308640"/>
              <a:ext cx="4572000" cy="54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Picture 2" descr=""/>
          <p:cNvPicPr/>
          <p:nvPr/>
        </p:nvPicPr>
        <p:blipFill>
          <a:blip r:embed="rId3"/>
          <a:stretch/>
        </p:blipFill>
        <p:spPr>
          <a:xfrm>
            <a:off x="0" y="-22320"/>
            <a:ext cx="9144000" cy="426960"/>
          </a:xfrm>
          <a:prstGeom prst="rect">
            <a:avLst/>
          </a:prstGeom>
          <a:ln w="0">
            <a:noFill/>
          </a:ln>
        </p:spPr>
      </p:pic>
      <p:sp>
        <p:nvSpPr>
          <p:cNvPr id="832" name="Овал 21"/>
          <p:cNvSpPr/>
          <p:nvPr/>
        </p:nvSpPr>
        <p:spPr>
          <a:xfrm>
            <a:off x="214200" y="571680"/>
            <a:ext cx="107172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Прямоугольник 22"/>
          <p:cNvSpPr/>
          <p:nvPr/>
        </p:nvSpPr>
        <p:spPr>
          <a:xfrm>
            <a:off x="150012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Овал 23"/>
          <p:cNvSpPr/>
          <p:nvPr/>
        </p:nvSpPr>
        <p:spPr>
          <a:xfrm>
            <a:off x="7786800" y="571680"/>
            <a:ext cx="107136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Овал 24"/>
          <p:cNvSpPr/>
          <p:nvPr/>
        </p:nvSpPr>
        <p:spPr>
          <a:xfrm>
            <a:off x="4000680" y="571680"/>
            <a:ext cx="107136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Прямоугольник 25"/>
          <p:cNvSpPr/>
          <p:nvPr/>
        </p:nvSpPr>
        <p:spPr>
          <a:xfrm>
            <a:off x="657216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Прямоугольник 26"/>
          <p:cNvSpPr/>
          <p:nvPr/>
        </p:nvSpPr>
        <p:spPr>
          <a:xfrm>
            <a:off x="278604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Левая круглая скобка 27"/>
          <p:cNvSpPr/>
          <p:nvPr/>
        </p:nvSpPr>
        <p:spPr>
          <a:xfrm rot="16200000">
            <a:off x="1249920" y="1178280"/>
            <a:ext cx="142920" cy="107136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1071360"/>
              <a:gd name="textAreaBottom" fmla="*/ 106560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Левая круглая скобка 28"/>
          <p:cNvSpPr/>
          <p:nvPr/>
        </p:nvSpPr>
        <p:spPr>
          <a:xfrm rot="16200000">
            <a:off x="7608240" y="1250280"/>
            <a:ext cx="142560" cy="1071360"/>
          </a:xfrm>
          <a:custGeom>
            <a:avLst/>
            <a:gdLst>
              <a:gd name="textAreaLeft" fmla="*/ 41760 w 142560"/>
              <a:gd name="textAreaRight" fmla="*/ 142920 w 142560"/>
              <a:gd name="textAreaTop" fmla="*/ 5760 h 1071360"/>
              <a:gd name="textAreaBottom" fmla="*/ 106560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Левая круглая скобка 29"/>
          <p:cNvSpPr/>
          <p:nvPr/>
        </p:nvSpPr>
        <p:spPr>
          <a:xfrm rot="16200000">
            <a:off x="3893400" y="1249920"/>
            <a:ext cx="142560" cy="1071720"/>
          </a:xfrm>
          <a:custGeom>
            <a:avLst/>
            <a:gdLst>
              <a:gd name="textAreaLeft" fmla="*/ 41760 w 142560"/>
              <a:gd name="textAreaRight" fmla="*/ 142920 w 142560"/>
              <a:gd name="textAreaTop" fmla="*/ 5760 h 1071720"/>
              <a:gd name="textAreaBottom" fmla="*/ 106596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30"/>
          <p:cNvSpPr/>
          <p:nvPr/>
        </p:nvSpPr>
        <p:spPr>
          <a:xfrm>
            <a:off x="1571760" y="642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6429240" y="5716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’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857160" y="1785960"/>
            <a:ext cx="17859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м                 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м                 э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ым                  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33"/>
          <p:cNvSpPr/>
          <p:nvPr/>
        </p:nvSpPr>
        <p:spPr>
          <a:xfrm>
            <a:off x="3429000" y="1785960"/>
            <a:ext cx="128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34"/>
          <p:cNvSpPr/>
          <p:nvPr/>
        </p:nvSpPr>
        <p:spPr>
          <a:xfrm>
            <a:off x="7286760" y="235728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4"/>
          <p:cNvSpPr/>
          <p:nvPr/>
        </p:nvSpPr>
        <p:spPr>
          <a:xfrm>
            <a:off x="3786120" y="-642960"/>
            <a:ext cx="178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7" name="Прямая со стрелкой 6"/>
          <p:cNvCxnSpPr/>
          <p:nvPr/>
        </p:nvCxnSpPr>
        <p:spPr>
          <a:xfrm flipH="1">
            <a:off x="2499840" y="1571760"/>
            <a:ext cx="121536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8" name="TextBox 7"/>
          <p:cNvSpPr/>
          <p:nvPr/>
        </p:nvSpPr>
        <p:spPr>
          <a:xfrm>
            <a:off x="1357200" y="300024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Прямая со стрелкой 10"/>
          <p:cNvCxnSpPr/>
          <p:nvPr/>
        </p:nvCxnSpPr>
        <p:spPr>
          <a:xfrm>
            <a:off x="5143320" y="1571400"/>
            <a:ext cx="12150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0" name="TextBox 12"/>
          <p:cNvSpPr/>
          <p:nvPr/>
        </p:nvSpPr>
        <p:spPr>
          <a:xfrm>
            <a:off x="4929120" y="292896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мягкость согласног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5"/>
          <p:cNvSpPr/>
          <p:nvPr/>
        </p:nvSpPr>
        <p:spPr>
          <a:xfrm>
            <a:off x="1571760" y="128592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ма мыла Милу мыл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ла мыло не любил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21:45:48Z</dcterms:created>
  <dc:creator>Драма</dc:creator>
  <dc:description/>
  <dc:language>en-US</dc:language>
  <cp:lastModifiedBy>Пользователь</cp:lastModifiedBy>
  <dcterms:modified xsi:type="dcterms:W3CDTF">2015-10-11T19:40:17Z</dcterms:modified>
  <cp:revision>136</cp:revision>
  <dc:subject/>
  <dc:title>Набираемся житейской мудрости.  Эзоп «Рыбак и рыбешка»,  «Соловей и ястреб».</dc:title>
</cp:coreProperties>
</file>