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17E-0CD7-45F3-8BEC-D4277CCE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8C5-B2F2-40F8-8586-455773B0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AC3-D66F-4481-9E0E-3A32DFEE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11C-B11F-4EBA-B5D9-F1D6A190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C4B-4330-484B-905A-715C3B2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9F8-DB05-415B-B050-F511CC84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710-2814-461E-9D15-1C4B26F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52B-4041-4E0E-9531-EFAA0F16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BDA-5F05-418B-AA9C-8900EEF5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488-A4FF-43FA-8C42-EE995C3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3C4-F9B3-4A54-BBEB-63DBC67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D02-AB35-4685-8ECE-D391161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3F6D-F134-4678-908C-36367FFD7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Дорогая моя столиц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Золотая моя Моск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30360" y="1600200"/>
            <a:ext cx="608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006560"/>
            <a:ext cx="68259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1201680"/>
            <a:ext cx="76960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171440"/>
            <a:ext cx="76960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041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кольный театр Образ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58960"/>
            <a:ext cx="746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4240" y="1143000"/>
            <a:ext cx="431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942840"/>
            <a:ext cx="731520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язь Юрий Долгору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19920" cy="401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10400" y="613260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тель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атр зве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11924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0773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6868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38188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071720"/>
            <a:ext cx="82296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46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8520" y="304920"/>
            <a:ext cx="39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чего начиналась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772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473120"/>
            <a:ext cx="8001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к Куск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271520"/>
            <a:ext cx="7696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131840"/>
            <a:ext cx="792468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171440"/>
            <a:ext cx="80769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841320"/>
            <a:ext cx="82296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ременные здания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971640"/>
            <a:ext cx="80769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нтаны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817560"/>
            <a:ext cx="84582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08160"/>
            <a:ext cx="79250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окаменная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ая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сная 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9840" y="1600200"/>
            <a:ext cx="720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арь - кол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8080" y="2004840"/>
            <a:ext cx="4047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арь - п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6-04-25T13:32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