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2629-4DBE-4195-9CCE-B2162D51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CE2E-0349-4D33-989F-8B942B5A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8C21-7B15-4BDE-835F-243E9FB3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0C85-4E8E-490E-8A0B-C70EDDA1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4C00-3BEF-41B5-B3F7-D7A43720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863D-2D4D-497A-999B-2994F7D1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1D10-6030-4121-A8DC-0E1F5D05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8655-6E4F-4BC7-9BF2-820D5DD7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8606-AF4C-45D9-953A-EFD0F8A2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F069-E624-425F-A1C2-20946EDA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A7B1-0225-47AC-892A-E3C3D5CE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055A-0027-461A-9034-CDEB5360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5000-B103-4CCC-A67C-129735337C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Дорогая моя столиц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Золотая моя Москв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30360" y="1600200"/>
            <a:ext cx="608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55920" y="1600200"/>
            <a:ext cx="603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1006560"/>
            <a:ext cx="682596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693432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3520" y="1201680"/>
            <a:ext cx="769608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ольшой теа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1171440"/>
            <a:ext cx="769608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79041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кольный театр Образц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858960"/>
            <a:ext cx="74674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24240" y="1143000"/>
            <a:ext cx="4317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942840"/>
            <a:ext cx="731520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нязь Юрий Долгору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6019920" cy="4012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10400" y="6132600"/>
            <a:ext cx="23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нователь Моск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атр звер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90720" y="1119240"/>
            <a:ext cx="7238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6104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2012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74678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077320" cy="53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30592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6868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8381880" cy="53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3520" y="1071720"/>
            <a:ext cx="822960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82240" cy="4468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8520" y="304920"/>
            <a:ext cx="39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чего начиналась Моск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888840"/>
            <a:ext cx="777240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1473120"/>
            <a:ext cx="800100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рк Куск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1271520"/>
            <a:ext cx="769608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1131840"/>
            <a:ext cx="7924680" cy="52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520" y="1171440"/>
            <a:ext cx="80769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9480" y="841320"/>
            <a:ext cx="8229600" cy="54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временные здания Моск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971640"/>
            <a:ext cx="807696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Фонтаны Моск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817560"/>
            <a:ext cx="84582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1208160"/>
            <a:ext cx="792504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елокаменная Моск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859040"/>
            <a:ext cx="82296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временная Моск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7560" y="1600200"/>
            <a:ext cx="8047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расная площ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69840" y="1600200"/>
            <a:ext cx="7202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арь - колок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48080" y="2004840"/>
            <a:ext cx="40478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арь - пуш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52680" y="1600200"/>
            <a:ext cx="6037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рический муз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6-04-25T13:32:3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